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BBEA7-BC05-4BCF-9F14-6A9226A12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BD976-719D-43C6-9ECE-A40E6D46F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5B7C-D3C6-473A-9B36-5F6604145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5266C-335A-4F90-AFF5-FA484FBE6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C6FDE-0331-40C3-A650-EEF7706A29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5A008-CDF6-4507-9A7F-C7ACBFCD6E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EE23B-8216-4745-A79F-E60A5A5727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DC0D0-B332-45BB-A22A-4BFEC452A2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0495C-47C3-4AC0-92DC-C6F1218A65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24E35-D639-4150-A0B3-CD6332214C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AA213-E597-4445-8EFE-FE86F0A9D0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A6102-4301-4263-950E-A88C1DC6F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8E59F-041A-486B-AE23-DE684AF652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1B60A-D217-4C6E-8937-FE246D4374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6992E-F884-4A21-A63D-625E861CF3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FA8D5-A0F5-472A-A4A9-7381E9A820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48428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42800"/>
            <a:ext cx="264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6C0C9-0169-42DA-8288-AF4432ED05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5FBB9-70D1-44F5-B692-17C6E77B7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9D99-6CB7-4993-A6EB-BD560D2DC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D6F51-79B2-411E-ABD2-AFEA70540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2110-B213-4E2F-92CA-C690517D9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4FA41-7F1A-4C63-8D2A-30EEBA6CE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4280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8AA2A-DF69-49DB-B6F3-726C80D6A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4280"/>
            <a:ext cx="40158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42800"/>
            <a:ext cx="82296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572C7-359D-44D9-8B87-F0D8EA202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601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0D4F-567C-4312-9267-F293BA717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0" y="6381360"/>
            <a:ext cx="6019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DCBD-A3FE-4FFD-9358-48B71BDE3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Unit 27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inciples of Computer Network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ion to Net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93B91-7292-4A22-AB55-3D62C86D212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ion into what will be covered in this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what a network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the purpose of a computer net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B812-5400-41B9-BF41-C92DE05A89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 This Unit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 of Network Systems and related stand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 of a Network, Types of network (WANS, LANS etc), Network protocols and standards, Application layer protoc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rdware and Software used in Networ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ing devices, Interconnection devices, Connectors and cabling, Software, Commercial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35D93-F628-41F1-B6DB-25A5708B9F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n This Unit (cont)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s provided by network syst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ory services, Telecommunication services, File services, Application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ed systems’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related business issues, Securing data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AED2-7E64-4DA5-9724-709040053C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iv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mall groups, research the following and report back to the clas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a “Network”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hink outside the box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purpose of a network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list all purposes; list those for a computer network separatel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6021360"/>
            <a:ext cx="673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493560" indent="-4935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Have Do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263C-F25E-4F72-B908-516DCA7EBF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ed what will be covered in this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ed what a Network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ed the purpose of a computer net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TEC Nat Bus - Principles of Network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C53E8-BE27-4CC6-B9B2-5D9655D224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2:34:30Z</dcterms:created>
  <dc:creator>brendan.coulson</dc:creator>
  <dc:description/>
  <dc:language>en-US</dc:language>
  <cp:lastModifiedBy>annelise.arnold</cp:lastModifiedBy>
  <dcterms:modified xsi:type="dcterms:W3CDTF">2009-09-14T14:40:29Z</dcterms:modified>
  <cp:revision>25</cp:revision>
  <dc:subject/>
  <dc:title>Computer Platforms Week 1</dc:title>
</cp:coreProperties>
</file>