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630E-C0D0-4F38-9BA7-64F5FB8B9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4E51-FE15-45E8-BF67-5BE6F33AB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A1FC-8916-474B-9683-AFD8D49AB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B052-BAF2-4C8F-A3C5-98AA418E0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BC1CD-9004-4FA9-B934-24F2D0526D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A94C4-1266-497E-AFD2-3C12875179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8C434-ACE6-495B-9259-A64F919BD7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0A60A-B4BD-4742-B4EA-990CB629F5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902A7-CC77-4EBB-83A9-92C0F99EC3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54CBA-4289-49C7-9065-96A2FE1AC4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14531-D2BF-4C93-96ED-223B7B099C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2534-3668-4A05-94BA-ABF79EEFB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B5D2C-61B8-4582-95A6-2B594F1423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F610E-C037-4EF1-BDAC-4FB17D5D0E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9E09E-1424-4C98-94ED-2A23335F50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C17F0-E3E9-4E36-BDC2-AA7FF15FF5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001C7-1A4F-43BC-B670-AA4F7084A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60533-B936-466F-A2B5-B01D1C0D8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A246-62D2-44F0-A7AF-74A778B8C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8CD6-0FC6-4DFC-B961-B817D3905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2D28-6DAA-4DA2-8733-A03A0DC9B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2F034-4A2F-44B2-8562-4EB8B4E28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31CE-E263-40D9-93BE-CE86E7080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83C3-C416-4E3C-AAC3-D54187824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2567-AC2F-4EC8-8095-046CCDFB5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0" y="638136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DEB2-5098-4DED-8B86-378553EB4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nit 27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inciples of Computer Network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ion to Net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70553-AFD5-40F3-AF81-A7067771BAE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 into what will be covered in this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what a network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e purpose of a computer ne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4C01-6F94-4EB7-BF2D-0906BA5682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This Unit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of Network Systems and related stand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a Network, Types of network (WANS, LANS etc), Network protocols and standards, Application layer protoc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ware and Software used in Networ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ing devices, Interconnection devices, Connectors and cabling, Software, Commercial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8947-5A6C-48EF-B304-442FF4759A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This Unit (cont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provided by network 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ory services, Telecommunication services, File services, Applicatio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ed systems’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related business issues, Securing data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01CC-7BD2-4A7F-AE82-E540FC0CC2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v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mall groups, research the following and report back to the cla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“Network”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hink outside the bo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urpose of a network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list all purposes; list those for a computer network separate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6021360"/>
            <a:ext cx="673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ave Do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5B65-7424-4110-B1DC-EAD86D1457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ed what will be covered in this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ed what a Network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ed the purpose of a computer ne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B33F-724B-4EA4-9A4A-0478D04325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09-14T14:40:29Z</dcterms:modified>
  <cp:revision>25</cp:revision>
  <dc:subject/>
  <dc:title>Computer Platforms Week 1</dc:title>
</cp:coreProperties>
</file>