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2EA98-7373-4184-A1B1-B0DE239158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4280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0FE26-3F00-46BE-8B89-15D385B14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09E4B-37AF-44DA-A8B7-4CC8A61405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4280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4280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4280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459A4-82E0-4093-BE59-144C81592F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B5FE7-3D2C-4A64-9B06-EE176A8397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623EE-2CD1-4402-B584-54D93EA0A2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6BFB2-87E1-401C-85A1-8221C433DE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D2ED5-6889-4037-9DC0-99CAEB853B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070CC-08A0-4611-9F7A-C8C035251D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8900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60853-22DC-4332-BA00-6812D453A9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8AD0B-1423-4738-8EB1-47A5D376A6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FA6C2-8012-4B5F-8F57-C3CB7CEF95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B6088-8B9A-48A9-AC87-0B9B546A02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4280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73F83-F414-4541-8537-836721728D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04280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BCA5A-EA3D-453A-93EE-94C5128989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A3DC3-4F8A-4FE2-B7E1-C38222E16A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04280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04280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04280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3EE5F-436D-4202-8E33-0DE0899E12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3D85D-648E-4B01-9E7C-C0F11427FA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AD47E-D171-4C32-B6CF-F1FA14C3C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F5641-0E62-4692-831E-6FDE20F2F9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18900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B1EC7-79CE-4DFB-AF15-EAA7CCB64D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930E8-B768-42BF-8D5B-7B6DF7A882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2ED0C-391F-43A5-B1BD-8D828D5E00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4280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BD66A-C294-4FB9-8D40-AA36A54E54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381360"/>
            <a:ext cx="6019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5417-DB76-4BAB-9724-03086DAAF8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0" y="6381360"/>
            <a:ext cx="6019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E4D8-7227-4766-AEB2-DF07C1B16B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Unit 27: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inciples of Computer Network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t Introd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oduction to Networ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BTEC Nat Bus - Principles of Network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1EF55-739C-4FA1-9FE8-DF15485F8BF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i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ion into what will be covered in this Un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 what a network 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 the purpose of a computer net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EC Nat Bus - Principles of Network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7EAAD-F12E-4474-9D38-D4685D790B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n This Unit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s of Network Systems and related standa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 of a Network, Types of network (WANS, LANS etc), Network protocols and standards, Application layer protoco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rdware and Software used in Networ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tworking devices, Interconnection devices, Connectors and cabling, Software, Commercial syst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EC Nat Bus - Principles of Network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0DDB9-847D-45C7-AAC7-976099CD3C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n This Unit (cont)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ices provided by network system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rectory services, Telecommunication services, File services, Application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tworked systems’ 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k related business issues, Securing data,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EC Nat Bus - Principles of Network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5A528-5EAA-4FBB-BAEB-E1C9B75A97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tiv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small groups, research the following and report back to the clas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a “Network”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think outside the bo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purpose of a network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list all purposes; list those for a computer network separatel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6021360"/>
            <a:ext cx="673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493560" indent="-493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ave Do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EC Nat Bus - Principles of Network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26A1D-279F-469B-9ED4-06FCD6A5A8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ed what will be covered in this Un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ed what a Network 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idered the purpose of a computer net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EC Nat Bus - Principles of Network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56484-3868-4A73-92FB-26C1473AEE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annelise.arnold</cp:lastModifiedBy>
  <dcterms:modified xsi:type="dcterms:W3CDTF">2009-09-14T14:40:29Z</dcterms:modified>
  <cp:revision>25</cp:revision>
  <dc:subject/>
  <dc:title>Computer Platforms Week 1</dc:title>
</cp:coreProperties>
</file>