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9061-2C33-44AF-9647-B02D948A3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D25F7-5D9F-4E5C-8B18-BD2148D48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FB30-942E-4FCF-AFA4-363705FE6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C54A-B111-4825-8E40-B7325B989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EDC67-61A4-41A6-B1B5-85F1648F01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97FD7-8C02-49F2-AC9F-3132A9DC2A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4074D-4F51-4C44-81C5-B8F81C6D2A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BE5EA-7EC0-45A1-A704-D0E8DBC89F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F1616-1EE2-442D-88AA-1CDC536764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12E6D-4B1A-4E6B-9192-752C1220B0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68122-A3FE-4DC6-9BCC-8CEDB77471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300F-E095-4184-A562-0BA027A5C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A63E0-0BEC-458E-B4C1-4BB4C50D18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51B82-F92F-43BF-887F-FA712438F3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F31E7-9028-401F-8BAA-00F8D5EE50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12499-2D69-4A60-8193-5B5CEB3D4F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0074A-BDF1-4BDA-9FD8-99A055C9AE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934B-6878-4DAC-83D3-D6449CDD5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6F66-90CF-4044-BC55-E4E1F58A0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11DB-4A51-4CF8-8AD8-660DCADC2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BF72-CAF7-4071-89F6-14FAA7F2B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CD2A-4B1D-4084-8FA6-ABC8AFD79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E9C0-DB40-40B6-9E3C-5CBC64D58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CD41-1E76-4F88-A203-83D4C151A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67B0-5958-45F2-83F9-34B4EDED4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655C-27E4-47A4-B71C-D65A8D77D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nit 27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inciples of Computer Network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ion to Net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9820F-3777-4749-8955-3EC3014F728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into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3911-7558-4C54-9794-0FD5D95260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Network Systems and related stand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a Network, Types of network (WANS, LANS etc), Network protocols and standards, Application layer protoc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ware and Software used in Networ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ing devices, Interconnection devices, Connectors and cabling, Software, Commercial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6C97C-F815-4F18-BE9D-CD29A24982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 (cont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provided by network 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ory services, Telecommunication services, File services, Applicatio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systems’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related business issues, Securing data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2587-8076-4B8C-9614-8378B06B25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mall groups, research the following and report back to the cla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“Network”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ink outside the bo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urpose of a network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list all purposes; list those for a computer network separate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6021360"/>
            <a:ext cx="673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ave Do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7457-6B55-43C2-BABA-D18E791575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e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5BDF-93C7-4C0D-AE99-DED7358CC3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09-14T14:40:29Z</dcterms:modified>
  <cp:revision>25</cp:revision>
  <dc:subject/>
  <dc:title>Computer Platforms Week 1</dc:title>
</cp:coreProperties>
</file>