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851D-6376-44B7-8E63-958E39DEB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112E-227F-4816-AB65-C12B75DA4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6E60-4D76-4F20-B951-CEEE40C25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46DD-BC7D-464C-99A0-25D6E0F5C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C931B-A933-4E6B-81AA-2E8EF12B89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3F963-A634-4BDA-8110-BBF75205EA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3B6CB-46EA-4200-8159-8735C41DE7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77985-EDC2-4C1A-AE98-7A66CFE150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78275-0B13-4D9B-9A54-B2064318D9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D7E3D-7D27-4E07-BE9E-BAFA48DEAD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60FBF-8929-4529-BB9B-D7F65424AB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15DED-7645-4970-A942-B52262EBE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2EA07-37DF-4CA7-A070-5F5B9B4183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FCF1C-D33D-44B3-AD3D-76B52767D1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8F411-5C51-46A1-9DFB-B075E13398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4084A-0B11-4A39-B419-345D9301AA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F5B8A-51ED-4F33-BFB1-81A46BD13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71C02-0883-4101-9D81-42CDC6046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BD4D-FADD-4C77-AE7A-854AB0E82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A1A9B-FEEF-4C21-AC13-F6D2401AC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0F21-904E-4C1A-ACCE-812512911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7F27-3270-4CC4-AF87-6F4A91A27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4F08-428F-4BBA-87BC-6D527D076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FBAA-2EA6-41E3-B98A-78E1866B0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BC1F-0BA4-41DA-AA5D-A3B2982CC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0" y="638136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9330-6BB4-4F33-B536-3F66196FB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nit 27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inciples of Computer Network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ion to Net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FF474-7C19-48C2-83FF-B810378E46E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 into what will be covered in this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what a network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e purpose of a computer ne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E03D-BCE5-4B3D-AE99-27DF23272C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This Unit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of Network Systems and related stand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a Network, Types of network (WANS, LANS etc), Network protocols and standards, Application layer protoc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ware and Software used in Networ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ing devices, Interconnection devices, Connectors and cabling, Software, Commercial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CDA9-5A19-471B-93F0-DB96672B20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This Unit (cont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provided by network 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ory services, Telecommunication services, File services, Applicatio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ed systems’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related business issues, Securing data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8524-6502-49D8-B7AE-035E0BAFCC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v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mall groups, research the following and report back to the cla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“Network”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hink outside the bo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urpose of a network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list all purposes; list those for a computer network separate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6021360"/>
            <a:ext cx="673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ave Do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F50B7-FD6A-49F0-B3CE-BF9BC140E0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ed what will be covered in this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ed what a Network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ed the purpose of a computer ne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97AC-C60C-46CF-9F27-6DBFE4E89A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09-14T14:40:29Z</dcterms:modified>
  <cp:revision>25</cp:revision>
  <dc:subject/>
  <dc:title>Computer Platforms Week 1</dc:title>
</cp:coreProperties>
</file>