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809A-9239-4C77-A55E-7060960DF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B616-33E6-4B14-9216-00A996F94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9077-6B6C-4785-907D-1CD052281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49EB-D3F3-4C2B-9B30-D0C7B9B8F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B1ED5-39F6-49D6-942D-0D3C2044F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85678-818B-420F-A18D-706A7F77F4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45DA6-EA7C-4712-A092-2B417ED1AA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2C247-2F95-4AE7-970A-B5E238F246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5577B-19EB-4EE6-A529-96F802CD2E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623EF-6F5A-4A7D-954E-1A025B736E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74CC0-A3DB-4DBE-9873-158B6A32C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547B-D502-4CAE-8906-F28BECD02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71484-9AEB-4C48-AC69-B450EB5132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9F5E4-45AF-4FB3-924C-3352563C14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12F65-3EF0-4C3F-BCC3-BAB9CDE9A8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C748A-39C1-487E-8286-884A070D5E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F72E3-6BC6-4677-B70B-3D2196F51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70D4-BFBE-4FD1-B613-AF3FAADA5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14FF-D56E-4E01-A2F2-E82A96A0E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5D4A-E740-485F-9CED-C5CBE91EF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D05F-5BC1-4558-9274-1DF60CD5A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109A-2138-4C20-8DC1-B2488340D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509E-3DA7-438F-B9C9-11E17070E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5908-E63B-4D57-B09E-916105B66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6859-0FD8-43AC-AB5E-3902D95D2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CF58-90D4-40A8-945C-AF84D3336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it 27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inciples of Computer Network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 to Net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B5FA5-0AF6-4264-8DA1-027410674F4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into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6BED-9176-4CFC-A831-7587D0A303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Network Systems and related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 Network, Types of network (WANS, LANS etc), Network protocols and standards, Application layer protoc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ware and Software used in Networ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ing devices, Interconnection devices, Connectors and cabling, Software, Commercial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3FD9-E58D-4944-B1B4-85E75A97DC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 (cont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provided by network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ory services, Telecommunication services, File services, Applicatio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systems’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related business issues, Securing data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F01E-A8A2-40B1-BB4B-B365704276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groups, research the following and report back to the cla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“Network”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ink outside the bo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urpose of a network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ist all purposes; list those for a computer network separate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021360"/>
            <a:ext cx="673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ave Do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9A69-9C27-4B03-956E-1324CFEEC3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e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33F5-F266-4E9D-A959-70D3CFCAC4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09-14T14:40:29Z</dcterms:modified>
  <cp:revision>25</cp:revision>
  <dc:subject/>
  <dc:title>Computer Platforms Week 1</dc:title>
</cp:coreProperties>
</file>