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1A2-C97B-4940-9A3E-B55705CA24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3DFE-9DA9-405A-A36B-2651FD0542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FB9-C0DF-43E6-BDF2-88EA1FC5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BC5-065F-4793-A9A3-8A441EC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121-6D67-408D-BC3C-1F29C897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450-878D-4AD3-A11B-7F2EFA34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2FE4-4C56-4E67-9A0D-5F7E1B59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4E7D-44CB-40D4-BE9B-98DA6330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A634-82E8-471A-AD1C-317A9CB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9DC8-859C-4F90-B388-E047EA6A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A8F-A336-4EA2-96EA-AF2B894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92F0-8E2E-4D3A-B7CE-C66A0603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1EC0-45B1-464F-883F-CFF68120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820-4FB0-4E4C-9C1B-F6E51D24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6831-F609-46E5-961D-9A7B8C1D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64D9-5CB5-4AF4-9657-60C35FE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D71A-00A6-4C46-8EBC-DB04E9B6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92E-0150-45C8-975B-07B4EA2F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5426-E586-4977-91EB-86741FBA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6B3-0303-4F3F-9729-7921AE0F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6BDA-E360-4971-8422-3AB3D288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BCA-C17D-473A-9F05-A67EB063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7F5-1AE1-407B-9022-81D4B7D5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C42-15FA-4CF7-9703-8F3643EE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0DB-BB50-42E8-BAD6-196FD35C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A14-08D0-4D3E-9035-5DBFC8B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295F-A12F-4B21-99DA-6C700778987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CE24-7B3B-4C21-96E2-4465B26E50D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5926-1B5D-425F-9844-79F1FFE7A1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ypes of language /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01C-D8E4-438E-8CAD-4A72CF5A2B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gs to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categories and the examples given within them are not mutually exclus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modem programming languages combine features of all the different catego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 modem Visual Basic.Net is known as a visual programming environment as well as an object orient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8263-F072-480E-A89E-23810401E29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programming language has been created to meet a specific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 are given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sic and Pascal were created originally to allow the non scientific students to learn how to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Basic was derived from Basic, therefore was designed to be easy to learn and use. The other specific need was to develop interfaces f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BOL (COmmon Business-Oriented Language) was the first widely-used high-level programming language for business applications. This was written to enable businesses like finance, and government to develop comput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4A73-C7A8-4F02-80C0-BACC2AFBBF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y do we have different types of languages Co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– This came about due to hardware and software became increasingly complex. As a direct result of this the software’s quality was often compromised to get it onto the market and to meet the required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OP was deployed as an attempt to address this problem by prompting discrete units of programming logic and re-usability in softwa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vaScript – was developed to add functionality to embedded applications like websites. It was designed to look like Java, but be easier for non-programmers to work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8CD6-49FD-4913-9F7C-E5324E32DB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ed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ed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E7C-ED34-4E83-9DA4-2060F58113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cussion into what types of languages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ain knowledge into why do we have different types of 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B3B-AD1C-4D11-876F-C76BFEE7D8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 into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ocessor can only understand instructions in the form of binary code (ones and ze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 01000001 (letter 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umans however can not understand binary code, therefore most languages are written using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ymbolic languag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nglish like statements) – this make it easier for humans to underst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E77D-4799-4277-A451-2FDE4E0CF3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ypes of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many different types of programming languages, which have been developed over the years, each of which have their own features, some of which are listed belo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a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123E-C05F-4A28-A923-D6E4CA6CD6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cedural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asks that the computer is required to undertake are broken up into subroutines or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subroutines/functions are called within a mai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ually code is executed in a linear order from the first statement to the second and so fo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C, C++, Fortran, Pascal, and Ba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E485-1E43-4C8F-B14C-4A73A9DB98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bject-oriented programming (OOP) a program is broken down into objects as appose to proced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is capable of receiving messages, processing data, and sending messages to other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gramming techniques may include features such as encapsulation, modularity, polymorphism, and inheri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B.net, Java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2B3F-57E8-4973-B2B7-6D52D94E09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ual programming (Event Driv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s features to enable you to drag and drop various objects onto a form i.e. buttons, menus, labels and textboxes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a visual way of programming, objects can be manipulated in some way through the use of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, for example a text box has a list of its own properties which can be set through a properties window or through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object has a list of methods which can also be used to aid the progra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Visual Ba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9D1A-E47A-4C40-9AA2-EC26BB967A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-up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not a true programming language as they do not contain instructions to control the flow of a program i.e. structures or l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only give instructions to control format and layout of a computer file (web p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a web page needs to carry out programming functions like making a decision, Script ha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HTML (Hyper text mark-up langu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inciples of Software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FF8-7D2D-4698-B96A-669B669C57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ing languages are nearly always embedded in the application with which they are assoc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Scripts are often used for client-side web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an application to carry out programming functions like making a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Java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IT Department</cp:lastModifiedBy>
  <dcterms:modified xsi:type="dcterms:W3CDTF">2009-12-09T12:18:27Z</dcterms:modified>
  <cp:revision>42</cp:revision>
  <dc:subject/>
  <dc:title>Computer Platforms Week 1</dc:title>
</cp:coreProperties>
</file>