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34BC-4896-4D5E-8963-5716785988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0FF-30DB-4C2B-89E3-6160C3737C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C1F-0E6F-4176-B04F-56AD657B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639-3941-4899-B447-AA600B3C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694-7661-47E4-8765-ACC5DFE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B37-037F-49B2-8818-D640052F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4BF4-9129-4178-A9E8-61F531BB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696F-475E-491F-B613-62287E4E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34AE-D87B-4B72-8E23-DCD6244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93CE-5DCF-4192-B9FA-966E4F50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A462-C823-4F0C-BED1-3F6B2B32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B833-B58C-4CD2-8F95-A2D17A4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0BFC-D2A7-4EF0-8539-1649946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A00-DFA5-4F13-876A-2BE6DD5E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9E1-20F3-4BE5-8288-14F98B4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FC56-BD75-4CFA-A34E-A7DFFD8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1428-0196-4BE2-91AD-A04C439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20D7-0F83-44E7-8D50-A993517A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4557-E7C4-4343-B852-21537158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DCB-CFFD-4402-B72C-06B67BF3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33C-916B-4413-95B8-72F8D2CE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AB3-7690-4864-A328-1382BD8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BC5-3223-4953-8B5D-308DB886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32F-CCF4-4970-8F2E-F47BF49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035-2244-4808-88FF-AF63D22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D97-BB27-48A7-8C2B-A25ECB41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1AB3-1B72-47C5-B47E-D95E7B902B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633-A414-4D26-81E3-6A9A34A202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E593-D7C1-48FE-ACBB-FB5C8139FB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ypes of language /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8C1C-6D82-41E9-8414-09C6CEBC7C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gs to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categories and the examples given within them are not mutually exclu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modem programming languages combine features of all the different catego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 modem Visual Basic.Net is known as a visual programming environment as well as an object orient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066-B24F-400B-831C-4BED28E85D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programming language has been created to meet a specific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 are give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ic and Pascal were created originally to allow the non scientific students to learn how to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Basic was derived from Basic, therefore was designed to be easy to learn and use. The other specific need was to develop interfaces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BOL (COmmon Business-Oriented Language) was the first widely-used high-level programming language for business applications. This was written to enable businesses like finance, and government to develop comput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6BD4-273D-47CF-A0B0-898CE7EDBA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– This came about due to hardware and software became increasingly complex. As a direct result of this the software’s quality was often compromised to get it onto the market and to meet the required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was deployed as an attempt to address this problem by prompting discrete units of programming logic and re-usability in softw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vaScript – was developed to add functionality to embedded applications like websites. It was designed to look like Java, but be easier for non-programmers to work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0DD-0407-4972-8469-6A2C61460F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ed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630E-6B4B-4833-8C48-441BF5E656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0E0A-31D3-41A1-8E7A-32C49B98DA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cessor can only understand instructions in the form of binary code (ones and ze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 01000001 (letter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umans however can not understand binary code, therefore most languages are written usin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ymbolic languag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nglish like statements) – this make it easier for humans to underst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3C7C-2CA2-4264-A35B-986DAD5882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different types of programming languages, which have been developed over the years, each of which have their own features, some of which are listed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a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0AD-3818-4834-AEAA-262FDF19AE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asks that the computer is required to undertake are broken up into subroutines o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subroutines/functions are called within a mai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ually code is executed in a linear order from the first statement to the second and so fo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C, C++, Fortran, Pascal, and Ba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02D-1A75-4352-8F07-7D37672C1C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bject-oriented programming (OOP) a program is broken down into objects as appose to proced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is capable of receiving messages, processing data, and sending messages to other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ming techniques may include features such as encapsulation, modularity, polymorphism, and inheri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B.net, Java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34F-E472-488F-8920-6BB0FEF4D5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 (Event Driv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features to enable you to drag and drop various objects onto a form i.e. buttons, menus, labels and textboxes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a visual way of programming, objects can be manipulated in some way through the use of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, for example a text box has a list of its own properties which can be set through a properties window or through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has a list of methods which can also be used to aid the 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isual Ba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5A52-2289-4D1E-8E4D-001DDCFC2C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not a true programming language as they do not contain instructions to control the flow of a program i.e. structures or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only give instructions to control format and layout of a computer file (web p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a web page needs to carry out programming functions like making a decision, Script ha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HTML (Hyper text mark-up langu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1FF9-8BEE-4812-A8AD-36788C8BC8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ing languages are nearly always embedded in the application with which they are assoc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ripts are often used for client-side web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an application to carry out programming functions like making a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Java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2-09T12:18:27Z</dcterms:modified>
  <cp:revision>42</cp:revision>
  <dc:subject/>
  <dc:title>Computer Platforms Week 1</dc:title>
</cp:coreProperties>
</file>