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49A4-C026-4C4B-9B5B-11C7ED481D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6B01-47F9-45C1-A116-7C28B95FF9E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0B2-8813-4C74-92FB-B252B55B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7FA-F55D-411F-B826-270AFD75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FF8-47E9-4895-A4EC-7D186D36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250-D320-46F5-9CA4-A782DB66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144C-5D9B-4D13-8798-27FB4A37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4817-F280-49DA-AB9B-98B1FC52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D822-8A8D-4DF9-966E-8B6A7A21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8FBE-0A52-46BC-8231-A4BC6249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E606-A7A3-49A5-BC98-82E9DAAA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7602-0330-4A37-AAA8-14376D32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7675-2A48-4609-A734-4A701FB4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02D-917C-435C-81CC-37284EAE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7EDF-4AB1-4931-B92C-C4EF00E7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64BC-1C67-4CC4-A0A6-FA4FB23D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EFAF-AE2D-496A-893C-551B9D2D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2575-632A-41B8-ADDE-12DC1D1F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351E-168E-4633-A81B-0946597B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973-D691-47C8-882C-D67AF3CC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A53E-1BE1-4121-8FC2-7A1501EF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A52-7908-42DB-9FC9-51BF50B1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B60-F9D7-4CE7-983E-762D4F0E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B1B-DC36-4FD0-8CE8-9D158E68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1F4-D794-4771-B62E-C2C3F58D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393-3769-43BB-A4FC-7E2C12B6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07B3-D9E1-4CDF-9CBE-AC25ABB6C43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C652-78EE-4566-879C-0599FE87623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F59C-0DF2-4604-A8B2-90AFE8E839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ypes of language /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hoosing a lang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A63F-D37E-41AF-85C7-FEABCA7900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ngs to cons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categories and the examples given within them are not mutually exclus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modem programming languages combine features of all the different catego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 modem Visual Basic.Net is known as a visual programming environment as well as an object oriented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0A28-BC7B-479B-A4F1-820EC3B93B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y do we have different types of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programming language has been created to meet a specific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 are given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sic and Pascal were created originally to allow the non scientific students to learn how to pro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ual Basic was derived from Basic, therefore was designed to be easy to learn and use. The other specific need was to develop interfaces f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BOL (COmmon Business-Oriented Language) was the first widely-used high-level programming language for business applications. This was written to enable businesses like finance, and government to develop computer appl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6B52-CF05-47B8-8C1F-95790C76DFE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y do we have different types of languages C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OP – This came about due to hardware and software became increasingly complex. As a direct result of this the software’s quality was often compromised to get it onto the market and to meet the required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OP was deployed as an attempt to address this problem by prompting discrete units of programming logic and re-usability in softwa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vaScript – was developed to add functionality to embedded applications like websites. It was designed to look like Java, but be easier for non-programmers to work wi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5D8A-3F59-46FF-9F34-A60289B1ECC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cussed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cussed what types of languages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ined knowledge into why do we have different types of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4E76-8DDE-4CCA-883E-1012B9C4B6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cussion into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cussion into what types of languages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in knowledge into why do we have different types of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7456-39E0-4DD9-B647-1DB0A3E6E2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 into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is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ocessor can only understand instructions in the form of binary code (ones and zer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: 01000001 (letter 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humans however can not understand binary code, therefore most languages are written using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ymbolic languag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English like statements) – this make it easier for humans to underst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DB24-4635-472E-95A7-181AF260F4F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ypes of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many different types of programming languages, which have been developed over the years, each of which have their own features, some of which are listed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cedural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-orientated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ual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-up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ript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E772-7DB9-4D6E-BC6E-A08DAB0455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cedural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asks that the computer is required to undertake are broken up into subroutines or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subroutines/functions are called within a main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ually code is executed in a linear order from the first statement to the second and so fo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C, C++, Fortran, Pascal, and Bas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8FCB-145D-4313-82F3-FD706C479AE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Object-oriented programming (OOP) a program is broken down into objects as appose to proced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object is capable of receiving messages, processing data, and sending messages to other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gramming techniques may include features such as encapsulation, modularity, polymorphism, and inheri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VB.net, Java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8ED3-120F-448D-B371-7AD4E9CC53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ual programming (Event Driv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has features to enable you to drag and drop various objects onto a form i.e. buttons, menus, labels and textboxes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a visual way of programming, objects can be manipulated in some way through the use of c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object, for example a text box has a list of its own properties which can be set through a properties window or through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object has a list of methods which can also be used to aid the progra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Visual Bas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016C-7A35-41F8-84CD-31593D8658E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-up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not a true programming language as they do not contain instructions to control the flow of a program i.e. structures or l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only give instructions to control format and layout of a computer file (web pag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a web page needs to carry out programming functions like making a decision, Script has to be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HTML (Hyper text mark-up langu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C396-13B9-48C8-99D0-6AC832106B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ript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ripting languages are nearly always embedded in the application with which they are associ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Scripts are often used for client-side web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ables an application to carry out programming functions like making a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JavaScri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IT Department</cp:lastModifiedBy>
  <dcterms:modified xsi:type="dcterms:W3CDTF">2009-12-09T12:18:27Z</dcterms:modified>
  <cp:revision>42</cp:revision>
  <dc:subject/>
  <dc:title>Computer Platforms Week 1</dc:title>
</cp:coreProperties>
</file>