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A59B-075E-4267-88BE-152EB34D91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A2FE-BF9B-48CD-B69B-7029D2116AF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1619-B0E6-4DAF-9278-F04CFB5CF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B679-0206-460C-A537-76DC1BE2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CF39-A7B7-4500-A5D0-8CC7995EC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4639-AA19-4FE5-BC9D-449BBDC3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94D2-B632-4D77-8399-A95FB3BF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F00A-57BF-464C-9A63-3A298A79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84FA-E09C-406D-B9CB-491DD209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CA63-6858-4E1F-9A1C-AC230B11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DA0B-2977-4BC0-9992-C766FBB1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368D-050D-466F-90BA-93E4FF5C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4B18-9CEA-43C4-AD76-DC64B57D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D2D3-0B2D-43D2-89E7-4C529C85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C175-E636-42BA-8EC1-2F24665E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9C61-9FB3-4BAA-846A-66FF11F7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7564-CA3A-4E25-AFCE-4D1B0A28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554D-A9CA-44A7-BE95-EA8C19819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AF00-1FC4-4D38-881F-0B121E584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42A7-16DE-4C5D-A487-7207B588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2918-FD21-4D4F-A01F-38558B5C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0C3B-381F-4A6E-80E0-7F1FCE2C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1DE6-E818-426F-80B6-9601AFC8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5F33-8F7C-48CB-B57E-9CBE000A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C4E6-98B4-4794-9CEB-BC9D9757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DBC0-5E2E-44D6-A6C8-A6924B7D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2842-808D-4CFA-B386-C6DEDE38BC3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87A3-4203-426F-B7AF-A78749617AB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CEE0-01D6-4C79-AF11-2B51948FE87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Principles Of Software Design and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Types of language /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Choosing a langu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420C-749F-45A8-8AE5-714F5775F58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ngs to cons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fferent categories and the examples given within them are not mutually exclusi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y modem programming languages combine features of all the different categor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example modem Visual Basic.Net is known as a visual programming environment as well as an object oriented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A453-67EA-411A-9E65-A84554F2860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y do we have different types of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programming language has been created to meet a specific n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 are given below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asic and Pascal were created originally to allow the non scientific students to learn how to progr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sual Basic was derived from Basic, therefore was designed to be easy to learn and use. The other specific need was to develop interfaces fa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BOL (COmmon Business-Oriented Language) was the first widely-used high-level programming language for business applications. This was written to enable businesses like finance, and government to develop computer applic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7BCF-5AC4-4C0F-B615-F0139A1885D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y do we have different types of languages Co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OP – This came about due to hardware and software became increasingly complex. As a direct result of this the software’s quality was often compromised to get it onto the market and to meet the required nee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OP was deployed as an attempt to address this problem by prompting discrete units of programming logic and re-usability in softwa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vaScript – was developed to add functionality to embedded applications like websites. It was designed to look like Java, but be easier for non-programmers to work wi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831E-1895-4964-A983-AD4EFCABF7F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cussed program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cussed what types of languages ex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ained knowledge into why do we have different types of langu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D7BC-A3B6-4E25-86A0-CA62C5CD1A8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cussion into program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cussion into what types of languages ex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ain knowledge into why do we have different types of langu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16E6-A1FA-459C-AE2F-3EAF70E6061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scussion into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is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rocessor can only understand instructions in the form of binary code (ones and zer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Example: 01000001 (letter 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humans however can not understand binary code, therefore most languages are written using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ymbolic languag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English like statements) – this make it easier for humans to underst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5906-773F-404A-BBEF-D34B8650A78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ypes of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are many different types of programming languages, which have been developed over the years, each of which have their own features, some of which are listed below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cedural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bject-orientated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sual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-up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cript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3223-DB96-4AF7-B203-E0329CB3948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cedural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 tasks that the computer is required to undertake are broken up into subroutines or fun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se subroutines/functions are called within a main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ually code is executed in a linear order from the first statement to the second and so fo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 C, C++, Fortran, Pascal, and Bas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F610-FCBA-42E0-A5D6-182B140A021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bject-oriented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Object-oriented programming (OOP) a program is broken down into objects as appose to proced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object is capable of receiving messages, processing data, and sending messages to other obj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gramming techniques may include features such as encapsulation, modularity, polymorphism, and inherit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 VB.net, Java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9227-66A7-4446-9435-38BF2FCA6C9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sual programming (Event Driv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has features to enable you to drag and drop various objects onto a form i.e. buttons, menus, labels and textboxes e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is a visual way of programming, objects can be manipulated in some way through the use of co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object, for example a text box has a list of its own properties which can be set through a properties window or through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object has a list of methods which can also be used to aid the program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 Visual Bas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8B4A-9BB0-4E91-923A-C60516772C1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-up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is not a true programming language as they do not contain instructions to control the flow of a program i.e. structures or lo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only give instructions to control format and layout of a computer file (web pag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a web page needs to carry out programming functions like making a decision, Script has to be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 HTML (Hyper text mark-up languag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1714-B4EB-45FE-B395-67FCF434101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cript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cripting languages are nearly always embedded in the application with which they are associ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Scripts are often used for client-side web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ables an application to carry out programming functions like making a dec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 JavaScri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IT Department</cp:lastModifiedBy>
  <dcterms:modified xsi:type="dcterms:W3CDTF">2009-12-09T12:18:27Z</dcterms:modified>
  <cp:revision>42</cp:revision>
  <dc:subject/>
  <dc:title>Computer Platforms Week 1</dc:title>
</cp:coreProperties>
</file>