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CB92-5817-41E5-9A21-0088AEBD7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D745-9143-4D95-96D1-B862AC8B2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A208-FA66-410C-B6A9-46A6B9E20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7301-B5FE-4974-8F1C-1542CA844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F406-71A5-4394-B605-81AC8739C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DEF4-B254-4A96-929D-009FAE876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231D-E39D-4695-BC74-251EC1DFC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47C6-C54C-42E3-B579-23A939EF7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2955-E9B8-45EF-A909-E4C45004B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9ED7-1D9A-428F-B46E-A3B769844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487C-BB89-4AAC-BA52-268B1150C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1085-E258-431D-8DD0-1215DBCA7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46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9A1AF-B3B2-42DF-A6EF-2B6EBF86AF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46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>
            <a:hlinkClick r:id="" action="ppaction://hlinkshowjump?jump=nextslide"/>
          </p:cNvPr>
          <p:cNvSpPr/>
          <p:nvPr/>
        </p:nvSpPr>
        <p:spPr>
          <a:xfrm>
            <a:off x="8686800" y="614196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3804"/>
                </a:moveTo>
                <a:lnTo>
                  <a:pt x="17806" y="10810"/>
                </a:lnTo>
                <a:lnTo>
                  <a:pt x="3794" y="17817"/>
                </a:lnTo>
                <a:close/>
              </a:path>
            </a:pathLst>
          </a:cu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686800" y="6553080"/>
            <a:ext cx="457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92C45-653D-464A-8A8E-09F54AFB9395}" type="slidenum">
              <a:rPr b="0" i="1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NC Computer Platform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46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a Test plan consist of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rcRect l="5518" t="40197" r="24575" b="19847"/>
          <a:stretch/>
        </p:blipFill>
        <p:spPr>
          <a:xfrm>
            <a:off x="216000" y="2060640"/>
            <a:ext cx="8820000" cy="3789360"/>
          </a:xfrm>
          <a:prstGeom prst="rect">
            <a:avLst/>
          </a:prstGeom>
          <a:ln w="0">
            <a:noFill/>
          </a:ln>
        </p:spPr>
      </p:pic>
      <p:sp>
        <p:nvSpPr>
          <p:cNvPr id="81" name="">
            <a:hlinkClick r:id="" action="ppaction://hlinkshowjump?jump=nextslide"/>
          </p:cNvPr>
          <p:cNvSpPr/>
          <p:nvPr/>
        </p:nvSpPr>
        <p:spPr>
          <a:xfrm>
            <a:off x="8686800" y="614196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3804"/>
                </a:moveTo>
                <a:lnTo>
                  <a:pt x="17806" y="10810"/>
                </a:lnTo>
                <a:lnTo>
                  <a:pt x="3794" y="17817"/>
                </a:lnTo>
                <a:close/>
              </a:path>
            </a:pathLst>
          </a:cu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>
            <a:hlinkClick r:id="" action="ppaction://hlinkshowjump?jump=previousslide"/>
          </p:cNvPr>
          <p:cNvSpPr/>
          <p:nvPr/>
        </p:nvSpPr>
        <p:spPr>
          <a:xfrm>
            <a:off x="8153280" y="614196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686800" y="6553080"/>
            <a:ext cx="457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A0BE4-41C0-4696-9FE4-B05718A1B6D2}" type="slidenum">
              <a:rPr b="0" i="1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NC Computer Platform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46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lo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test log is used to prove that all the tests carried out in the test plan were carried out. Below shows an example of a test that would be shown in the test lo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number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this refers to the test No in the test pl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611280" y="3357720"/>
            <a:ext cx="4486320" cy="3124080"/>
          </a:xfrm>
          <a:prstGeom prst="rect">
            <a:avLst/>
          </a:prstGeom>
          <a:ln w="0">
            <a:noFill/>
          </a:ln>
        </p:spPr>
      </p:pic>
      <p:sp>
        <p:nvSpPr>
          <p:cNvPr id="87" name="">
            <a:hlinkClick r:id="" action="ppaction://hlinkshowjump?jump=nextslide"/>
          </p:cNvPr>
          <p:cNvSpPr/>
          <p:nvPr/>
        </p:nvSpPr>
        <p:spPr>
          <a:xfrm>
            <a:off x="8686800" y="614196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3804"/>
                </a:moveTo>
                <a:lnTo>
                  <a:pt x="17806" y="10810"/>
                </a:lnTo>
                <a:lnTo>
                  <a:pt x="3794" y="17817"/>
                </a:lnTo>
                <a:close/>
              </a:path>
            </a:pathLst>
          </a:cu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>
            <a:hlinkClick r:id="" action="ppaction://hlinkshowjump?jump=previousslide"/>
          </p:cNvPr>
          <p:cNvSpPr/>
          <p:nvPr/>
        </p:nvSpPr>
        <p:spPr>
          <a:xfrm>
            <a:off x="8153280" y="614196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686800" y="6553080"/>
            <a:ext cx="457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DC892-92DA-4153-8F0D-2089529B01A9}" type="slidenum">
              <a:rPr b="0" i="1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NC Computer Platform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46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have covered the following ai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84360" y="2558880"/>
            <a:ext cx="7632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understand the purpose of 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understand the different test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explore the four types of test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ve a understanding of Test plans and Test lo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previousslide"/>
          </p:cNvPr>
          <p:cNvSpPr/>
          <p:nvPr/>
        </p:nvSpPr>
        <p:spPr>
          <a:xfrm>
            <a:off x="8728200" y="614196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10810"/>
                </a:moveTo>
                <a:lnTo>
                  <a:pt x="17806" y="3804"/>
                </a:lnTo>
                <a:lnTo>
                  <a:pt x="17806" y="17817"/>
                </a:lnTo>
                <a:close/>
              </a:path>
            </a:pathLst>
          </a:cu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686800" y="6553080"/>
            <a:ext cx="457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94678-086D-47D3-A479-A9D1BD4A0B93}" type="slidenum">
              <a:rPr b="0" i="1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NC Computer Platform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46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i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understand the purpose of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understand the different test strate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explore the four types of test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a understanding of Test plans and Test lo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8686800" y="614196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3804"/>
                </a:moveTo>
                <a:lnTo>
                  <a:pt x="17806" y="10810"/>
                </a:lnTo>
                <a:lnTo>
                  <a:pt x="3794" y="17817"/>
                </a:lnTo>
                <a:close/>
              </a:path>
            </a:pathLst>
          </a:cu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>
            <a:hlinkClick r:id="" action="ppaction://hlinkshowjump?jump=previousslide"/>
          </p:cNvPr>
          <p:cNvSpPr/>
          <p:nvPr/>
        </p:nvSpPr>
        <p:spPr>
          <a:xfrm>
            <a:off x="8153280" y="614196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686800" y="6553080"/>
            <a:ext cx="457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78C84-3448-4C5B-8025-1B40AF4FA24C}" type="slidenum">
              <a:rPr b="0" i="1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NC Computer Platform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46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ing - Purpo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The purpose of testing is not to demonstrate how solid your code is, it is to find the bu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Testing is an art. No method always works, you must think about what the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user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may do, not what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you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 would 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8686800" y="614196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3804"/>
                </a:moveTo>
                <a:lnTo>
                  <a:pt x="17806" y="10810"/>
                </a:lnTo>
                <a:lnTo>
                  <a:pt x="3794" y="17817"/>
                </a:lnTo>
                <a:close/>
              </a:path>
            </a:pathLst>
          </a:cu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" action="ppaction://hlinkshowjump?jump=previousslide"/>
          </p:cNvPr>
          <p:cNvSpPr/>
          <p:nvPr/>
        </p:nvSpPr>
        <p:spPr>
          <a:xfrm>
            <a:off x="8153280" y="614196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686800" y="6553080"/>
            <a:ext cx="457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D0E57-DFC1-48B4-9265-9F8F3140FE70}" type="slidenum">
              <a:rPr b="0" i="1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NC Computer Platform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46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ing strateg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ite box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t is also know as open box/clear box 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als with the internal workings of the system i.e. programming code - Loop test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lack box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volves testing without the knowledge of the internal workings of th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for any given input, we can predict the output, then the module passes the 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NC Computer Platform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46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ing strateg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ack box 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250920" y="2332080"/>
          <a:ext cx="8642160" cy="3414600"/>
        </p:xfrm>
        <a:graphic>
          <a:graphicData uri="http://schemas.openxmlformats.org/drawingml/2006/table">
            <a:tbl>
              <a:tblPr/>
              <a:tblGrid>
                <a:gridCol w="4321080"/>
                <a:gridCol w="4321080"/>
              </a:tblGrid>
              <a:tr h="54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vantag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advantag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ffective on larger syste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ly a few inputs can be tes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st needs no knowledge of the details by which the system was construc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can not test every combin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sts are done from the users point of vie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rd to really test complicated parts of the syste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 expose ambiguit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sts can be designed as soon as the specifications are comple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NC Computer Platform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46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sting – What should be test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If a program is long then you can’t test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all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 the possible routes through it (even something that is safety critical such as the flight control software of the Airbus was not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fully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 tested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>
            <a:hlinkClick r:id="" action="ppaction://hlinkshowjump?jump=nextslide"/>
          </p:cNvPr>
          <p:cNvSpPr/>
          <p:nvPr/>
        </p:nvSpPr>
        <p:spPr>
          <a:xfrm>
            <a:off x="8686800" y="614196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3804"/>
                </a:moveTo>
                <a:lnTo>
                  <a:pt x="17806" y="10810"/>
                </a:lnTo>
                <a:lnTo>
                  <a:pt x="3794" y="17817"/>
                </a:lnTo>
                <a:close/>
              </a:path>
            </a:pathLst>
          </a:cu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>
            <a:hlinkClick r:id="" action="ppaction://hlinkshowjump?jump=previousslide"/>
          </p:cNvPr>
          <p:cNvSpPr/>
          <p:nvPr/>
        </p:nvSpPr>
        <p:spPr>
          <a:xfrm>
            <a:off x="8153280" y="614196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686800" y="6553080"/>
            <a:ext cx="457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7FCF4-3017-4A2A-8EE4-1B59D46FEBAC}" type="slidenum">
              <a:rPr b="0" i="1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NC Computer Platform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46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sting – What should be tested?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ST DAT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four different conditions that testers use to test programs, these 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mal – valid data that the program should handle cor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 – also valid data, but at the limit in terms of size/ range (tests the boundari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roneous – totally invalid data i.e. text into a numeric f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ong – invalid data that is clearly incorr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>
            <a:hlinkClick r:id="" action="ppaction://hlinkshowjump?jump=nextslide"/>
          </p:cNvPr>
          <p:cNvSpPr/>
          <p:nvPr/>
        </p:nvSpPr>
        <p:spPr>
          <a:xfrm>
            <a:off x="8686800" y="614196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3804"/>
                </a:moveTo>
                <a:lnTo>
                  <a:pt x="17806" y="10810"/>
                </a:lnTo>
                <a:lnTo>
                  <a:pt x="3794" y="17817"/>
                </a:lnTo>
                <a:close/>
              </a:path>
            </a:pathLst>
          </a:cu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>
            <a:hlinkClick r:id="" action="ppaction://hlinkshowjump?jump=previousslide"/>
          </p:cNvPr>
          <p:cNvSpPr/>
          <p:nvPr/>
        </p:nvSpPr>
        <p:spPr>
          <a:xfrm>
            <a:off x="8153280" y="614196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686800" y="6553080"/>
            <a:ext cx="457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42276-420A-46FB-8874-E678AB88A0F1}" type="slidenum">
              <a:rPr b="0" i="1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NC Computer Platform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46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 – of each cond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 this example, a program only allows dates between (inclusive) 01/01/2007 to 01/01/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rmal – 15/03/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treme – 01/01/2007, 02/01/2007,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31/12/20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rroneous – 01 / March / 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rong – 38/12/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>
            <a:hlinkClick r:id="" action="ppaction://hlinkshowjump?jump=nextslide"/>
          </p:cNvPr>
          <p:cNvSpPr/>
          <p:nvPr/>
        </p:nvSpPr>
        <p:spPr>
          <a:xfrm>
            <a:off x="8686800" y="614196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3804"/>
                </a:moveTo>
                <a:lnTo>
                  <a:pt x="17806" y="10810"/>
                </a:lnTo>
                <a:lnTo>
                  <a:pt x="3794" y="17817"/>
                </a:lnTo>
                <a:close/>
              </a:path>
            </a:pathLst>
          </a:cu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>
            <a:hlinkClick r:id="" action="ppaction://hlinkshowjump?jump=previousslide"/>
          </p:cNvPr>
          <p:cNvSpPr/>
          <p:nvPr/>
        </p:nvSpPr>
        <p:spPr>
          <a:xfrm>
            <a:off x="8153280" y="614196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686800" y="6553080"/>
            <a:ext cx="457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3644E-DF97-4285-818E-32870013959C}" type="slidenum">
              <a:rPr b="0" i="1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NC Computer Platform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46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test plan is used to provide a basis for specifying tests that are to be carried out during the development of a progr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test plan if carried out correctly provides valuable evidence that the system (or sub systems) performs as it shoul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test plan should contain normal, extreme, erroneous and wrong test da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>
            <a:hlinkClick r:id="" action="ppaction://hlinkshowjump?jump=nextslide"/>
          </p:cNvPr>
          <p:cNvSpPr/>
          <p:nvPr/>
        </p:nvSpPr>
        <p:spPr>
          <a:xfrm>
            <a:off x="8686800" y="614196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3804"/>
                </a:moveTo>
                <a:lnTo>
                  <a:pt x="17806" y="10810"/>
                </a:lnTo>
                <a:lnTo>
                  <a:pt x="3794" y="17817"/>
                </a:lnTo>
                <a:close/>
              </a:path>
            </a:pathLst>
          </a:cu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>
            <a:hlinkClick r:id="" action="ppaction://hlinkshowjump?jump=previousslide"/>
          </p:cNvPr>
          <p:cNvSpPr/>
          <p:nvPr/>
        </p:nvSpPr>
        <p:spPr>
          <a:xfrm>
            <a:off x="8153280" y="614196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686800" y="6553080"/>
            <a:ext cx="457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4C7E8-D926-4662-83FA-14752AD1B083}" type="slidenum">
              <a:rPr b="0" i="1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NC Computer Platform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30T12:06:18Z</dcterms:created>
  <dc:creator>Administrator</dc:creator>
  <dc:description/>
  <dc:language>en-US</dc:language>
  <cp:lastModifiedBy>brendan.coulson</cp:lastModifiedBy>
  <dcterms:modified xsi:type="dcterms:W3CDTF">2008-11-04T18:58:58Z</dcterms:modified>
  <cp:revision>20</cp:revision>
  <dc:subject/>
  <dc:title>Testing</dc:title>
</cp:coreProperties>
</file>