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C5D-65FA-462C-B6EE-98BA9DD2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0820-AA6D-4E18-844A-EBB42C0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491-A325-426D-BB16-2AC8871C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182-B083-48F8-BE22-8067DEB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FFD-7BDF-4621-A8EF-480FB13F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DC6-1321-445A-A209-8783BFCD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1DF-B1B8-4C66-A6C5-5B52C5A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A13-FB48-456F-8AF5-F825B16E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32F-48FF-40DE-81FF-8E51A464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5BB-6ECB-4871-9F31-A125AC2B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034-55D2-42B9-83D4-DEB8D69C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435-4A70-4281-8806-433B9436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591C-FD21-4B19-8E7F-3ACFAEC26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AC9B-1CA1-4A01-BFE7-AC9218B7F332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Test plan consis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518" t="40197" r="24575" b="19847"/>
          <a:stretch/>
        </p:blipFill>
        <p:spPr>
          <a:xfrm>
            <a:off x="216000" y="2060640"/>
            <a:ext cx="8820000" cy="37893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4E8C-353B-42F9-A899-8D6297B03C10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log is used to prove that all the tests carried out in the test plan were carried out. Below shows an example of a test that would be shown in the test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umbe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is refers to the test No in the test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486320" cy="3124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3EE8-FB15-4E8A-B55B-B64D9585CFE3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covered the following 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55888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7282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D37C-68D8-4E93-BA8C-D2D31BEEBE14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purpose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e different tes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the four types of te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understanding of Test plans and Test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D5EC-07F8-43DE-B8FF-7974AEC8581D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-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he purpose of testing is not to demonstrate how solid your code is, it is to find the b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esting is an art. No method always works, you must think about what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us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may do, not wha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yo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would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5E38-BEC3-4252-B9D3-D1DABDC9AD7E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also know as open box/clear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als with the internal workings of the system i.e. programming code - Loop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volves testing without the knowledge of the internal workings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or any given input, we can predict the output, then the module passes th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2332080"/>
          <a:ext cx="8642160" cy="34146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on larger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a few inputs can be 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needs no knowledge of the details by which the system was constru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can not test every comb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are done from the users point of 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 to really test complicated parts of th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expose ambigu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can be designed as soon as the specifications are compl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If a program is long then you can’t te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he possible routes through it (even something that is safety critical such as the flight control software of the Airbus was no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ful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test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01E2-281B-44BE-AC06-D1A176A40140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– What should be tested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different conditions that testers use to test programs, these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– valid data that the program should handl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– also valid data, but at the limit in terms of size/ range (tests the bound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neous – totally invalid data i.e. text into a nume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– invalid data that is clearly in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5DAB-BFA0-4865-AC8B-CDD9A39D007E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– of each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is example, a program only allows dates between (inclusive) 01/01/2007 to 01/0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 – 15/03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– 01/01/2007, 02/01/2007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31/12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neous – 01 / March / 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ong – 38/12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B03-24BD-4AA6-93ED-56B15BF81065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s used to provide a basis for specifying tests that are to be carried out during the development of a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if carried out correctly provides valuable evidence that the system (or sub systems) performs as it shou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st plan should contain normal, extreme, erroneous and wrong test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686800" y="614196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8153280" y="61419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0" y="65530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AC9C-10BE-42D7-ABC7-C683287CBD68}" type="slidenum">
              <a:rPr b="0" i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NC Computer Platform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12:06:18Z</dcterms:created>
  <dc:creator>Administrator</dc:creator>
  <dc:description/>
  <dc:language>en-US</dc:language>
  <cp:lastModifiedBy>brendan.coulson</cp:lastModifiedBy>
  <dcterms:modified xsi:type="dcterms:W3CDTF">2008-11-04T18:58:58Z</dcterms:modified>
  <cp:revision>20</cp:revision>
  <dc:subject/>
  <dc:title>Testing</dc:title>
</cp:coreProperties>
</file>