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EC6-9FF4-4C4F-88F8-74747076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424-8F46-477A-8E44-4AF8A5C7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4B6-585E-48F0-914D-C2D9796F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915-E590-4478-9AA5-F1D11821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2D8-D91F-485C-B7FC-6FC86F02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C41-D548-40FD-ADF5-FA560E4A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891-3BA1-4644-88BC-F07046DA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E34-4FE9-410A-9DF3-C22B3BA3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FFB-C9AE-43E4-AE15-B0C37F18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A97-F942-4F90-9D2A-617292FA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F48-F0FE-4E52-BD79-28A0DBF9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36BF-48AD-4AF1-92F1-8F20D94B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D39A-5CA5-4B9A-B54A-A3F58DABE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B57B-E453-4711-90C9-C4BE54548E61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 Test plan consist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5518" t="40197" r="24575" b="19847"/>
          <a:stretch/>
        </p:blipFill>
        <p:spPr>
          <a:xfrm>
            <a:off x="216000" y="2060640"/>
            <a:ext cx="8820000" cy="37893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A651-2766-4FBC-81C0-538FA7AD42A1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log is used to prove that all the tests carried out in the test plan were carried out. Below shows an example of a test that would be shown in the test 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numbe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his refers to the test No in the test pl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4486320" cy="3124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131D-003F-4414-9371-C7A922E9A93C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covered the following 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558880"/>
            <a:ext cx="76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the purpose of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the different tes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the four types of tes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understanding of Test plans and Test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87282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9783-1C3C-4424-8AA3-C41500BCD818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the purpose of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the different test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lore the four types of tes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understanding of Test plans and Test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29CB-0E49-4663-8F0B-351F209E2F92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-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he purpose of testing is not to demonstrate how solid your code is, it is to find the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esting is an art. No method always works, you must think about what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us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may do, not wha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you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would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EA1C-AAEE-4027-8F78-E6EC2F8977B0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te box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also know as open box/clear box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ls with the internal workings of the system i.e. programming code - Loop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ack box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volves testing without the knowledge of the internal workings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or any given input, we can predict the output, then the module passes th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box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2332080"/>
          <a:ext cx="8642160" cy="341460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on larger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a few inputs can be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needs no knowledge of the details by which the system was construc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can not test every comb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 are done from the users point of 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to really test complicated parts of th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expose ambigu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 can be designed as soon as the specifications are comp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– What should be tes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If a program is long then you can’t te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the possible routes through it (even something that is safety critical such as the flight control software of the Airbus was no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ful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test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8C0A-F662-45AE-B1DD-DCE472D55457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– What should be tested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 DA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different conditions that testers use to test programs, these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– valid data that the program should handle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 – also valid data, but at the limit in terms of size/ range (tests the bounda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neous – totally invalid data i.e. text into a numer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– invalid data that is clearly in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5079-AE45-440B-81B1-98CA9220B558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– of each 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this example, a program only allows dates between (inclusive) 01/01/2007 to 01/01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 – 15/03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eme – 01/01/2007, 02/01/2007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31/12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rroneous – 01 / March / 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ong – 38/12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7A3C-289B-492C-9952-B2674667AE08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 plan is used to provide a basis for specifying tests that are to be carried out during the development of a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 plan if carried out correctly provides valuable evidence that the system (or sub systems) performs as it shou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 plan should contain normal, extreme, erroneous and wrong test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770A-46B9-4364-9846-785F5098B1B1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2:06:18Z</dcterms:created>
  <dc:creator>Administrator</dc:creator>
  <dc:description/>
  <dc:language>en-US</dc:language>
  <cp:lastModifiedBy>brendan.coulson</cp:lastModifiedBy>
  <dcterms:modified xsi:type="dcterms:W3CDTF">2008-11-04T18:58:58Z</dcterms:modified>
  <cp:revision>20</cp:revision>
  <dc:subject/>
  <dc:title>Testing</dc:title>
</cp:coreProperties>
</file>