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BCA-3AFD-4C3D-96D2-0A40ADCF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19EB-0B76-4B3D-A016-B470FC35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DB4-022C-4FD0-8210-6F7710AA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C0E-F79D-4032-92A6-C74B6C89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EB40-41B7-4589-B94F-9CC4C867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BB0-3C11-4123-8D15-9BEFB0FE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8CC-CC01-4F1F-877E-D2C4EB68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871-36CC-4E97-8C51-956D6EA3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788-08CA-4294-AA39-B39D5C26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DD4-8884-4063-AAA9-1E4F9B6A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DDB-9421-417E-B8B6-67988795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42B-9A99-4FE0-85EF-89E1D595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640D-6600-4C22-8C13-0BF1985FB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2FEC-E275-4DE2-9AAC-74158AADC5A3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a Test plan consist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5518" t="40197" r="24575" b="19847"/>
          <a:stretch/>
        </p:blipFill>
        <p:spPr>
          <a:xfrm>
            <a:off x="216000" y="2060640"/>
            <a:ext cx="8820000" cy="37893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F1FD-7D04-40A6-9A0F-247635C2625C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log is used to prove that all the tests carried out in the test plan were carried out. Below shows an example of a test that would be shown in the test 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numbe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his refers to the test No in the test pl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4486320" cy="31240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BAA7-B73C-4A72-B413-6065A386F739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covered the following 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558880"/>
            <a:ext cx="763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nderstand the purpose of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nderstand the different tes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the four types of tes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understanding of Test plans and Test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87282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1E97-2B92-435A-B318-5EB18BAFD44C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the purpose of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the different test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lore the four types of tes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understanding of Test plans and Test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DCE9-A72A-41DA-8932-6D7B78905C5F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- 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he purpose of testing is not to demonstrate how solid your code is, it is to find the b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esting is an art. No method always works, you must think about what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us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may do, not wha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you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would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288C-02D3-46BF-B4EC-6AD3C101CC4E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te box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also know as open box/clear box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ls with the internal workings of the system i.e. programming code - Loop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ack box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volves testing without the knowledge of the internal workings of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or any given input, we can predict the output, then the module passes th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box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2332080"/>
          <a:ext cx="8642160" cy="341460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on larger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a few inputs can be 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needs no knowledge of the details by which the system was construc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can not test every combi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s are done from the users point of 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 to really test complicated parts of th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expose ambigu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s can be designed as soon as the specifications are compl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– What should be tes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If a program is long then you can’t tes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the possible routes through it (even something that is safety critical such as the flight control software of the Airbus was no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ful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test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A2FF-8405-4D32-8C33-0F61C74934ED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– What should be tested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 DA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different conditions that testers use to test programs, these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– valid data that the program should handle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 – also valid data, but at the limit in terms of size/ range (tests the bounda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neous – totally invalid data i.e. text into a numer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– invalid data that is clearly in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50B3-D216-4DE3-BAA2-F961BC5D026B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– of each con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this example, a program only allows dates between (inclusive) 01/01/2007 to 01/01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 – 15/03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eme – 01/01/2007, 02/01/2007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31/12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rroneous – 01 / March / 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ong – 38/12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929D-BBFC-4BCB-A144-7BCF1250335A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st plan is used to provide a basis for specifying tests that are to be carried out during the development of a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st plan if carried out correctly provides valuable evidence that the system (or sub systems) performs as it shou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st plan should contain normal, extreme, erroneous and wrong test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73B7-1A70-4DB3-B706-CE0BCB6333E2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2:06:18Z</dcterms:created>
  <dc:creator>Administrator</dc:creator>
  <dc:description/>
  <dc:language>en-US</dc:language>
  <cp:lastModifiedBy>brendan.coulson</cp:lastModifiedBy>
  <dcterms:modified xsi:type="dcterms:W3CDTF">2008-11-04T18:58:58Z</dcterms:modified>
  <cp:revision>20</cp:revision>
  <dc:subject/>
  <dc:title>Testing</dc:title>
</cp:coreProperties>
</file>