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27B-F149-4253-AD54-8D4A3182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386-E4DD-46F5-BCD2-F839B916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296-20BE-49D3-95A5-F34A7941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053-82EA-406E-BAF5-C3B69F8B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63C5-6CB1-4EAD-B459-9540DAD2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E17E-25CB-4D79-A625-814829E2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030C-16BB-491D-8E1D-575EF1F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4311-F65A-46B0-87BB-79E5EF4C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D199-9F78-4662-8431-B27DE0D6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1C60-47C8-4935-A989-FEC31A2D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A6D1-6158-4D67-BED9-CB268C3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3A2-6F04-4CC6-AC6E-CFAE4E59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000F-5ACB-48D7-BA0D-C7A34BE9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A53A-1FCB-42B8-AE89-E100ACD1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16E2-701C-4ECF-9D2F-8D486937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6314-B9FA-42E0-8CF8-EC96AB97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9A7C-AA24-436D-AEC7-B8E6979B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334-8059-450F-857F-95BFCB14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D97-81F4-4F1E-B18B-0183F731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954-779C-49CF-A929-C7BB9F74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7C3-E6F5-4E62-8EFA-358F2A5D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19B-CBE0-425E-B97E-834FF8B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033-70E4-46DA-9894-71E298E8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2C0-F67C-4A71-84DB-D4DE410C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BA2F-BFAD-4DEF-BC28-F5836B947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9AFB-467E-4C2A-9B60-77338884A3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&amp;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into IT Systems Analysis and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7F61-2390-4402-AE37-2FFEE2F7AA0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a SDLC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fall mod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38098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788000" y="2924280"/>
            <a:ext cx="4104720" cy="2808000"/>
            <a:chOff x="4788000" y="2924280"/>
            <a:chExt cx="4104720" cy="2808000"/>
          </a:xfrm>
        </p:grpSpPr>
        <p:sp>
          <p:nvSpPr>
            <p:cNvPr id="185" name=""/>
            <p:cNvSpPr/>
            <p:nvPr/>
          </p:nvSpPr>
          <p:spPr>
            <a:xfrm>
              <a:off x="5074920" y="2924280"/>
              <a:ext cx="792000" cy="11527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2920" y="29959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8000" y="42213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5039640" y="4543200"/>
              <a:ext cx="863640" cy="12254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225440"/>
                <a:gd name="textAreaBottom" fmla="*/ 1225800 h 12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00360" y="5301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6360" y="414828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7595280" y="2853000"/>
              <a:ext cx="863280" cy="12949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7595640" y="4579920"/>
              <a:ext cx="936360" cy="11523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152360"/>
                <a:gd name="textAreaBottom" fmla="*/ 1152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574-CA28-49CA-852C-403E9FFCB7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others, using the Internet try to identify one o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find out the benefits of the lifecycle you identified. – 15 minutes hints: Spiral, V-Model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C2C-708C-4C4D-9C92-7470C33D7E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fal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30120" y="2136600"/>
            <a:ext cx="3810240" cy="3886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235400" y="2060640"/>
            <a:ext cx="4800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efines needed information, function, behavior, performance and inte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ig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ata structures, software architecture, interface representations, algorithmic detai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lement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source code, database, user documentation,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7A9-65E0-42C5-9239-3240284794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terfall Model 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y to underst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asy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s structu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experienc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lestones are well 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s s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agement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lan, staff, trac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well whe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lity is more importa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 cost or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759-2C9B-4ECF-9971-559FA6C5CB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terfall Model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s must be know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fro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verables created for each phase are considered frozen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hibits flex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give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lse impression of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es not reflect problem-solving natu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oftware development – iterations of ph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e big bang at 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tle opportunity for custom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view the system (until it may be too 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AC9-3F8B-4739-867C-7D0ACF398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should the waterfall model be u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are ver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ll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definition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sion of an existing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610-96F9-4079-B0B3-17A3648ED9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applications development (RAD)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1280" y="2852640"/>
            <a:ext cx="4104720" cy="2808000"/>
            <a:chOff x="611280" y="2852640"/>
            <a:chExt cx="4104720" cy="2808000"/>
          </a:xfrm>
        </p:grpSpPr>
        <p:sp>
          <p:nvSpPr>
            <p:cNvPr id="208" name=""/>
            <p:cNvSpPr/>
            <p:nvPr/>
          </p:nvSpPr>
          <p:spPr>
            <a:xfrm>
              <a:off x="898200" y="2852640"/>
              <a:ext cx="792000" cy="11527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6200" y="292428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280" y="414972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862920" y="4471560"/>
              <a:ext cx="863640" cy="12254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225440"/>
                <a:gd name="textAreaBottom" fmla="*/ 1225800 h 12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23640" y="522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9640" y="407664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3418560" y="2781360"/>
              <a:ext cx="863280" cy="12949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800000">
              <a:off x="3418920" y="4508280"/>
              <a:ext cx="936360" cy="11523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152360"/>
                <a:gd name="textAreaBottom" fmla="*/ 1152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019840" y="2637000"/>
            <a:ext cx="38732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 is a software development methodology that focuses on building application fast – it involves iterative develop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uses specialist tools like CASE tools that focus on converting requirements to code very quick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makes use of prototypes that are iteratively developed (requirements can be refined/defined) into a f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CCA-54A2-4C66-924C-F6CBA392DC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D 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duced cycle ti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mproved productivity with fewer people means lower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me-box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mitigates cost and schedul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stomer involved througho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lete cycle minimizes risk of not achieving customer satisfaction and business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90F-DF2C-4092-BE27-6F0B7E150D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D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ed development proces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must give quick respons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ver achieving clo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to use wit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ac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a system that can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dular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rs and customers must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itted to rapid-fire activi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abbreviated time fra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FB0-72BD-4DFD-9AF9-D21DC0B371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portant thing to remembe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ey to a successful IT system is getting the requirements specification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3B9-9DE8-46B0-8225-2360495732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into what is IT Systems Analysis and Design and why it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basic principles of a development lif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understanding into the waterfall model and 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development method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0B8-6C72-4429-8DD8-C83E3CFEF1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ask 2, Bullet point one – One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1A5-6F6E-46D3-A609-0CF83E846C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velopment methodology is the way in which the development of a project is carried-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ology helps to produce a better quality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ensure that the user requirements are 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pro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7A1-2A09-4B31-AABF-8390E090E4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no guarantees that the lifecycle that is chosen will structure an effectiv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thodology has the same basic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ethodology make use of different tools throughout each stage of the development i.e. design tools, project management tools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0CA-5EAB-4D64-9505-D7985A252A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different methodologies that can be used to provide some structure to a project. Examples are shown belo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(discussed in the next lec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oriented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5D1-6972-4EC7-93D0-1734F5CBFC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UML for notation – unified modelling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ole system is broken into a number of objects that are designed to interact with each other to produce a working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build applications 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ithin an iterative environment (like R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F0C-ED91-42F6-885C-A0A97DA3A8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fits of effective systems analysis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risk of projects running over budget or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quality systems that are more likely to meet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able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ab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186-710D-474B-BD4B-BA7F3DE44D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scussed what is IT Systems Analysis and Design and why it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a basic knowledge of the principles of a development lif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understanding into the waterfall model and 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development method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E7D-2670-4AC1-8D85-993ACDEC08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Systems analy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the study of a business problem in order to recommend improvements and to specify the requirements for a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phase that is undertaken when a current system is studied and alternative replacement systems are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detailed analysis of the what is required from a system i.e. user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all it is a process that is undertaken which involves research into the current system, researching into what is required from a new system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formation is then used to generate a clear list of user requirements from which designs can be generated and implemented to develop a system that meets the user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CF9-6F7F-48A5-BFA0-5077E4F564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s do an exam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e you have a really old sports car, you now have decided you require a different more sensible car to accommodate your family n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find out what car would be most beneficial to you the following questions could be ask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like about your current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you like to change about your current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you require from a new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36F-5DD8-4742-AF83-A628943A8A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bother with Systems analy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most IT systems f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11649" t="22024" r="38433" b="34390"/>
          <a:stretch/>
        </p:blipFill>
        <p:spPr>
          <a:xfrm>
            <a:off x="1692360" y="2708280"/>
            <a:ext cx="5473440" cy="35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639-2E45-4DF1-AF83-0CA12ECBB5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reasons for so many IT systems fail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run out of money to finance the project (incomplete syst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ed requirements (more requirements may have generated during the project lifecy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time the system is ready it has become out-of-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AD7-3DF5-4B88-82D6-53627FFE4E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Internet try to find out what other IT systems have failed – 1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iscuss your findings within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4D2-74CF-4BEB-ABE4-FDB6485F39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systems analysis be struct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structure the analysis process by using standardised models called “Development life cyc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BF5-4819-4041-84A8-FEB0923230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stems Development life cycle (SDL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ramework that describes the activities performed at each stage of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557-18C7-4FCD-BA90-3A348E3A5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2:58:45Z</dcterms:modified>
  <cp:revision>28</cp:revision>
  <dc:subject/>
  <dc:title>Computer Platforms Week 1</dc:title>
</cp:coreProperties>
</file>