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3741-664C-4270-9230-611B66407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0CAF-3873-4757-B077-0885AE0EB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275C-DC3E-400A-AB83-8C81909DB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A0C6-E18F-4363-8487-458A91F0A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0E8DF-42D9-42AF-87FB-EB1BEB41F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286BC-A393-4812-9600-7534EA4DA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AACCE-D06A-45C8-A52C-01757F4EB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204A8-DE92-45CB-96AE-7F21F6B18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B09EF-38A6-496E-96B5-B35A9F7C5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94625-E722-4D8B-A5CD-98E569E58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70703-4A4B-4171-A45C-27B4F756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BB03-C536-4910-BB63-9E37081AE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A8EC2-A4B6-4F3E-89DD-A5EFD69DB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4242B-09E0-4366-B3D8-35C36F28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E8967-F490-4574-9E9A-E7ECCC4B6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FF4C1-539A-4CA6-A080-7CED86711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AB113-2E85-4A16-AFD3-7A69F20A8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7A0D-F284-4862-89FE-CFFB1BC9C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A691-F0F7-4AC1-875B-14240B886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9B7B-9957-471A-9BFF-6B188C38A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E5D1-CDCE-4C3A-8F68-4CF8FF413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1892-B056-4FBF-8584-E43BCDB96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E16B-FB4A-465A-9D1D-7C5E19A9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11EB-7197-4955-992D-7BACE4A0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A40AE-20FD-49B0-B471-7BD5EF235AC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DE9ED-2082-4952-852B-74487F556DD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T Systems Analysis &amp; Desig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troduction into IT Systems Analysis and Desig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5DAED-A66E-44DF-B0F6-950521C7185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ystems Development lifecyc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 of a SDLC a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Waterfall mode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R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684360" y="2637000"/>
            <a:ext cx="3809880" cy="3600360"/>
          </a:xfrm>
          <a:prstGeom prst="rect">
            <a:avLst/>
          </a:prstGeom>
          <a:ln w="0">
            <a:noFill/>
          </a:ln>
        </p:spPr>
      </p:pic>
      <p:grpSp>
        <p:nvGrpSpPr>
          <p:cNvPr id="184" name=""/>
          <p:cNvGrpSpPr/>
          <p:nvPr/>
        </p:nvGrpSpPr>
        <p:grpSpPr>
          <a:xfrm>
            <a:off x="4788000" y="2924280"/>
            <a:ext cx="4104720" cy="2808000"/>
            <a:chOff x="4788000" y="2924280"/>
            <a:chExt cx="4104720" cy="2808000"/>
          </a:xfrm>
        </p:grpSpPr>
        <p:sp>
          <p:nvSpPr>
            <p:cNvPr id="185" name=""/>
            <p:cNvSpPr/>
            <p:nvPr/>
          </p:nvSpPr>
          <p:spPr>
            <a:xfrm>
              <a:off x="5074920" y="2924280"/>
              <a:ext cx="792000" cy="1152720"/>
            </a:xfrm>
            <a:custGeom>
              <a:avLst/>
              <a:gdLst>
                <a:gd name="textAreaLeft" fmla="*/ 0 w 792000"/>
                <a:gd name="textAreaRight" fmla="*/ 792360 w 792000"/>
                <a:gd name="textAreaTop" fmla="*/ 0 h 1152720"/>
                <a:gd name="textAreaBottom" fmla="*/ 1153080 h 115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839" stAng="10800000" swAng="5400000"/>
                  <a:lnTo>
                    <a:pt x="16571" y="2321"/>
                  </a:lnTo>
                  <a:lnTo>
                    <a:pt x="16571" y="0"/>
                  </a:lnTo>
                  <a:lnTo>
                    <a:pt x="21600" y="6079"/>
                  </a:lnTo>
                  <a:lnTo>
                    <a:pt x="16571" y="12158"/>
                  </a:lnTo>
                  <a:lnTo>
                    <a:pt x="16571" y="9837"/>
                  </a:lnTo>
                  <a:lnTo>
                    <a:pt x="12427" y="9837"/>
                  </a:lnTo>
                  <a:arcTo wR="4911" hR="2323" stAng="16200000" swAng="-5400000"/>
                  <a:lnTo>
                    <a:pt x="7516" y="2160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082920" y="299592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ototyp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788000" y="4221360"/>
              <a:ext cx="93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sig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16200000">
              <a:off x="5039640" y="4543200"/>
              <a:ext cx="863640" cy="1225440"/>
            </a:xfrm>
            <a:custGeom>
              <a:avLst/>
              <a:gdLst>
                <a:gd name="textAreaLeft" fmla="*/ 0 w 863640"/>
                <a:gd name="textAreaRight" fmla="*/ 864000 w 863640"/>
                <a:gd name="textAreaTop" fmla="*/ 0 h 1225440"/>
                <a:gd name="textAreaBottom" fmla="*/ 1225800 h 122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839" stAng="10800000" swAng="5400000"/>
                  <a:lnTo>
                    <a:pt x="16571" y="2321"/>
                  </a:lnTo>
                  <a:lnTo>
                    <a:pt x="16571" y="0"/>
                  </a:lnTo>
                  <a:lnTo>
                    <a:pt x="21600" y="6079"/>
                  </a:lnTo>
                  <a:lnTo>
                    <a:pt x="16571" y="12158"/>
                  </a:lnTo>
                  <a:lnTo>
                    <a:pt x="16571" y="9837"/>
                  </a:lnTo>
                  <a:lnTo>
                    <a:pt x="12427" y="9837"/>
                  </a:lnTo>
                  <a:arcTo wR="4911" hR="2323" stAng="16200000" swAng="-5400000"/>
                  <a:lnTo>
                    <a:pt x="7516" y="2160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00360" y="5301000"/>
              <a:ext cx="10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6360" y="4148280"/>
              <a:ext cx="93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s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5400000">
              <a:off x="7595280" y="2853000"/>
              <a:ext cx="863280" cy="1294920"/>
            </a:xfrm>
            <a:custGeom>
              <a:avLst/>
              <a:gdLst>
                <a:gd name="textAreaLeft" fmla="*/ 0 w 863280"/>
                <a:gd name="textAreaRight" fmla="*/ 863640 w 863280"/>
                <a:gd name="textAreaTop" fmla="*/ 0 h 1294920"/>
                <a:gd name="textAreaBottom" fmla="*/ 1295280 h 129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839" stAng="10800000" swAng="5400000"/>
                  <a:lnTo>
                    <a:pt x="16571" y="2321"/>
                  </a:lnTo>
                  <a:lnTo>
                    <a:pt x="16571" y="0"/>
                  </a:lnTo>
                  <a:lnTo>
                    <a:pt x="21600" y="6079"/>
                  </a:lnTo>
                  <a:lnTo>
                    <a:pt x="16571" y="12158"/>
                  </a:lnTo>
                  <a:lnTo>
                    <a:pt x="16571" y="9837"/>
                  </a:lnTo>
                  <a:lnTo>
                    <a:pt x="12427" y="9837"/>
                  </a:lnTo>
                  <a:arcTo wR="4911" hR="2323" stAng="16200000" swAng="-5400000"/>
                  <a:lnTo>
                    <a:pt x="7516" y="2160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0800000">
              <a:off x="7595640" y="4579920"/>
              <a:ext cx="936360" cy="1152360"/>
            </a:xfrm>
            <a:custGeom>
              <a:avLst/>
              <a:gdLst>
                <a:gd name="textAreaLeft" fmla="*/ 0 w 936360"/>
                <a:gd name="textAreaRight" fmla="*/ 936720 w 936360"/>
                <a:gd name="textAreaTop" fmla="*/ 0 h 1152360"/>
                <a:gd name="textAreaBottom" fmla="*/ 1152360 h 115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839" stAng="10800000" swAng="5400000"/>
                  <a:lnTo>
                    <a:pt x="16571" y="2321"/>
                  </a:lnTo>
                  <a:lnTo>
                    <a:pt x="16571" y="0"/>
                  </a:lnTo>
                  <a:lnTo>
                    <a:pt x="21600" y="6079"/>
                  </a:lnTo>
                  <a:lnTo>
                    <a:pt x="16571" y="12158"/>
                  </a:lnTo>
                  <a:lnTo>
                    <a:pt x="16571" y="9837"/>
                  </a:lnTo>
                  <a:lnTo>
                    <a:pt x="12427" y="9837"/>
                  </a:lnTo>
                  <a:arcTo wR="4911" hR="2323" stAng="16200000" swAng="-5400000"/>
                  <a:lnTo>
                    <a:pt x="7516" y="2160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A079-1AE9-4568-92ED-2B43FB21372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ystems Development lifecyc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many others, using the Internet try to identify one othe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y to find out the benefits of the lifecycle you identified. – 15 minutes hints: Spiral, V-Model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F829-2FF2-45BE-99D2-A9A8EA61259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ystems Development lifecyc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fall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330120" y="2136600"/>
            <a:ext cx="3810240" cy="38862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4235400" y="2060640"/>
            <a:ext cx="4800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equiremen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defines needed information, function, behavior, performance and interfa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esig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data structures, software architecture, interface representations, algorithmic detai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mplementatio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source code, database, user documentation, test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24D3-576B-400F-875C-D0E4146FB92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ystems Development lifecyc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aterfall Model strengt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asy to understa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easy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ovides structur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inexperienced staf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ilestones are well underst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s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quirements s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od for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anagement contro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plan, staff, track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s well when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quality is more importan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n cost or schedu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5F41-A465-4F81-AC8D-BE38B02E248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ystems Development lifecyc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aterfall Model disadvant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quirements must be know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fro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liverables created for each phase are considered frozen –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hibits flexi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give a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alse impression of prog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oes not reflect problem-solving natur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software development – iterations of ph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gration is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ne big bang at 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ittle opportunity for custome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preview the system (until it may be too la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71A4-213B-452B-A8AC-2CEE34A3FF4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ystems Development lifecyc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en should the waterfall model be us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quirements are very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ell know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duct definition is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chnology is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underst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version of an existing pro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FFCB-11B0-4FEC-8890-B8A86706475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ystems Development lifecyc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pid applications development (RAD)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11280" y="2852640"/>
            <a:ext cx="4104720" cy="2808000"/>
            <a:chOff x="611280" y="2852640"/>
            <a:chExt cx="4104720" cy="2808000"/>
          </a:xfrm>
        </p:grpSpPr>
        <p:sp>
          <p:nvSpPr>
            <p:cNvPr id="208" name=""/>
            <p:cNvSpPr/>
            <p:nvPr/>
          </p:nvSpPr>
          <p:spPr>
            <a:xfrm>
              <a:off x="898200" y="2852640"/>
              <a:ext cx="792000" cy="1152720"/>
            </a:xfrm>
            <a:custGeom>
              <a:avLst/>
              <a:gdLst>
                <a:gd name="textAreaLeft" fmla="*/ 0 w 792000"/>
                <a:gd name="textAreaRight" fmla="*/ 792360 w 792000"/>
                <a:gd name="textAreaTop" fmla="*/ 0 h 1152720"/>
                <a:gd name="textAreaBottom" fmla="*/ 1153080 h 115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839" stAng="10800000" swAng="5400000"/>
                  <a:lnTo>
                    <a:pt x="16571" y="2321"/>
                  </a:lnTo>
                  <a:lnTo>
                    <a:pt x="16571" y="0"/>
                  </a:lnTo>
                  <a:lnTo>
                    <a:pt x="21600" y="6079"/>
                  </a:lnTo>
                  <a:lnTo>
                    <a:pt x="16571" y="12158"/>
                  </a:lnTo>
                  <a:lnTo>
                    <a:pt x="16571" y="9837"/>
                  </a:lnTo>
                  <a:lnTo>
                    <a:pt x="12427" y="9837"/>
                  </a:lnTo>
                  <a:arcTo wR="4911" hR="2323" stAng="16200000" swAng="-5400000"/>
                  <a:lnTo>
                    <a:pt x="7516" y="2160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906200" y="292428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ototyp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11280" y="4149720"/>
              <a:ext cx="93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sig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16200000">
              <a:off x="862920" y="4471560"/>
              <a:ext cx="863640" cy="1225440"/>
            </a:xfrm>
            <a:custGeom>
              <a:avLst/>
              <a:gdLst>
                <a:gd name="textAreaLeft" fmla="*/ 0 w 863640"/>
                <a:gd name="textAreaRight" fmla="*/ 864000 w 863640"/>
                <a:gd name="textAreaTop" fmla="*/ 0 h 1225440"/>
                <a:gd name="textAreaBottom" fmla="*/ 1225800 h 122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839" stAng="10800000" swAng="5400000"/>
                  <a:lnTo>
                    <a:pt x="16571" y="2321"/>
                  </a:lnTo>
                  <a:lnTo>
                    <a:pt x="16571" y="0"/>
                  </a:lnTo>
                  <a:lnTo>
                    <a:pt x="21600" y="6079"/>
                  </a:lnTo>
                  <a:lnTo>
                    <a:pt x="16571" y="12158"/>
                  </a:lnTo>
                  <a:lnTo>
                    <a:pt x="16571" y="9837"/>
                  </a:lnTo>
                  <a:lnTo>
                    <a:pt x="12427" y="9837"/>
                  </a:lnTo>
                  <a:arcTo wR="4911" hR="2323" stAng="16200000" swAng="-5400000"/>
                  <a:lnTo>
                    <a:pt x="7516" y="2160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123640" y="5229360"/>
              <a:ext cx="10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779640" y="4076640"/>
              <a:ext cx="93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s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5400000">
              <a:off x="3418560" y="2781360"/>
              <a:ext cx="863280" cy="1294920"/>
            </a:xfrm>
            <a:custGeom>
              <a:avLst/>
              <a:gdLst>
                <a:gd name="textAreaLeft" fmla="*/ 0 w 863280"/>
                <a:gd name="textAreaRight" fmla="*/ 863640 w 863280"/>
                <a:gd name="textAreaTop" fmla="*/ 0 h 1294920"/>
                <a:gd name="textAreaBottom" fmla="*/ 1295280 h 129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839" stAng="10800000" swAng="5400000"/>
                  <a:lnTo>
                    <a:pt x="16571" y="2321"/>
                  </a:lnTo>
                  <a:lnTo>
                    <a:pt x="16571" y="0"/>
                  </a:lnTo>
                  <a:lnTo>
                    <a:pt x="21600" y="6079"/>
                  </a:lnTo>
                  <a:lnTo>
                    <a:pt x="16571" y="12158"/>
                  </a:lnTo>
                  <a:lnTo>
                    <a:pt x="16571" y="9837"/>
                  </a:lnTo>
                  <a:lnTo>
                    <a:pt x="12427" y="9837"/>
                  </a:lnTo>
                  <a:arcTo wR="4911" hR="2323" stAng="16200000" swAng="-5400000"/>
                  <a:lnTo>
                    <a:pt x="7516" y="2160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10800000">
              <a:off x="3418920" y="4508280"/>
              <a:ext cx="936360" cy="1152360"/>
            </a:xfrm>
            <a:custGeom>
              <a:avLst/>
              <a:gdLst>
                <a:gd name="textAreaLeft" fmla="*/ 0 w 936360"/>
                <a:gd name="textAreaRight" fmla="*/ 936720 w 936360"/>
                <a:gd name="textAreaTop" fmla="*/ 0 h 1152360"/>
                <a:gd name="textAreaBottom" fmla="*/ 1152360 h 115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839" stAng="10800000" swAng="5400000"/>
                  <a:lnTo>
                    <a:pt x="16571" y="2321"/>
                  </a:lnTo>
                  <a:lnTo>
                    <a:pt x="16571" y="0"/>
                  </a:lnTo>
                  <a:lnTo>
                    <a:pt x="21600" y="6079"/>
                  </a:lnTo>
                  <a:lnTo>
                    <a:pt x="16571" y="12158"/>
                  </a:lnTo>
                  <a:lnTo>
                    <a:pt x="16571" y="9837"/>
                  </a:lnTo>
                  <a:lnTo>
                    <a:pt x="12427" y="9837"/>
                  </a:lnTo>
                  <a:arcTo wR="4911" hR="2323" stAng="16200000" swAng="-5400000"/>
                  <a:lnTo>
                    <a:pt x="7516" y="2160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5019840" y="2637000"/>
            <a:ext cx="3873240" cy="33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D is a software development methodology that focuses on building application fast – it involves iterative developm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 uses specialist tools like CASE tools that focus on converting requirements to code very quick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 makes use of prototypes that are iteratively developed (requirements can be refined/defined) into a fall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C6A3-E5E1-47E4-8389-FD2F4775AED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8" dur="2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ystems Development lifecyc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AD Strengt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duced cycle tim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improved productivity with fewer people means lower co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ime-box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roach mitigates cost and schedule ri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ustomer involved throughou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mplete cycle minimizes risk of not achieving customer satisfaction and business n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E23F-1971-45EA-AE19-6D8FABFF663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ystems Development lifecyc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AD disadvant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elerated development proces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must give quick response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the 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k of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ever achieving closu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rd to use with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egacy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quires a system that can be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odulariz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ers and customers must be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mmitted to rapid-fire activitie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an abbreviated time fram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BC82-9FF2-4894-A867-7681A3275CF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important thing to remember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key to a successful IT system is getting the requirements specification r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C54E-59E8-4555-9536-C45769694A9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ussion into what is IT Systems Analysis and Design and why it is import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stand the basic principles of a development lifecyc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in an understanding into the waterfall model and R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uss development methodolog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ABE1-C4DD-457A-89B5-395D8A4190C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as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ete Task 2, Bullet point one – One ho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2AF9-6300-4740-8316-06A236B84BA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velopment Methodolog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development methodology is the way in which the development of a project is carried-o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methodology helps to produce a better quality produ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lps ensure that the user requirements are m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ds project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ds commun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5F60-9C77-46BD-ACAB-A8F0E7767C3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velopment Methodolog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no guarantees that the lifecycle that is chosen will structure an effective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ry methodology has the same basic characteris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ch methodology make use of different tools throughout each stage of the development i.e. design tools, project management tools et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2BEC-FE18-4E2C-8C6A-195C4435C8E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velopment Methodolog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different methodologies that can be used to provide some structure to a project. Examples are shown below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SADM (discussed in the next lectur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ct oriented method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8C44-E8C6-4842-81FF-15AC600216E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velopment Methodolog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ct oriented method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s UML for notation – unified modelling langu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hole system is broken into a number of objects that are designed to interact with each other to produce a working 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d to build applications fa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d within an iterative environment (like RA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F17F-811B-4178-9141-3CBCCD3D248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nefits of effective systems analysis procedur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e risk of projects running over budget or over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od quality systems that are more likely to meet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ageable pro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intainable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exible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15C9-2246-4463-80EF-A5BB2409989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Discussed what is IT Systems Analysis and Design and why it is import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quired a basic knowledge of the principles of a development lifecyc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ined an understanding into the waterfall model and R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ussed development methodolog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0184-5099-4784-A553-7C382091558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ystems analy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Systems analysi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the study of a business problem in order to recommend improvements and to specify the requirements for a sol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a phase that is undertaken when a current system is studied and alternative replacement systems are propos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a detailed analysis of the what is required from a system i.e. user nee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all it is a process that is undertaken which involves research into the current system, researching into what is required from a new system etc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information is then used to generate a clear list of user requirements from which designs can be generated and implemented to develop a system that meets the user requiremen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C6E7-C55F-4FC8-A38E-F4872F8D81C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ystems analy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s do an exampl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agine you have a really old sports car, you now have decided you require a different more sensible car to accommodate your family ne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order to find out what car would be most beneficial to you the following questions could be aske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do you like about your current ca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would you like to change about your current ca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would you require from a new ca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AB8D-3A21-4D9D-AD90-4C3D05E51D5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ystems analy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bother with Systems analysi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use most IT systems f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rcRect l="11649" t="22024" r="38433" b="34390"/>
          <a:stretch/>
        </p:blipFill>
        <p:spPr>
          <a:xfrm>
            <a:off x="1692360" y="2708280"/>
            <a:ext cx="5473440" cy="358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1035-DBD1-4C6A-A41D-F89AAEE8BE6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ystems analy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the reasons for so many IT systems fail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mpany run out of money to finance the project (incomplete syste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ssed requirements (more requirements may have generated during the project lifecy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the time the system is ready it has become out-of-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geo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E4C1-1AB2-4DA3-A239-71F8ABE4207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ystems analy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ing the Internet try to find out what other IT systems have failed – 15 Min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will discuss your findings within the cl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6C57-DF7C-450C-94B0-BF573D88805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ystems analy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can systems analysis be structur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can structure the analysis process by using standardised models called “Development life cycle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84E8-247B-4049-85E6-FF79FE30F1C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ystems analy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ystems Development life cycle (SDL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framework that describes the activities performed at each stage of a software development proje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IT SYSTEMS ANALYSIS AND DESIG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4FA0-C87D-48C3-9210-B7F59C289CE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12:34:30Z</dcterms:created>
  <dc:creator>brendan.coulson</dc:creator>
  <dc:description/>
  <dc:language>en-US</dc:language>
  <cp:lastModifiedBy>brendan.coulson</cp:lastModifiedBy>
  <dcterms:modified xsi:type="dcterms:W3CDTF">2008-10-06T12:58:45Z</dcterms:modified>
  <cp:revision>28</cp:revision>
  <dc:subject/>
  <dc:title>Computer Platforms Week 1</dc:title>
</cp:coreProperties>
</file>