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AC9-2738-4471-8A30-776A09A8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39C-5C80-436D-A179-7C71D9DD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771-C0D1-47A0-AB4D-81923E13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BAB-8431-4FE7-B5DD-7E9B8842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F81-A20C-4AFB-850B-BBAD7671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86CF-D1C5-48F4-9AD1-86784AA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8223-C0FD-4D5E-8ED6-59217151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72E5-90FD-4FD4-A425-0BD1269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682-D9E3-4E22-A148-BCA273F4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2152-081E-4D20-8E2C-C43682C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D78F-29EC-4E00-89B3-C2E52E25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4D8-C616-4890-814A-76723DE3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62D-BE0D-46E7-B578-9E323B6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EAEB-0F26-4AE2-9AED-57CD23E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8B8E-EDED-4CFA-99E8-AAEF7571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CEC7-3A1D-46FF-A0D6-3DC93784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F063-9B43-4938-9EC9-906A1D95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2AB-09A9-46AB-85B1-D7F771D8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EC3-28FF-4A98-BE28-63DA80C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B98-5C93-4B55-B99E-EBFDA79B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60C-D5A2-411E-B75C-18DDC38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5CD-D1B5-41EF-87D3-32B0870C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D8C-F827-4409-8980-CAA45331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6CC-D4E0-4CAA-B04B-85CA558B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1734-B9BC-4C45-8DB0-B022E7C772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272-F28F-4786-B705-29464401D7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into IT Systems Analysis and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FE4A-9977-43B5-8042-AC40176CC1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a SDLC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fall mod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8098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788000" y="2924280"/>
            <a:ext cx="4104720" cy="2808000"/>
            <a:chOff x="4788000" y="2924280"/>
            <a:chExt cx="4104720" cy="2808000"/>
          </a:xfrm>
        </p:grpSpPr>
        <p:sp>
          <p:nvSpPr>
            <p:cNvPr id="185" name=""/>
            <p:cNvSpPr/>
            <p:nvPr/>
          </p:nvSpPr>
          <p:spPr>
            <a:xfrm>
              <a:off x="5074920" y="292428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920" y="29959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4221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5039640" y="454320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0360" y="5301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6360" y="414828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7595280" y="285300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7595640" y="457992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9D2-AD82-4327-B07D-4ABB8B0B68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others, using the Internet try to identify one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find out the benefits of the lifecycle you identified. – 15 minutes hints: Spiral, V-Model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0BD-0769-4C0B-9E60-BAB1C5DF29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30120" y="213660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235400" y="206064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efines needed information, function, behavior, performance and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ig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ata structures, software architecture, interface representations, algorithmic deta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source code, database, user documentation,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081-2FD0-486B-A858-5DF6C51FB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y to under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s struc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experienc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lestones are well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s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lan, staff, tra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ell wh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lity is more importa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 cost or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E08-E002-4BBA-A353-F1C61A9D45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must be know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fr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ables created for each phase are considered frozen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hibits flex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ive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impression of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reflect problem-solving na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oftware development – iterations of p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big bang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opportunity for custom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view the system (until it may be too 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239-963E-452B-9351-ADA575E64B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should the waterfall model be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are ve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ll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defini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sion of an existing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814-ACBA-43B9-B9F5-4F1E9B29B2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applications development (RAD)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2852640"/>
            <a:ext cx="4104720" cy="2808000"/>
            <a:chOff x="611280" y="2852640"/>
            <a:chExt cx="4104720" cy="2808000"/>
          </a:xfrm>
        </p:grpSpPr>
        <p:sp>
          <p:nvSpPr>
            <p:cNvPr id="208" name=""/>
            <p:cNvSpPr/>
            <p:nvPr/>
          </p:nvSpPr>
          <p:spPr>
            <a:xfrm>
              <a:off x="898200" y="285264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6200" y="2924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280" y="414972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862920" y="447156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23640" y="522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9640" y="407664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3418560" y="278136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3418920" y="450828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019840" y="2637000"/>
            <a:ext cx="38732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 is a software development methodology that focuses on building application fast – it involves iterative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uses specialist tools like CASE tools that focus on converting requirements to code very quick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makes use of prototypes that are iteratively developed (requirements can be refined/defined) into a f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D79-57B1-4835-8AFF-83A89E8C98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duced cycle ti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mproved productivity with fewer people means 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-bo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mitigates cost and schedu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stomer involved througho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cycle minimizes risk of not achieving customer satisfaction and busines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4B1-F862-466E-9A4C-64AE1DC9CA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development proces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must give quick respon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 achieving cl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to use wit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ac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a system that can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u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and customers must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tted to rapid-fire activ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abbreviated time fra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9BE-B397-4172-AB4E-A28992E2BA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portant thing to remembe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to a successful IT system is getting the requirements specification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BC5-CD40-44A8-A417-252DE316A1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into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basic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B33-0590-4C3C-9D84-F9429AEA10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ask 2, Bullet point one – One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4C3-D774-40A1-A8B9-0D167CBCF2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velopment methodology is the way in which the development of a project is carried-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ology helps to produce a better quality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ensure that the user requirements are 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pro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0B9-EF09-455F-8E0C-E615243D53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no guarantees that the lifecycle that is chosen will structure an effectiv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thodology has the same basic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ethodology make use of different tools throughout each stage of the development i.e. design tools, project management tools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731-E19B-4E9B-987A-B51E3283AD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different methodologies that can be used to provide some structure to a project. Examples are shown bel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(discussed in the next le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ECC-1CB9-4DB8-9681-91F520248A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UML for notation – unified modell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is broken into a number of objects that are designed to interact with each other to produce a working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build applications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ithin an iterative environment (like R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26A-6D2B-4E05-B2BA-22B6B0EC10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ts of effective systems analysis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risk of projects running over budget or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quality systems that are more likely to mee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abl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a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DBD-5530-4EDF-9FD1-8117870053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a basic knowledge of the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F5A-FA60-410D-A8EC-8DD9F524A6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Systems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the study of a business problem in order to recommend improvements and to specify the requirements for 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phase that is undertaken when a current system is studied and alternative replacement systems are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detailed analysis of the what is required from a system i.e. us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 it is a process that is undertaken which involves research into the current system, researching into what is required from a new system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formation is then used to generate a clear list of user requirements from which designs can be generated and implemented to develop a system that meets the user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BAE-32B0-40E4-A350-E0F56DD944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s do an exam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e you have a really old sports car, you now have decided you require a different more sensible car to accommodate your family n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find out what car would be most beneficial to you the following questions could be ask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lik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like to chang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require from a new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044-8658-4E47-AF53-576DB23D76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bother with Systems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most IT systems f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11649" t="22024" r="38433" b="34390"/>
          <a:stretch/>
        </p:blipFill>
        <p:spPr>
          <a:xfrm>
            <a:off x="1692360" y="2708280"/>
            <a:ext cx="5473440" cy="35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400-E94E-4684-A2E4-67EAD2D56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reasons for so many IT systems fai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run out of money to finance the project (incomplete syst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ed requirements (more requirements may have generated during the project lifecy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time the system is ready it has become out-of-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8C5-18FE-4495-917D-29B4E0DF28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ternet try to find out what other IT systems have failed – 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your findings within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C2F-26F0-4FD8-A587-9940057929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systems analysis be struct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structure the analysis process by using standardised models called “Development life cyc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998-B0D3-44DB-974D-9F5875F1F4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stems Development life cycle (SDL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ramework that describes the activities performed at each stage of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9A4-24DA-4281-B63D-592D67FB4E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2:58:45Z</dcterms:modified>
  <cp:revision>28</cp:revision>
  <dc:subject/>
  <dc:title>Computer Platforms Week 1</dc:title>
</cp:coreProperties>
</file>