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082-1299-46BF-A12B-6453E197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843-BBBF-49EB-9B85-1AFD2935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F71-5054-4BAD-ACF7-417B55F0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B45-2B14-470B-B3C4-556A5585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DCE5-9BBC-4261-8AF3-9D760B9E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0E0F-92D3-4F35-ADE5-DFD14351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5E4D-0DBE-4C12-936D-FF8C2EC3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0CCB-E497-4F8E-B5F2-581C31D0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CEFA-C5C2-46BD-BE4F-DB827704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73EF-B455-46E8-9FD4-5E6398DA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E86F-FF4D-469C-9FF4-6517B38C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7B5-30EE-4631-AA26-48A52FA8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39BF-DE67-48F0-964A-4FABC6C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FB21-1254-43AC-941A-B282FE5F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03CB-1A30-4441-B23B-9C6EDBEC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31F9-8911-4302-9F6C-BEBC3ED1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CB9D-ABEC-4134-8F67-B3A69EBC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8FA-B9EB-4561-A051-2CFE1835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516-9A96-42AB-A3F3-BAEDE4E0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2E2-B575-4DE0-9F93-FBA4F259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E34-902A-40D1-8E3D-95BBA8D0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70BD-BC20-4BC9-9B07-D4D94C1B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8C8-E314-4373-A42B-CD1A3E09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2E2-FA10-42FC-AEFA-88E42314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EC41-71FF-4B6F-90ED-75F0B5B1A0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ABCC-6942-42A5-A785-523818CAE3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&amp;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into IT Systems Analysis and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1521-E7BD-4D34-B1D5-3CF311033D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a SDLC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fall mod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38098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788000" y="2924280"/>
            <a:ext cx="4104720" cy="2808000"/>
            <a:chOff x="4788000" y="2924280"/>
            <a:chExt cx="4104720" cy="2808000"/>
          </a:xfrm>
        </p:grpSpPr>
        <p:sp>
          <p:nvSpPr>
            <p:cNvPr id="185" name=""/>
            <p:cNvSpPr/>
            <p:nvPr/>
          </p:nvSpPr>
          <p:spPr>
            <a:xfrm>
              <a:off x="5074920" y="2924280"/>
              <a:ext cx="792000" cy="11527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2920" y="29959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8000" y="42213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5039640" y="4543200"/>
              <a:ext cx="863640" cy="12254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225440"/>
                <a:gd name="textAreaBottom" fmla="*/ 1225800 h 12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00360" y="5301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6360" y="414828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7595280" y="2853000"/>
              <a:ext cx="863280" cy="12949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7595640" y="4579920"/>
              <a:ext cx="936360" cy="11523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152360"/>
                <a:gd name="textAreaBottom" fmla="*/ 1152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5B6-C103-4D59-832D-DF9C4376CF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others, using the Internet try to identify one o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find out the benefits of the lifecycle you identified. – 15 minutes hints: Spiral, V-Model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A58-5AD4-480B-ACC3-49AB5BEECC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fal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30120" y="2136600"/>
            <a:ext cx="3810240" cy="3886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235400" y="2060640"/>
            <a:ext cx="4800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efines needed information, function, behavior, performance and inte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ig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ata structures, software architecture, interface representations, algorithmic detai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lement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source code, database, user documentation,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A33-205A-421D-B520-54CAB7DB6F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terfall Model 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y to underst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asy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s structu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experienc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lestones are well 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s s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agement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lan, staff, trac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well whe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lity is more importa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 cost or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410-39AF-4EF8-BB7D-E93F372CA6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terfall Model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s must be know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fro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verables created for each phase are considered frozen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hibits flex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give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lse impression of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es not reflect problem-solving natu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oftware development – iterations of ph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e big bang at 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tle opportunity for custom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view the system (until it may be too 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B64-62C1-48E1-A105-7225F9360B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should the waterfall model be u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are ver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ll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definition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sion of an existing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592-EDE6-4848-9F08-9EA92701C2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applications development (RAD)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1280" y="2852640"/>
            <a:ext cx="4104720" cy="2808000"/>
            <a:chOff x="611280" y="2852640"/>
            <a:chExt cx="4104720" cy="2808000"/>
          </a:xfrm>
        </p:grpSpPr>
        <p:sp>
          <p:nvSpPr>
            <p:cNvPr id="208" name=""/>
            <p:cNvSpPr/>
            <p:nvPr/>
          </p:nvSpPr>
          <p:spPr>
            <a:xfrm>
              <a:off x="898200" y="2852640"/>
              <a:ext cx="792000" cy="11527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6200" y="292428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280" y="414972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862920" y="4471560"/>
              <a:ext cx="863640" cy="12254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225440"/>
                <a:gd name="textAreaBottom" fmla="*/ 1225800 h 12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23640" y="522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9640" y="407664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3418560" y="2781360"/>
              <a:ext cx="863280" cy="12949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800000">
              <a:off x="3418920" y="4508280"/>
              <a:ext cx="936360" cy="11523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152360"/>
                <a:gd name="textAreaBottom" fmla="*/ 1152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019840" y="2637000"/>
            <a:ext cx="38732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 is a software development methodology that focuses on building application fast – it involves iterative develop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uses specialist tools like CASE tools that focus on converting requirements to code very quick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makes use of prototypes that are iteratively developed (requirements can be refined/defined) into a f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1C1-FC65-499D-94E3-DDF8D9099C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D 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duced cycle ti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mproved productivity with fewer people means lower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me-box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mitigates cost and schedul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stomer involved througho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lete cycle minimizes risk of not achieving customer satisfaction and business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9C4-8B24-40B4-BACB-C527E1DC06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D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ed development proces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must give quick respons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ver achieving clo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to use wit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ac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a system that can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dular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rs and customers must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itted to rapid-fire activi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abbreviated time fra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661-4DC7-489D-97F2-B80B5FBB63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portant thing to remembe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ey to a successful IT system is getting the requirements specification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D00-6403-4C14-AC00-B43484D4A8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into what is IT Systems Analysis and Design and why it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basic principles of a development lif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understanding into the waterfall model and 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development method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1A3-BE9F-4B86-892E-7F8D513AC3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ask 2, Bullet point one – One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2F8-5A7E-4A3D-8D03-3E050081EC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velopment methodology is the way in which the development of a project is carried-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ology helps to produce a better quality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ensure that the user requirements are 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pro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CED-D82D-4517-9941-E99CC94DC4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no guarantees that the lifecycle that is chosen will structure an effectiv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thodology has the same basic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ethodology make use of different tools throughout each stage of the development i.e. design tools, project management tools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59A-97A3-4F58-AC16-F67AEF63AA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different methodologies that can be used to provide some structure to a project. Examples are shown belo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(discussed in the next lec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oriented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10E-162E-462B-9A46-C4025227E4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UML for notation – unified modelling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ole system is broken into a number of objects that are designed to interact with each other to produce a working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build applications 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ithin an iterative environment (like R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6B2-4417-4D2A-8A02-FDDA8EA8FB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fits of effective systems analysis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risk of projects running over budget or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quality systems that are more likely to meet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able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ab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311-F57A-440C-AFF1-AF1907767B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scussed what is IT Systems Analysis and Design and why it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a basic knowledge of the principles of a development lif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understanding into the waterfall model and 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development method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C32-D8F3-4071-89AA-70ECBE2EFC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Systems analy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the study of a business problem in order to recommend improvements and to specify the requirements for a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phase that is undertaken when a current system is studied and alternative replacement systems are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detailed analysis of the what is required from a system i.e. user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all it is a process that is undertaken which involves research into the current system, researching into what is required from a new system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formation is then used to generate a clear list of user requirements from which designs can be generated and implemented to develop a system that meets the user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3A9-9334-414C-8B47-CC53DDE60D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s do an exam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e you have a really old sports car, you now have decided you require a different more sensible car to accommodate your family n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find out what car would be most beneficial to you the following questions could be ask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like about your current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you like to change about your current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you require from a new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4B3-21D3-4B63-B6F8-3846F777F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bother with Systems analy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most IT systems f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11649" t="22024" r="38433" b="34390"/>
          <a:stretch/>
        </p:blipFill>
        <p:spPr>
          <a:xfrm>
            <a:off x="1692360" y="2708280"/>
            <a:ext cx="5473440" cy="35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8E3-E7D9-454E-B29E-00B974ABF0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reasons for so many IT systems fail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run out of money to finance the project (incomplete syst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ed requirements (more requirements may have generated during the project lifecy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time the system is ready it has become out-of-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6DB-ADB6-436E-9795-BCA2193C13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Internet try to find out what other IT systems have failed – 1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iscuss your findings within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CE4-2688-4243-8BF0-ECC7489FCC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systems analysis be struct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structure the analysis process by using standardised models called “Development life cyc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2C5-A470-4641-BECF-5C2C693896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stems Development life cycle (SDL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ramework that describes the activities performed at each stage of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1A0-C805-4083-8975-A2D11538F4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2:58:45Z</dcterms:modified>
  <cp:revision>28</cp:revision>
  <dc:subject/>
  <dc:title>Computer Platforms Week 1</dc:title>
</cp:coreProperties>
</file>