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A4AA-CB5E-4EAA-82DD-B14D05DC1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C6A2-A44A-413C-846E-7C1E99AF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C984-9866-45B8-8581-A30D3BEA2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C861-1D2E-43D0-A5FB-6E1D6768A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A2BB-065F-46B1-9A61-518E1F539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76E8-CE94-408C-A4CD-62879384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FA31-1C40-4FFD-A3D8-756A74CE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D792-D1AF-425C-B12A-8F1BBE35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7FAB9-1737-445D-A695-A65F19FC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E758-1D35-49DB-B7A0-A3CA2879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B2A0-1804-4135-97BF-449428EC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18AD-A4AC-4EDF-BE7B-E8D4B742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55A8-0CC2-44A7-BDBD-CDAC85FD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BF4D-229D-4090-8BA9-D547E219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A197-4DF7-4DF1-9B40-019ECB64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E3CD-FEE7-410B-B720-776602DD7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7CBFA-C646-4E01-8595-833D420C9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60AE-A635-4A69-B488-78D3E5D9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89FF-B30A-4CCE-83DE-CD5B80B0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0863-1F5D-41A2-AC97-D86468C9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0CEF-3D4D-466F-BF67-D66E7F05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3D3A-1930-423E-BF87-592786F4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B4A7-DEB8-487E-BFA0-A1A45017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C076-D55F-41F9-BC8F-DF933D6C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999A-DE49-4C2E-819F-73ED6300BAEB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874D-42E1-4F14-8663-47018C46EEFD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Visual and Specialised Interf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Software Developments have led to visual systems such as pictures of the earth’s structure and reproductions of images such as a scan of an unborn baby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LCD – Liquid Crystal Display – cash machines, mobile phones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earing and Visual Impair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Specialised interfaces enable disabled users to access and input information using computers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National Library for the Blind \ British Sign Language society has recently developed a bank of sign language covering ICT terms for use by teachers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A tracker ball for a user with RSI (repetitive strain injury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96480"/>
            <a:ext cx="74901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esent and future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Robotic system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Realistic computerised images used in virtual reality games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3D images that appear to leap of the screen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Pop out effect – E-D glasses (eDimensional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Sub titl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48960" y="765000"/>
            <a:ext cx="766116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Speech-activated software has greatly improved since the 1990s where you had to speak slowly and with great clarity, a long pause was often needed to differentiate between words and punctuation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It converts spoken text into electronic text through a microphone. The computer then interprets what is being said and the text appears on the screen as if it is being typed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42920" y="404280"/>
            <a:ext cx="7345440" cy="612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Software that converts text to speech, called speech synthesi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Works in a similar way to voice recognition only in reverse. The user types in text and the computer respond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The famous physicist Stephan Hawkins uses a rod like tool to tap out his text and the computer then speaks for him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A type of artificial intelligence also used in automated telephone services.   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948960" y="549000"/>
            <a:ext cx="766116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           </a:t>
            </a: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Exercises for the brain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Software has been developed to proved exercise for the brain and boost cognitive performance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Allowing users to communicate through input where speaking or gesturing has not been possible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Very valuable tools for disabled users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48960" y="549000"/>
            <a:ext cx="766116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              </a:t>
            </a: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Hostile Environment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Robots with remote control devices are particularly useful and life saving in situations too dangerous for humans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Locating landmines / landing a rocket on Mars to take samples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Remote control is necessary as it allows the user to be a considerable distance away and therefore danger free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lex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8960" y="1341000"/>
            <a:ext cx="7661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Fly by wire systems are used in aircraft to replace human action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Virtual reality systems used to train pilots, astronauts, and racing drivers provide opportunities to learn from life threatening activities without risking human life \ Cost effective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Heads Up Display-worn on the head like glasses – physical movements to interact with the game / golf / tennis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10:05:53Z</dcterms:created>
  <dc:creator>IT Support</dc:creator>
  <dc:description/>
  <dc:language>en-US</dc:language>
  <cp:lastModifiedBy>IT Support</cp:lastModifiedBy>
  <dcterms:modified xsi:type="dcterms:W3CDTF">2009-01-24T11:23:17Z</dcterms:modified>
  <cp:revision>8</cp:revision>
  <dc:subject/>
  <dc:title>Visual and Specialised Interfaces</dc:title>
</cp:coreProperties>
</file>