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76D-3DBA-489B-A700-69E97A22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DDF-C1C9-45F4-8DBC-CF0036C6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9B1-F966-490A-ACA8-1B762521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C61-5A8F-4457-AE18-7DD57192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E0E5-DF57-4CFE-8D8C-AC30C0C8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964D-880B-49FC-A962-76EAF50D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EB3C-FE3B-4D0F-B155-25C091B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B167-CC26-487A-BD6A-ADAD9E9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3778-3235-4020-946E-4FA12B33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CEBE-0ABE-4457-B246-4ACC285E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E16F-45F4-4471-B537-1EABC1A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C28-4E0F-4BE3-9962-709B2B30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E7FE-2D67-4883-A99F-E6E0320F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9576-0161-493E-AE84-7E01C07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F284-E949-4CDB-B3A0-6F17071C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4862-A559-4648-B523-274DA5B7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BA7F-350D-4537-B299-75E8CF4F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2BF-D2F9-40F1-8F0E-E1DAB4F8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000-D245-4DDC-A21D-5AD4DB6D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E10-03FE-4E56-A1B0-5ABB727C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B85-4F7A-4ABB-9955-C9D1683B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B8E-4166-44C5-B3CA-E890D6B6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4FC-8AA0-428F-BDAA-1C328FD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89E-8D87-49F1-B4DA-088DFBEB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2D4-04DF-439C-B018-69A31A67D73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E1C6-6F68-49FB-84A5-30947C8D180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sual and Specialised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Developments have led to visual systems such as pictures of the earth’s structure and reproductions of images such as a scan of an unborn baby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CD – Liquid Crystal Display – cash machines, mobile phon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ring and Visual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cialised interfaces enable disabled users to access and input information using compu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National Library for the Blind \ British Sign Language society has recently developed a bank of sign language covering ICT terms for use by teach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racker ball for a user with RSI (repetitive strain injur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6480"/>
            <a:ext cx="74901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and 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ic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alistic computerised images used in virtual reality gam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3D images that appear to leap of the scree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op out effect – E-D glasses (eDimensiona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ub tit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765000"/>
            <a:ext cx="7661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ech-activated software has greatly improved since the 1990s where you had to speak slowly and with great clarity, a long pause was often needed to differentiate between words and punctuatio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It converts spoken text into electronic text through a microphone. The computer then interprets what is being said and the text appears on the screen as if it is being typed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345440" cy="61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that converts text to speech, called speech synthesi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orks in a similar way to voice recognition only in reverse. The user types in text and the computer respond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famous physicist Stephan Hawkins uses a rod like tool to tap out his text and the computer then speaks for him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ype of artificial intelligence also used in automated telephone services.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xercises for the brai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has been developed to proved exercise for the brain and boost cognitive performanc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llowing users to communicate through input where speaking or gesturing has not been possibl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ery valuable tools for disabled us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ostile Environ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s with remote control devices are particularly useful and life saving in situations too dangerous for human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ocating landmines / landing a rocket on Mars to take sampl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mote control is necessary as it allows the user to be a considerable distance away and therefore danger fre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ly by wire systems are used in aircraft to replace human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irtual reality systems used to train pilots, astronauts, and racing drivers provide opportunities to learn from life threatening activities without risking human life \ Cost effectiv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eads Up Display-worn on the head like glasses – physical movements to interact with the game / golf / tenni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05:53Z</dcterms:created>
  <dc:creator>IT Support</dc:creator>
  <dc:description/>
  <dc:language>en-US</dc:language>
  <cp:lastModifiedBy>IT Support</cp:lastModifiedBy>
  <dcterms:modified xsi:type="dcterms:W3CDTF">2009-01-24T11:23:17Z</dcterms:modified>
  <cp:revision>8</cp:revision>
  <dc:subject/>
  <dc:title>Visual and Specialised Interfaces</dc:title>
</cp:coreProperties>
</file>