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5ABD-82CC-47B7-86A9-FBD79441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9C7E-0BC6-4BC2-88BD-19068B10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B80-BE96-4FA8-84D7-653113F4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ACD-8F24-483D-ABDE-7E11D740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91E3-74CC-47A6-ACB7-BDF8885A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04E9-8C0B-45A5-A05D-28F463DA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5C8F-F1FE-485D-90B9-0435379A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CA0A-ECE2-4FB4-BEDA-894529D1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DFFD-5A1D-4FA3-A488-4E342358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EDB6-34D1-4BA1-8225-0002B0FD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EC2C-1FAB-4A96-AC2E-343EC5BB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E030-01B9-473B-B351-52BEBDB6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9379-B1A5-4A7D-A652-5EA8A721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054F-2EC9-4780-B788-799D243E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A237-DEEC-4226-9526-C1BE7C68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464D-6140-40D8-9A9F-B122BC6D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02D7-FC36-49D4-9DF9-FF8DA84C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D8BE-F51B-4ED3-9E69-84FEA589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04E0-338B-4499-B8A0-EC4D84C7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5EF1-FC21-4A5B-A0AB-DF4093B9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0BA-BFD0-4A28-8A55-A89AEE12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13F-F86D-48AA-8B99-CF18F54C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AB8F-6FF3-4C94-AFC6-E24E4A56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879E-77D0-48A7-A62C-9E611C1A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8496-3512-4A01-BBC9-99DF2DEA411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A1BD-BC6C-405B-99F3-200F8369681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isual and Specialised 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oftware Developments have led to visual systems such as pictures of the earth’s structure and reproductions of images such as a scan of an unborn baby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LCD – Liquid Crystal Display – cash machines, mobile phone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earing and Visual Impair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pecialised interfaces enable disabled users to access and input information using computer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National Library for the Blind \ British Sign Language society has recently developed a bank of sign language covering ICT terms for use by teacher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A tracker ball for a user with RSI (repetitive strain injury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96480"/>
            <a:ext cx="74901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and future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Robotic syste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Realistic computerised images used in virtual reality game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3D images that appear to leap of the screen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Pop out effect – E-D glasses (eDimensional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ub titl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48960" y="765000"/>
            <a:ext cx="766116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peech-activated software has greatly improved since the 1990s where you had to speak slowly and with great clarity, a long pause was often needed to differentiate between words and punctuation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It converts spoken text into electronic text through a microphone. The computer then interprets what is being said and the text appears on the screen as if it is being typed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42920" y="404280"/>
            <a:ext cx="7345440" cy="612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oftware that converts text to speech, called speech synthesi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Works in a similar way to voice recognition only in reverse. The user types in text and the computer respond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The famous physicist Stephan Hawkins uses a rod like tool to tap out his text and the computer then speaks for him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A type of artificial intelligence also used in automated telephone services.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48960" y="549000"/>
            <a:ext cx="766116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Exercises for the brain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oftware has been developed to proved exercise for the brain and boost cognitive performanc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Allowing users to communicate through input where speaking or gesturing has not been possibl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Very valuable tools for disabled user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48960" y="549000"/>
            <a:ext cx="766116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             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Hostile Environmen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Robots with remote control devices are particularly useful and life saving in situations too dangerous for human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Locating landmines / landing a rocket on Mars to take sample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Remote control is necessary as it allows the user to be a considerable distance away and therefore danger fre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341000"/>
            <a:ext cx="7661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Fly by wire systems are used in aircraft to replace human ac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Virtual reality systems used to train pilots, astronauts, and racing drivers provide opportunities to learn from life threatening activities without risking human life \ Cost effectiv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Heads Up Display-worn on the head like glasses – physical movements to interact with the game / golf / tennis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0:05:53Z</dcterms:created>
  <dc:creator>IT Support</dc:creator>
  <dc:description/>
  <dc:language>en-US</dc:language>
  <cp:lastModifiedBy>IT Support</cp:lastModifiedBy>
  <dcterms:modified xsi:type="dcterms:W3CDTF">2009-01-24T11:23:17Z</dcterms:modified>
  <cp:revision>8</cp:revision>
  <dc:subject/>
  <dc:title>Visual and Specialised Interfaces</dc:title>
</cp:coreProperties>
</file>