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50B-4EFE-4C65-AC07-E55EFC65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D2E-7465-4F9C-AD8C-726B331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9C1-52C5-4B88-9F7A-91844CF6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A48-2E97-4696-86EF-86A4EA91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5A32-1AFB-4B15-8743-A3202F18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AB3-145A-4EE2-B2D3-92331DE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0493-9E9A-49A2-9234-C819AFD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732E-2575-4EB0-B877-AC939F5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2A76-BE1D-4801-A9DA-4C1DEF22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E9D1-B859-4B2A-A889-4C64DC34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9B6-23B9-4B68-BB0A-73F0ACF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B9A-C03E-448D-A993-8B51B97C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30BA-6F51-4818-8FC4-228E16F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6C40-40D4-436D-841E-45035E1B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99FD-200E-4B7F-82DA-44E4E7D5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292E-3920-448C-8A45-68215A0E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740A-419C-4770-8232-DDACED81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631-285B-49C5-B240-7480FCC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319-2AD4-44E2-886A-2BAD9C3A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C4B-59BF-410E-AF28-5171214A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44B-0268-4876-9E9C-A272C71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A27-4A45-419F-9D62-B0D632F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123-C3DF-4B28-8482-3218675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AF8-32EC-46CC-943E-23BF53C9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65F7-FADC-4E52-A61F-803838A782A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A3C2-D0A4-49F0-B8AB-0C95ECA5454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sual and Specialise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Developments have led to visual systems such as pictures of the earth’s structure and reproductions of images such as a scan of an unborn bab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CD – Liquid Crystal Display – cash machines, mobile phon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ring and Visual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cialised interfaces enable disabled users to access and input information using compu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National Library for the Blind \ British Sign Language society has recently developed a bank of sign language covering ICT terms for use by teach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racker ball for a user with RSI (repetitive strain injur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6480"/>
            <a:ext cx="7490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and 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ic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alistic computerised images used in virtual reality gam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3D images that appear to leap of the scre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op out effect – E-D glasses (eDimensio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ub tit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765000"/>
            <a:ext cx="7661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ech-activated software has greatly improved since the 1990s where you had to speak slowly and with great clarity, a long pause was often needed to differentiate between words and punctuatio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It converts spoken text into electronic text through a microphone. The computer then interprets what is being said and the text appears on the screen as if it is being typed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345440" cy="61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that converts text to speech, called speech synthesi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orks in a similar way to voice recognition only in reverse. The user types in text and the computer respond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famous physicist Stephan Hawkins uses a rod like tool to tap out his text and the computer then speaks for him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ype of artificial intelligence also used in automated telephone services.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xercises for the brai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has been developed to proved exercise for the brain and boost cognitive performanc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llowing users to communicate through input where speaking or gesturing has not been possibl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ery valuable tools for disabled us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ostile Environ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s with remote control devices are particularly useful and life saving in situations too dangerous for human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ocating landmines / landing a rocket on Mars to take sampl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mote control is necessary as it allows the user to be a considerable distance away and therefore danger fre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ly by wire systems are used in aircraft to replace human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irtual reality systems used to train pilots, astronauts, and racing drivers provide opportunities to learn from life threatening activities without risking human life \ Cost effectiv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eads Up Display-worn on the head like glasses – physical movements to interact with the game / golf / tenni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05:53Z</dcterms:created>
  <dc:creator>IT Support</dc:creator>
  <dc:description/>
  <dc:language>en-US</dc:language>
  <cp:lastModifiedBy>IT Support</cp:lastModifiedBy>
  <dcterms:modified xsi:type="dcterms:W3CDTF">2009-01-24T11:23:17Z</dcterms:modified>
  <cp:revision>8</cp:revision>
  <dc:subject/>
  <dc:title>Visual and Specialised Interfaces</dc:title>
</cp:coreProperties>
</file>