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12A-6F4C-41E1-A151-A50C2E1E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9C8-426A-48F9-9007-FE5BB20D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6C4-59B2-4FBB-9A98-CED9C996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00A-A539-40E8-B0B8-DA9340C8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B29F-8637-4543-B0AF-B0B88A8C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6242-E9B4-41DB-B9B7-B38BDAF9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E1A8-2CBE-4A9F-B1D7-C0EC117E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374C-B4C2-4734-93E6-DDB5A13E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1D34-34FF-4031-A8E0-9456C3E0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A67A-CB49-466A-B67F-C3D9215C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01AC-B21E-45DF-9B2D-2F75A4FD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018-385F-4025-911A-52057ED6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F623-9183-4662-9520-6459E821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5F75-CF17-4A89-B73A-7259D64E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AA5C-A682-4D7E-9C97-371238EC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3116-94A4-40F1-8835-48D7880E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70FE-ACA6-4F9D-A829-5FA4C416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3C2-5C93-43F4-9E7C-EA40CB19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D5B-CD26-4FE7-85FC-5938A3AA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439-FD70-462C-B59E-ED769B05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056-22F4-4FDA-87A3-C51AD5D4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ACE-83A9-438F-9C5B-171C53F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83C6-5A4C-458A-B24A-09F31006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F42-2092-457B-B018-BECD69B7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A1FE-03E0-4347-A688-7E633BB4CD2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F931-3C99-4396-9DAE-A6B88EB26FD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sual and Specialised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Developments have led to visual systems such as pictures of the earth’s structure and reproductions of images such as a scan of an unborn baby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CD – Liquid Crystal Display – cash machines, mobile phon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aring and Visual Impair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pecialised interfaces enable disabled users to access and input information using comput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National Library for the Blind \ British Sign Language society has recently developed a bank of sign language covering ICT terms for use by teach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 tracker ball for a user with RSI (repetitive strain injury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96480"/>
            <a:ext cx="74901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and futur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obotic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ealistic computerised images used in virtual reality gam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3D images that appear to leap of the scree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Pop out effect – E-D glasses (eDimensional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ub titl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48960" y="765000"/>
            <a:ext cx="76611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peech-activated software has greatly improved since the 1990s where you had to speak slowly and with great clarity, a long pause was often needed to differentiate between words and punctuation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It converts spoken text into electronic text through a microphone. The computer then interprets what is being said and the text appears on the screen as if it is being typed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42920" y="404280"/>
            <a:ext cx="7345440" cy="612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that converts text to speech, called speech synthesi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Works in a similar way to voice recognition only in reverse. The user types in text and the computer respond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The famous physicist Stephan Hawkins uses a rod like tool to tap out his text and the computer then speaks for him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 type of artificial intelligence also used in automated telephone services.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48960" y="549000"/>
            <a:ext cx="76611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Exercises for the brain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has been developed to proved exercise for the brain and boost cognitive performanc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llowing users to communicate through input where speaking or gesturing has not been possibl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Very valuable tools for disabled us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549000"/>
            <a:ext cx="76611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ostile Environ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obots with remote control devices are particularly useful and life saving in situations too dangerous for human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ocating landmines / landing a rocket on Mars to take sampl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emote control is necessary as it allows the user to be a considerable distance away and therefore danger fre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Fly by wire systems are used in aircraft to replace human a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Virtual reality systems used to train pilots, astronauts, and racing drivers provide opportunities to learn from life threatening activities without risking human life \ Cost effectiv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eads Up Display-worn on the head like glasses – physical movements to interact with the game / golf / tenni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0:05:53Z</dcterms:created>
  <dc:creator>IT Support</dc:creator>
  <dc:description/>
  <dc:language>en-US</dc:language>
  <cp:lastModifiedBy>IT Support</cp:lastModifiedBy>
  <dcterms:modified xsi:type="dcterms:W3CDTF">2009-01-24T11:23:17Z</dcterms:modified>
  <cp:revision>8</cp:revision>
  <dc:subject/>
  <dc:title>Visual and Specialised Interfaces</dc:title>
</cp:coreProperties>
</file>