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3D6E5-9863-4834-968E-20115ACE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F313A-36B5-4818-A8C5-3F4FD8A5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4F7C2-878C-4501-9861-93349B68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3D666-0872-431F-BE8C-9249FE24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7699-5329-4724-828A-713DF740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41F2-6FBD-4464-9FD8-8318F447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4DDC-D5D7-48D0-8584-7213E6B8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6B60-0C89-478C-9BA0-E6EB629D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FFB4-12CC-4D6D-8E54-F837A6D8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9521-53E8-4FED-AC2C-683BD118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CFA8-ABE9-485B-9706-E0F8A09B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99A4-2FDC-4196-A8E8-3E7EDF02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C3DA-A39D-411A-BDD0-F86BFBDD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726C-DC38-42C4-A6CE-D21CF11E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6FD4-89EE-4723-A0CF-92D35B69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7C57-BAD2-4CC7-94C5-A468429D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007C-12FA-4C86-BF22-0F1D9A02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7850-8191-499B-B4D4-D2438ECE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A4DC-932A-466C-9FBE-4E47B440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91888-811B-488D-94C2-3EC6346F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85C5-A384-482F-8E73-E5EB1A04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64CB6-880F-4994-A4D2-94D1BCCE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AE3F6-E3D4-4519-B9DC-2A7BE444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1576-4572-4C92-B0BE-3D5C921A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EFDA-E823-4D1D-B2C4-99F1C741D8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B303-3FE8-4D84-8E85-8AAF893747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ervices Provided by a Network Operating System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main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ages servers, printers and comms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.k.a Directory Services or Active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coun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 management for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 management for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uthentication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sswor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g-in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35:17Z</dcterms:created>
  <dc:creator>Administrator</dc:creator>
  <dc:description/>
  <dc:language>en-US</dc:language>
  <cp:lastModifiedBy>Administrator</cp:lastModifiedBy>
  <dcterms:modified xsi:type="dcterms:W3CDTF">2009-12-07T14:35:59Z</dcterms:modified>
  <cp:revision>1</cp:revision>
  <dc:subject/>
  <dc:title>Services Provided by a Network Operating System</dc:title>
</cp:coreProperties>
</file>