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588C-6E23-46FA-AD8F-CEDD2A9F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1586-3082-49FB-B5F3-29BEF6FD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C1FE-0559-4734-B8D1-96C8325A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9363-AB84-48A9-8EB0-675D0D5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2FFE-902A-46D1-A916-6A044F43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CEC-6455-4916-855D-41C334D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6FB-88BB-450C-B842-ECA9C13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F3F4-18B9-40FA-92BA-6564FF0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E064-8376-416E-B08C-90ECE8A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00B5-7175-4DF8-A406-F7F8D87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802-AAA3-48BB-88F2-72263E3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8E51-74E0-4392-A1A5-C964E12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004-2521-4C30-959B-2E98DED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B2A-6E05-4801-90E9-D2C3363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5240-B7EA-46A9-9676-A65E71E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9B8-F15A-4357-80A6-A535397B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999A-4B71-47E5-8FC5-5B8A0204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7772-94C8-47D8-983D-3A40F6E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1EC-62E1-491C-9583-A9EECDB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AD2C-7D9C-4A01-B0EF-EA5523B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19E1-9DDA-46A2-A8B0-D945AEC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63FE-B469-4097-B1E5-40F4B038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4732-91AE-42A4-A2B6-28E8E7E3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0D50-786F-4A6C-86EE-3FEE632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2F87-2C37-4719-964A-9B6AEF0709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EA0-2F02-4AF0-BE45-0244F50CA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a Network Operating Syst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m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s servers, printers and comms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k.a Directory Services or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wor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g-i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Administrator</cp:lastModifiedBy>
  <dcterms:modified xsi:type="dcterms:W3CDTF">2009-12-07T14:35:59Z</dcterms:modified>
  <cp:revision>1</cp:revision>
  <dc:subject/>
  <dc:title>Services Provided by a Network Operating System</dc:title>
</cp:coreProperties>
</file>