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190D-6D0D-498D-BE5F-2B496CB0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4ED58-B486-447B-8C81-9AB9AFEF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A4861-86F6-473D-B672-8DFAAA86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1CED8-A958-4D0F-A9DD-51158DB5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19A3-4F72-4285-B07E-3598A4E5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9166-A97E-475E-B2B0-9352AE05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29A6-E962-4991-A37B-B78A4870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6B38-3C02-40CD-B0E2-C332EE14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684F-7086-40AE-A9C7-A0A13CF7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ECAF-39B0-4B5E-8E64-5B432C8B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8F3F-2A1B-4658-92A2-C8788413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FDB16-D9BD-4DEE-95DD-F50C2E8C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1F70-332A-481C-A871-F3FC608C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5BC6-82A8-4B5D-856B-447A8396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F1E1-C6C8-4294-88D8-8D5AC2A0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3DC1-9CFF-4072-9B86-1B4504FD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AE5F-8A92-4879-AE32-FB947B48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2A0F-86E6-44C2-8555-F9998A4B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36F14-8727-4127-A022-E0EB8F36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034A9-2D77-47B2-8769-0AAA6FA9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CF695-0A82-4D41-943F-2CB32FA5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43B7B-7D4F-4D4D-BCCE-8EF57E85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D907C-B593-430C-8F69-8628A623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7AA14-1C88-4C72-A6C2-B45D47A6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231C-7063-4AC0-BB56-57B0915AB3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50B3-8DCC-491A-B1A6-12655FC196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ervices Provided by a Network Operating System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omain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ages servers, printers and comms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.k.a Directory Services or Active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coun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 management for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 management for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uthentication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sswor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g-in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4:35:17Z</dcterms:created>
  <dc:creator>Administrator</dc:creator>
  <dc:description/>
  <dc:language>en-US</dc:language>
  <cp:lastModifiedBy>Administrator</cp:lastModifiedBy>
  <dcterms:modified xsi:type="dcterms:W3CDTF">2009-12-07T14:35:59Z</dcterms:modified>
  <cp:revision>1</cp:revision>
  <dc:subject/>
  <dc:title>Services Provided by a Network Operating System</dc:title>
</cp:coreProperties>
</file>