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1BC3F-CA0C-4598-8550-29B2D7CED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9968B-96DF-49FA-B6DE-1E1B4BB69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2DA7A-E6ED-4F87-A23C-8AE6CD0E4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6994D-51ED-4A83-8BDF-9E6C11267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E358A-11B9-46ED-900F-9664221A3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CBE3C-E3C6-4CA7-9F91-BE85903EE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C2B37-5A30-46E3-B352-913ECBDCC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37BAC-A76C-4955-8435-E549F47C8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4034B-3F7A-4DEA-97D5-F2896A664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1ADC0-1475-4C02-B8D2-A725693FE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757AB-FA8C-4FAC-BDE2-7B3DA452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A8821-C157-439B-B079-73393275F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C8CE4-7E40-4932-B5E2-A6AD4C01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9086A-729B-4007-8DC4-B93F13B9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DB5B0-7DE9-4F88-BFDB-FA14AC270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D3713-712A-4AFE-B4C1-D6386467C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DD6B9-B0C9-4C2F-85A7-B5CF89F17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F5FEC-E65A-4C30-98F1-ECEC20F28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F20CF-7EC8-42AA-B0C7-7D0E4BD55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DF01E-6F4E-42A4-B671-A213B3465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01F42-D910-45AB-904A-39FB223E8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C0BC4-D31A-4D0A-8F01-80F9B5B9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10D73-7366-4F98-AEA5-F7DAD2C7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9987F-E8A8-44AF-AA9B-200D11F4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9E070-6904-4B7A-9F46-3AE11B8553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DB6EA-B36E-4712-B10D-9ECD8C418C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Services Provided by a Network Operating System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omain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nages servers, printers and comms re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.k.a Directory Services or Active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ccount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c management for us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c management for grou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uthentication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ssword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og-in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4:35:17Z</dcterms:created>
  <dc:creator>Administrator</dc:creator>
  <dc:description/>
  <dc:language>en-US</dc:language>
  <cp:lastModifiedBy>Administrator</cp:lastModifiedBy>
  <dcterms:modified xsi:type="dcterms:W3CDTF">2009-12-07T14:35:59Z</dcterms:modified>
  <cp:revision>1</cp:revision>
  <dc:subject/>
  <dc:title>Services Provided by a Network Operating System</dc:title>
</cp:coreProperties>
</file>