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3CE0-C263-47C8-8B62-EFF1F4CA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8550-B300-48B4-8C32-6BD82B1F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90B6-6549-4507-9204-3EEBE6B3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8257-05B3-4908-B599-3B2E03F9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6893-ADAE-4EDC-A2D9-E6A14A1B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B211-7657-4BCE-A8B0-0CDC20A0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5B0A-9C68-4167-A9DC-F2A7E561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2F7A-6F11-4BB4-8969-CD7420DF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AE79-795D-4E89-93B6-71B8494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7DF4-80EE-49FD-96A2-BBA6123B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47F9-E60B-4B87-BA57-0E4096F4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37E7-DEEB-40C6-B139-F92895E6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4AFB-36D7-425F-98C8-7FA9CFF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8788-DC9E-4C45-B925-4A5BECB6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E96A-0312-45B8-8164-A2E45633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219A-5CC9-476B-954D-04022C60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A217-A10E-4C13-90F6-EC11DFD5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8FA5-9890-4227-8A2A-0D8DF93A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90DC-B010-4031-BF53-0AD18BA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5F05-E0E9-4372-9DD6-B77DF4F4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F7B8-A4FB-4F93-B285-C01AD455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E21C-2671-47F7-8F33-DC9F496F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A5A2-9DCB-44D4-A11F-8CA9964B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A315-4D86-4246-AB2B-A26F68E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D5C3-9CAD-4942-9507-F795061685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ED87-A79B-4879-8FC8-8D6F5D2DA2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Network Operating System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ain an insight into Network Operating Systems (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an insight into the types of services that NOS provide to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specifically to implement and maintai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d on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Window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l Ne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for networks with &gt;10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us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ecommun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rectory Serv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k.a.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p &amp; 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elecommun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lay Chat (IR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File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onymous f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-to-pe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z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tto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u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ndows messe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w for download (and upload) of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es transferred as attac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internet access on larg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ared Resources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ag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bile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-fi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Dan O'Donoghue</cp:lastModifiedBy>
  <dcterms:modified xsi:type="dcterms:W3CDTF">2009-12-09T00:04:17Z</dcterms:modified>
  <cp:revision>2</cp:revision>
  <dc:subject/>
  <dc:title>Services Provided by a Network Operating System</dc:title>
</cp:coreProperties>
</file>