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161C20-42E8-4BC9-820B-EA2E0CAE2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4E1247-3E0F-494F-B043-071A9CF5A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57F2AE-71EC-476A-A690-EB0DF4AC9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BA57E3-E318-497A-B751-BA180FA70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92826-F07F-4DFA-86D5-F7B5E6A72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85C9E-25CB-4E2D-8E48-74DF344B5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812B7-F32F-4DC8-973D-A815316EB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9EC6B-1ABA-4731-AFCF-4E6C7D92A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A318C-55F1-4DAB-BE22-D51903B3A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9D356-25C7-423C-A83D-3CFD7C89B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64B60-4291-42B3-B54B-5ADA50817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74B6C3-B878-4977-8B81-92421B10E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E0752-B8AC-4EAD-861C-C6FA4BAAA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B24DD-9F45-4F90-A8F1-DA531E3B4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A28A1-A525-42E5-B0F0-32354ECB3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917F8-F2E1-4496-8944-87A390D62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46AE4-9ECA-4BF5-8523-2ABA770F9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D33B40-2867-43CA-9950-D372D2E77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F6545F-B357-4047-A91C-6BA2C6C1D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80BA37-E4DA-4323-9AA5-3F3DD5A2F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DF8209-38F5-495C-9E4D-CFF3D1311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D444A8-AA05-4E9A-9F55-07006A6FF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25A952-0544-4706-ABD8-0C0CA3D31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F1359D-62CE-4439-9148-AB137E192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246C3-F32C-43A2-81CF-EF23F3C1F45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CDDBD-879E-42FB-82D7-D0A53F80246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Services Provided by Network Operating Systems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ssion Ai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gain an insight into Network Operating Systems (NO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ain an insight into the types of services that NOS provide to networ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Network Operating System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ritten specifically to implement and maintain networ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stalled on serv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S Windows Serv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vell Netw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nu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quired for networks with &gt;10 devi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vide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service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o networ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nage user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righ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Services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rectory Servic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elecommunication Servic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le Servic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pplication Servic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Directory Service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Domai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Contr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.k.a. Active Direct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count Manag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count management for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count management for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uthentication Manag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ssword prote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ip &amp; p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fdef6"/>
                </a:solidFill>
                <a:latin typeface="Arial"/>
              </a:rPr>
              <a:t>Telecommunication Services</a:t>
            </a:r>
            <a:endParaRPr b="0" lang="en-US" sz="4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mun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ernet Relay Chat (IR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oI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mote Ac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rminal servi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mote deskto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fdef6"/>
                </a:solidFill>
                <a:latin typeface="Arial"/>
              </a:rPr>
              <a:t>File Services</a:t>
            </a:r>
            <a:endParaRPr b="0" lang="en-US" sz="4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t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nonymous ft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eer-to-peer syste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Kaza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Bittorr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Blubs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ire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Windows messeng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ttp websi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llow for download (and upload) of fi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mai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iles transferred as attach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fdef6"/>
                </a:solidFill>
                <a:latin typeface="Arial"/>
              </a:rPr>
              <a:t>Application Services</a:t>
            </a:r>
            <a:endParaRPr b="0" lang="en-US" sz="4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plication softwa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tabase ser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crosoft 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rac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b ser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-commer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mai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xy ser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nage internet access on large syste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fdef6"/>
                </a:solidFill>
                <a:latin typeface="Arial"/>
              </a:rPr>
              <a:t>Application Services</a:t>
            </a:r>
            <a:endParaRPr b="0" lang="en-US" sz="4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hared Resources Prin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torage Sp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Vo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Mobile work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Wi-fi appli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uthent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rust certifica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Biometr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7T14:35:17Z</dcterms:created>
  <dc:creator>Administrator</dc:creator>
  <dc:description/>
  <dc:language>en-US</dc:language>
  <cp:lastModifiedBy>Dan O'Donoghue</cp:lastModifiedBy>
  <dcterms:modified xsi:type="dcterms:W3CDTF">2009-12-09T00:04:17Z</dcterms:modified>
  <cp:revision>2</cp:revision>
  <dc:subject/>
  <dc:title>Services Provided by a Network Operating System</dc:title>
</cp:coreProperties>
</file>