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E527-F891-43CE-B1FD-3B47E8DC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06CD-8183-49B1-B95D-A548B0B9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16CC-94C1-4FB6-8F06-3DC4CE6B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845E-1043-4992-8E2A-5EFCE944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0DC9-9032-4943-8DD4-26647D38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4F52-BDDF-4096-9DD6-1E93A377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C714-A082-4F60-AA9D-011A6D48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6D4C-1D43-433E-9A7A-C865632B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5082-F827-4E2A-B587-E370B901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023A-89F7-4EE7-BF36-BC2DC592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9BC3-F9F8-4D48-A3ED-749C103B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AEC3-96FA-4637-8CE5-8F83108F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762D-1BFB-440A-980F-3A5411A0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C682-0B1D-4A6E-913F-22E57A87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CB8F-0C25-498A-BA4D-B0BB541A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EB4B-1C23-41E1-8230-C6AFBA74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E3E1-CE66-4821-B655-BB9D3FF3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A00B-0087-4835-95C6-89008788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33A9-734F-435D-9EAC-6AF54F38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F2C7-C179-44D9-8CCD-177298A3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87DC-FB59-451C-B471-1DB6DAE4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64FF-FE75-4277-A096-7D50210D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35E8-1E4C-41ED-8187-2ACED47C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71AD-C246-48A9-9F73-15C5FB33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E158-928A-4293-BCBE-C1DFC0C717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6DEA-D073-4BE7-80E7-D8B9132276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rvices Provided by Network Operating System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sion 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ain an insight into Network Operating Systems (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an insight into the types of services that NOS provide to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twork Operating Syst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specifically to implement and maintain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d on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 Window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ll Ne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d for networks with &gt;10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 us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rvic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rectory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ecommunication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e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ication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rectory Serv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k.a. Activ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 management for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 management for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p &amp; p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elecommun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Relay Chat (IR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l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File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onymous f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-to-pe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az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itto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lu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ndows messe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ttp web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ow for download (and upload) of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les transferred as attach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Appl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 internet access on larg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Appl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ared Resources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rag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bile 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-fi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ust certif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me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35:17Z</dcterms:created>
  <dc:creator>Administrator</dc:creator>
  <dc:description/>
  <dc:language>en-US</dc:language>
  <cp:lastModifiedBy>Dan O'Donoghue</cp:lastModifiedBy>
  <dcterms:modified xsi:type="dcterms:W3CDTF">2009-12-09T00:04:17Z</dcterms:modified>
  <cp:revision>2</cp:revision>
  <dc:subject/>
  <dc:title>Services Provided by a Network Operating System</dc:title>
</cp:coreProperties>
</file>