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7704-451B-4646-93CB-5D216098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DF6E-75A1-4770-BDA1-D19F106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2CBF-2F06-4CAF-B4D8-F4B583BC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03EC-A305-40A2-AA18-6FA8AF44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B31E-6ECB-4AA2-9270-15BBDAD4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9EBF-0E6E-4AC9-8630-40CA1C63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D796-F5F2-480E-B535-F6DDF0A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2AD-8261-4F70-A008-078BCC61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35DA-64C9-4520-8821-94C6F60C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0087-CA5F-4FAF-98A1-7DF3E80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11F-1EFE-4E42-804B-5BE25D10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F93E-6037-4996-B644-D951DCA5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2CA5-80A6-4F75-B0FC-09E0F6BA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2275-F775-4580-A5BD-A6F94BED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CA0B-87ED-4BE5-AA7A-12221442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3E85-2DF4-43E9-BAAD-976D775F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5EE0-DBA0-493C-B84B-3D45B1E8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5AF2-C00B-4C52-A16B-3B86721E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631A-CBC8-49E8-8354-10AA9D0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DBA5-9C73-4731-A242-DBC7B993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3070-16E7-454C-A5E3-DFCD1798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05E3-8E8F-4412-B575-AD95B965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77CE-8D00-4E69-9C19-F79CF41E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0F1B-9095-45E0-9517-3B418B0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BBCA-2CC1-474D-AB2B-8D1D7196C8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BBC4-863B-41D0-ADD0-AB8D026CAD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Network Operating System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an insight into Network Operating Systems (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an insight into the types of services that NOS provide to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specifically to implement and mainta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d 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Window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for networks with &gt;10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us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rectory Ser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k.a.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p &amp; 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elecommun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lay Chat (IR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File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onymous 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-to-pe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z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to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u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ndows messe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for download (and upload) of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s transferred as attac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internet access on larg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d Resources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bile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-fi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Dan O'Donoghue</cp:lastModifiedBy>
  <dcterms:modified xsi:type="dcterms:W3CDTF">2009-12-09T00:04:17Z</dcterms:modified>
  <cp:revision>2</cp:revision>
  <dc:subject/>
  <dc:title>Services Provided by a Network Operating System</dc:title>
</cp:coreProperties>
</file>