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629C5-25BD-4E1D-AFA6-9C9F4194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DB2C-B46F-4B22-A5CB-7DB78CBF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B463-EB71-4228-9B0F-A6796E11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6EBA-F01F-419E-A815-DAB278A5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E92A-3C21-4E9D-AE34-1E2209A1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AFDD-2935-4740-8465-0F2992CD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6107-4A0E-41F5-848B-DF541322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4548-3478-423A-8EE8-52BAA9D9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05D4-B539-4287-97FA-119A25E4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33C1-FEE0-4B54-8281-5B0F01FB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1764-675D-4D92-B0FD-035A2764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4CA89-E36C-48E6-B8F5-7000B8A9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225F-9C9B-4C60-96A7-AB2F261E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1CAD-2CA5-4F16-AF6D-32CAB6E3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E93C-4182-478E-918B-6A4C4847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69CA-AD36-43C1-86AC-85A6FBE9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57D6-576E-48B2-A15F-36069591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C1C0-68D2-4AF7-88EF-1A807730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29556-A30D-438C-92FC-41FAFBE9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4F932-4532-4040-9E64-2D3BA22F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62A07-82FF-49E0-8438-31429752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BCA3-4408-4645-BBC1-A18AAD9C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C362D-8F86-4B6A-8398-8046D2BE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835A-1361-4BC2-8979-8972B0EA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607E-5350-469B-94AD-2167FAE40F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32F7-6878-4EF9-A9BA-F643DA934F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ervices Provided by Network Operating System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sion Ai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gain an insight into Network Operating Systems (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 an insight into the types of services that NOS provide to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etwork Operating Syste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specifically to implement and maintain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ed on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S Windows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ell Ne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d for networks with &gt;10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 use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ervic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rectory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ecommunication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e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lication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rectory Servi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m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k.a. Activ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un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unt management for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unt management for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word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p &amp; p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Telecommunication Servic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Relay Chat (IR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l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te desk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File Servic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onymous f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-to-peer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aza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ittor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lu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ndows messen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ttp web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ow for download (and upload) of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iles transferred as attach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Application Servic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base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comme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 internet access on large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Application Servic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ared Resources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orag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bile 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-fi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ust certific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iometr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35:17Z</dcterms:created>
  <dc:creator>Administrator</dc:creator>
  <dc:description/>
  <dc:language>en-US</dc:language>
  <cp:lastModifiedBy>Dan O'Donoghue</cp:lastModifiedBy>
  <dcterms:modified xsi:type="dcterms:W3CDTF">2009-12-09T00:04:17Z</dcterms:modified>
  <cp:revision>2</cp:revision>
  <dc:subject/>
  <dc:title>Services Provided by a Network Operating System</dc:title>
</cp:coreProperties>
</file>