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4ED7D-196E-475C-BB59-9A303CA26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D78A8-C531-4D33-99C5-D4D7D5F8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18A21-1898-450D-AF2D-E299CF27F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7419F-F783-4722-8C97-5D9058150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AD51-0F7F-49B4-A586-0EC25597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D47F-208F-43A4-B7A7-2F3CF675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CF55-C8D0-4A3E-99A8-CA925A6B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D52F-2262-4D8A-90B2-6E66F813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0D45-B577-4F20-88F3-0BEBC1FF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43C5-92CD-40A6-B4EB-6778DF74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AAD3-523D-4960-87CE-FF9D1EFF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4F193-CBBB-41A8-98C6-4B54F109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DAAF-819F-4483-A516-EA806B83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1150-B11A-4EEB-8800-8E0046D4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CF9B-884E-4E1A-ADA3-A67FA36D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A457-06AD-412C-8062-4ED64AD83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52D5-8199-48E8-BEE7-EA97F31EE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71EE7-263B-4D8B-87A2-37D7A1DC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2430D-63D1-424F-9BCB-F947B766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765CA-F666-42BF-BD90-BE6DC13A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DAE3C-F3EA-40F6-AC09-C9981D99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AF8FA-7753-4157-901A-51C11A76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3FF2A-7A5D-45B7-8600-EBAB3817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BD3F7-CB8B-4E96-80F5-67B9BCF3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C670-483A-44C3-BB65-CD3632B845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3692-0327-47BE-9D1B-8527DAD5DB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ervices Provided by Network Operating System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ssion Ai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gain an insight into Network Operating Systems (N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 an insight into the types of services that NOS provide to net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etwork Operating System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ten specifically to implement and maintain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lled on 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S Windows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ell Ne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d for networks with &gt;10 de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rvic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ge user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i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ervic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rectory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lecommunication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le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pplication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irectory Servic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oma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k.a. Activ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ount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ount management for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ount management for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entication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word prot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p &amp; p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Telecommunication Services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 Relay Chat (IR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te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inal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te deskt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File Services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onymous f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er-to-peer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aza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ittorr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lu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indows messen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ttp webs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low for download (and upload) of f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m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iles transferred as attach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Application Services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base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-comme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 internet access on large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Application Services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hared Resources 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orage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o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obile wo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-fi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uthent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ust certific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iometr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4:35:17Z</dcterms:created>
  <dc:creator>Administrator</dc:creator>
  <dc:description/>
  <dc:language>en-US</dc:language>
  <cp:lastModifiedBy>Dan O'Donoghue</cp:lastModifiedBy>
  <dcterms:modified xsi:type="dcterms:W3CDTF">2009-12-09T00:04:17Z</dcterms:modified>
  <cp:revision>2</cp:revision>
  <dc:subject/>
  <dc:title>Services Provided by a Network Operating System</dc:title>
</cp:coreProperties>
</file>