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C156-7A8D-46E8-B625-BBF496E9B1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AAC8-A1C6-40BB-ABB7-3341A0AE2F2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D75D-3050-4580-897A-C6E3B77D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430-F2C8-411F-9C5C-4D19B93A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122-BC93-482B-8DD7-4CD0A344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4FC-03E2-425C-96F5-12F751FE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AEA1-741F-4347-AB4F-BD12821A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3C66-4579-4EE5-9100-40D710CD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91D8-0751-4770-A8E7-D0490A97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7FF0-A903-41EF-9A40-8D033D5C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BAD4-A058-40E4-9378-396B6054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4284-CBAC-485D-AD45-1C42DAFE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32CA-3880-40CC-9780-F2C99A01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D871-521F-4172-BA20-14E07D6A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2958-E41E-45F2-B769-8C763898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2C28-90BE-400B-BDFB-338BDBD4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A430-E85F-4D4D-9FFF-CB8A3CC4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D840-4317-4B83-A9EB-CCC32150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DD53-EB0A-4ADB-B605-0B4DCCBB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86DF-7916-4FE1-8C3C-F84055B6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0F56-1561-4A53-A8B0-29322A01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2A4-C9A9-48FE-A999-BFB0A59E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6130-8474-4922-A2D9-A46F73E6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9F84-6CE0-49FC-942A-EA0DD724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D905-ACFA-4B0A-8E96-B076163E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104E-0415-46EC-A20C-AB60F491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26AA-5BDA-42DB-8FFC-DA701B2588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55FC-C795-4ABC-A44B-C880EE19E8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37C6-34B4-4DC6-B143-95180A4E6D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51000" y="3908160"/>
            <a:ext cx="664200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f Statement General Structu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condi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execute the cod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lseIf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 condition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execute the cod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execute the cod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Fill in the blanks on the following If statem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ge &lt; 18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blMessage.Text = “You are too you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ge &gt; 30 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blMessage.Text = “You are too ol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Complete the following code that displays a message if the name stored in the variable is ”fred”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AName as Str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ame = txtName.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_____________________ 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blMessage.Text = “You are Fr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n IF statement that will display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 “you may join our club” if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’s age is between 21 and 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should also display a message “you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not join” if their age is outside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CA5D-142F-496F-96D4-BD6D16F9AA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 principles of selection in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the basic IF statemen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e of ELSE for alternative cho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Boolean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why the use of ELSEIF is more efficient for multi cho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B0EB-F3BE-40B6-AE75-7E7AF3558B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lection – The IF Stateme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is all about making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ake decisions all of the tim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’s last orders then buy another 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’s raining then take an umbr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9:30am then think about going to the 9am l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539640" y="62064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119700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ion means we are mak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is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ased on certa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rite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may or may not be the 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r wallet is empty then you go to the cash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i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do we go to the cash point or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rite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how much money we may or may not have in our wal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writing programs the ability to make decisions is vital for any programming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68EB-1E05-40E3-87F4-738F2D673B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Arial"/>
              </a:rPr>
              <a:t>The IF Stateme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forma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ndi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ecute the cod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1770-17AA-464B-856B-41CD99D55E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 the following code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m AreaCode as St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m City as St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reaCode=”0116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f AreaCode = “0115”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ity = “Nottingham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f AreaCode = “0116”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ity = “Leicester”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What is the final value of the variable named City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ls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m Age as Integ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ge = txtAge.Tex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f Age&gt;=18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blMessage.Text = "You are old enough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blMessage.Text = "You are too young - go away!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f I enter 12 into txtAge what will happe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oolean express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&gt;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&lt;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&gt;=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&lt;= 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=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&lt;&gt;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773360"/>
            <a:ext cx="4967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greater than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less than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greater than or equal to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less than or equal to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equal to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ge not equal to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lse If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m Age as Integ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ge = txtAge.Tex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f Age &gt;= 18 And Age &lt;= 30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blMessage.Text = “You may come along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lseIf Age &gt; 30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blMessage.Text = “You are too old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lseIf Age &lt; 18 t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blMessage.Text = “You are too young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nd I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What sort of web site might apply this logic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Notice the expression &gt;= 18 </a:t>
            </a:r>
            <a:r>
              <a:rPr b="1" lang="en-GB" sz="26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Age &lt;= 30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david.bell</cp:lastModifiedBy>
  <dcterms:modified xsi:type="dcterms:W3CDTF">2010-02-18T10:49:18Z</dcterms:modified>
  <cp:revision>39</cp:revision>
  <dc:subject/>
  <dc:title>Computer Platforms Week 1</dc:title>
</cp:coreProperties>
</file>