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A338-DFFD-481F-AFA6-5D4EF5DAA1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6027-8E01-401E-A7EE-85B90E149AC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58D6-0208-4721-8775-D0C91039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6FC-55E3-44E8-9FCD-2E335985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581A-3FE8-419E-82B4-0E5A3666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849-FF70-4D3A-A47B-01A740BC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CC8C-46FF-4458-B7EB-7E7B4085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3AF9-65A2-4FB4-A385-21CC2BC1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ADEA-0DB4-491D-BD3D-72DE1F84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BE20-D23A-44E7-A889-28A7113C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0240-AAFB-470F-99F7-C8E96AF9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FC84-37FD-43FF-AD74-32800A5D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3887-F515-4ACC-ACB4-F43A5D5E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8204-784B-4829-8522-2226297F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7D6D-5960-4E94-B04D-5169B0D1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0B3E-D1EA-4EFC-8F27-63650D88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26A4-E4B8-4B2E-94B6-244E974D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8831-1500-4749-8D08-C7743B19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6A81-43CD-4EC9-92D1-E86631E2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85AE-D7AF-44F5-8CEC-FEEE6C11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5945-DEA2-4FC4-B1AF-2D3DCB84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4FD-0C6A-4A85-B367-729B7C27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3456-0C76-4694-A466-74123F26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49F6-7847-4B41-ABD0-97FB9FC8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484-1633-4776-8E22-348302EE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D944-3836-40B4-A25B-11197013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C7D9-A82A-4A92-BFC8-1373877C89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F0D0-943F-4454-97BC-7B76568A6F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0BF0-F6D8-458A-A318-4353FB0B79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51000" y="3908160"/>
            <a:ext cx="664200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f Statement General Structu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condi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execute the cod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lseIf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 condition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execute the cod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execute the cod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Fill in the blanks on the following If statem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Age &lt; 18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blMessage.Text = “You are too you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Age &gt; 30 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blMessage.Text = “You are too ol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Complete the following code that displays a message if the name stored in the variable is ”fred”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 AName as String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ame = txtName.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 _____________________ T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blMessage.Text = “You are Fr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n IF statement that will display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 “you may join our club” if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’s age is between 21 and 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should also display a message “you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not join” if their age is outside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94DF-8584-4C3C-94E1-622A14ED4D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the principles of selection in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the basic IF statemen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se of ELSE for alternative cho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Boolean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why the use of ELSEIF is more efficient for multi cho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FBD1-BA20-44F0-948E-4AE71C3641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lection – The IF Stateme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is all about making deci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ake decisions all of the tim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’s last orders then buy another 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’s raining then take an umbr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9:30am then think about going to the 9am l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539640" y="62064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119700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ion means we are mak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cis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ased on certa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rite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may or may not be the 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r wallet is empty then you go to the cash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ci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do we go to the cash point or 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rite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how much money we may or may not have in our wal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writing programs the ability to make decisions is vital for any programming 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932D-4C12-4AB7-8ACC-2DAE14EE2C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7e7ff"/>
                </a:solidFill>
                <a:latin typeface="Arial"/>
              </a:rPr>
              <a:t>The IF Stateme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forma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ndi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ecute the cod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C7C4-166B-4B36-9059-4191939DE8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 the following code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im AreaCode as Str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im City as Str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reaCode=”0116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f AreaCode = “0115” T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ity = “Nottingham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f AreaCode = “0116” T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ity = “Leicester”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What is the final value of the variable named City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ls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im Age as Integ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ge = txtAge.Tex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f Age&gt;=18 T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blMessage.Text = "You are old enough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blMessage.Text = "You are too young - go away!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f I enter 12 into txtAge what will happe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oolean express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&gt;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&lt;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&gt;=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&lt;=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=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&lt;&gt;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773360"/>
            <a:ext cx="4967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ge greater than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ge less than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ge greater than or equal to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ge less than or equal to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ge equal to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ge not equal to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lse If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im Age as Integ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ge = txtAge.Tex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f Age &gt;= 18 And Age &lt;= 30 T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blMessage.Text = “You may come along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lseIf Age &gt; 30 T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blMessage.Text = “You are too old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lseIf Age &lt; 18 t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blMessage.Text = “You are too young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What sort of web site might apply this logic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Notice the expression &gt;= 18 </a:t>
            </a: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Age &lt;= 30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david.bell</cp:lastModifiedBy>
  <dcterms:modified xsi:type="dcterms:W3CDTF">2010-02-18T10:49:18Z</dcterms:modified>
  <cp:revision>39</cp:revision>
  <dc:subject/>
  <dc:title>Computer Platforms Week 1</dc:title>
</cp:coreProperties>
</file>