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86C6-5BDA-4464-BBCA-B057D4F4C9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6E9B-93B4-4C65-AAF4-617CDF9D11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B49-B1E1-48EF-879A-636E9C08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A41-F8F2-40B4-BEE2-1B81E1B3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2A8-E6EB-4730-87E0-53B3A546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C58-B9DC-4E10-BFA4-BCF64A8E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CAB7-99D3-4D20-957C-C9223C93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27FC-C4FE-4357-89CA-BA6C3A6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448D-17DB-4C4C-B2F5-BC82642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5A27-95B3-4A20-B886-C8C7E78D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837-6CD9-4651-8E07-3120452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A16-BF69-4C83-A0AF-05AEB0F8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E53C-DCDB-43AE-9447-959A5720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A07-D45F-4836-BFEA-51261C58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C4F8-FDC0-4ACD-80F0-39BCB2F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3FF-E01E-49C7-805F-86282B4C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2F2F-365B-4FCD-BFA9-15D6FB8C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800-9761-493E-8C99-07DA2648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A04B-435B-4BCF-B68B-8487C122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3E2-ECD5-44AA-938A-3BE3A7A8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A64-6905-46A9-8C45-1608E407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B2A-9CB2-4B3C-88C7-B6968CBA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E1B-BE0D-4261-80AA-3844345A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18A-56C8-4BD1-A17E-94CC11F7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CE8-D08C-47EB-BC0E-83D7C9B2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B3D-FBE5-4F35-89B7-59B6F5D3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5CA-867A-457D-89FD-75FF3428E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4E48-4453-481F-8B6C-2A006DD2CA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5E2-D274-488B-8515-B754B8A2F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f Statement General Struc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If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 condition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Fill in the blanks on the following If stat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lt; 18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gt; 30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Complete the following code that displays a message if the name stored in the variable is ”fred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AName as Str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me = txtName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_____________________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blMessage.Text = “You are F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IF statement that will display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“you may join our club” i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’s age is between 21 and 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ould also display a message “yo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join” if their age is outside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D8A7-7811-48CB-82E1-AFA9C42E53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selec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basic IF statemen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ELSE for alternativ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Boolean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why the use of ELSEIF is more efficient for multi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00D3-A0C9-4796-B1FB-AB2BB1460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lection – 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is all about making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decisions all of the tim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last orders then buy another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raining then take an 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9:30am then think about going to the 9am l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39640" y="62064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means we are mak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sed on cert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y or may not be the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r wallet is empty then you go to the cash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do we go to the cash point or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how much money we may or may not have in our wa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riting programs the ability to make decisions is vital for any programming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092-2259-4B76-965B-210609AAC0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form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159F-C953-44E1-9162-AA26FFBF1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 the following code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reaCode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City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reaCode=”0116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5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Nottingham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6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Leicester”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is the final value of the variable named Cit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&gt;=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old enoug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too young - go away!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I enter 12 into txtAge what will happ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oolean express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=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&lt;&gt;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77336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not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 &gt;= 18 And Age &lt;=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may come alo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gt;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lt; 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sort of web site might apply this logic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tice the expression &gt;= 18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Age &lt;= 3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18T10:49:18Z</dcterms:modified>
  <cp:revision>39</cp:revision>
  <dc:subject/>
  <dc:title>Computer Platforms Week 1</dc:title>
</cp:coreProperties>
</file>