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337F-3A80-4E0E-BA98-6D725C943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E340-7F8A-48F2-9A24-F08F4A9492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EF4-37D0-474B-BA74-C4F1FF41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AC3-64BD-485A-8F1E-B532859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A2F-CE73-4845-88CD-32F8329E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074-B701-4A86-AC79-206A70A1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C647-4075-4E9C-8C69-C8C72D28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F283-4468-482A-B824-7E559D24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9806-B122-4B97-9B1C-EEEFC9CA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CCDD-F94C-45E6-B9A9-9E1A1451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0B54-50D0-4297-8223-C415DB96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C3AA-FB10-4AE1-AF92-561FBDD8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C349-A29F-40F7-9501-0075BF7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7E7-353C-4593-A71D-092F22F2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070F-0B58-42E9-B0E0-81CB0AA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4DAE-36D7-4F86-81FD-8B341C8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45D0-35EF-46F3-AF4A-2751BF6B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3B9-B3BD-46FB-A179-CE0607FE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ED5F-50BE-4129-8340-7A8C9EF6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3A4-5996-4941-811A-76F501F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126-71EE-4204-8F75-14604DCE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B82-AE42-42C7-9E5A-21A27B8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B35-2EC7-4842-901E-34854DB3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A74-FCBF-439C-83C9-C02B74AF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EC1-C281-4770-AAFA-522838A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2E1-2626-4E25-BA39-992D7BBA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76B-2672-40BC-B77C-C2774A0B46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3876-B89B-4DE4-96F3-1672FD7793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E27B-7434-418F-BE77-587AE027CD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f Statement General Struc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condi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seIf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 condition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Fill in the blanks on the following If state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 &lt; 18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blMessage.Text = “You are too you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 &gt; 30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blMessage.Text = “You are too ol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Complete the following code that displays a message if the name stored in the variable is ”fred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AName as Str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ame = txtName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_____________________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blMessage.Text = “You are F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n IF statement that will display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“you may join our club” i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’s age is between 21 and 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hould also display a message “yo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not join” if their age is outside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2690-05C5-4DA6-8393-EE629C9A6B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principles of selection in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basic IF statemen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ELSE for alternative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Boolean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why the use of ELSEIF is more efficient for multi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03E9-9543-476E-9A4B-F7B78C266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lection – The IF Stat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is all about making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decisions all of the tim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last orders then buy another 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raining then take an umbr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9:30am then think about going to the 9am l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539640" y="62064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means we are mak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i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ased on cert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y or may not be the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r wallet is empty then you go to the cash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i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do we go to the cash point or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how much money we may or may not have in our wal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riting programs the ability to make decisions is vital for any programming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6F4F-24E2-4798-BC6C-4A193A2503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The IF Stat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form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E180-A651-4A37-8C66-0F544FFFEF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 the following code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reaCode as St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City as St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reaCode=”0116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reaCode = “0115”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ity = “Nottingham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reaCode = “0116”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ity = “Leicester”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hat is the final value of the variable named Cit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l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ge as Inte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ge = txtAge.Tex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ge&gt;=18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"You are old enoug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"You are too young - go away!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I enter 12 into txtAge what will happ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oolean express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gt;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lt;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gt;=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lt;=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=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&lt;&gt;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77336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greater than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less than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greater than or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less than or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not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ge as Inte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ge = txtAge.Tex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ge &gt;= 18 And Age &lt;= 30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may come alo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If Age &gt; 30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are too ol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If Age &lt; 18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are too you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hat sort of web site might apply this logic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otice the expression &gt;= 18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Age &lt;= 3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18T10:49:18Z</dcterms:modified>
  <cp:revision>39</cp:revision>
  <dc:subject/>
  <dc:title>Computer Platforms Week 1</dc:title>
</cp:coreProperties>
</file>