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76BD-E6E9-49D2-909F-A0E0F5BEFD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956A-DEE5-493F-A3B7-1DF7E0BB20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167C-CCBA-488B-B962-921D461FF7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5A5B-FD53-4DED-888B-C47DC646A1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0BFB-947A-4FAC-906E-2D66427F74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41C9-F347-444D-9B2B-6090366CF5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3C1-E6BA-4E6E-93E5-1F9CFFDC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981-27BF-491C-BE40-11099C83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132-C1AF-4817-8C68-6C48D239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2B5-FB87-4FD5-819C-085D77B0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0E68-5FA5-4427-AD7D-07B961D7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4517-AF56-4980-90E4-4C596E7B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5506-7D25-4897-8EE1-815ABDCA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B390-B511-44EB-B90C-878F279C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78C8-43B7-438A-B929-E0045EA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951-1321-4636-99BC-0EBD9C90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3FF8-EBD2-402F-A14C-1E57B1C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5D7-4124-4919-B733-97DDFE1B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129-5014-4D0D-A110-807E6E43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6ACC-8058-46BF-9139-3004D175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489B-CA94-4C65-9D53-40F03DD9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40AA-FC90-406D-B7ED-2156FF15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11FC-F587-45EA-A3E8-6A38757E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5B1-5141-44C1-840F-5D90B78D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28F-2862-47B7-8B50-F5828F82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23E-F8DF-4228-8458-3506125C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68F-F34B-463E-B426-93D50686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2EE-AB37-44CD-9AEB-C2AEC73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B73-291F-421D-8F0C-22A87511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22C-6882-4AEE-A3B0-D5D002C6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DE91-0DD1-4F23-B56A-5C226548DD4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D153-3F4B-455E-BEB0-F5BCCD1F928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2306-D3CC-4513-8C7B-C5A326BD24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5B4E-D8FC-48C2-8274-1529B3C1D1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ructure of the Select Case is similar to a series of IF/Then/Else if statements – the basic syntax is show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ect Case &lt;valu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30B6-88DF-4682-BC73-17DDE0069F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adults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discount As Dec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ults = txtFirst.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Case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Is &gt;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xtSecond.Text = Format(discount, "p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E5F7-C2DC-4563-A23B-7B2C457438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gt;=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9FC4-341F-4A0F-A9B5-9D55C5F081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0 To 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40 To 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56 To 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66 To 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76 To 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e Bell</cp:lastModifiedBy>
  <dcterms:modified xsi:type="dcterms:W3CDTF">2010-03-14T17:36:53Z</dcterms:modified>
  <cp:revision>43</cp:revision>
  <dc:subject/>
  <dc:title>Computer Platforms Week 1</dc:title>
</cp:coreProperties>
</file>