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C56B-F841-430F-A9C8-D14AAD1FF3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3F5C-8AF9-461E-9A4F-5507F2D18CA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05A0-98BF-48F3-AB79-92D21EF712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40ED-70D3-4FBF-A749-EA15171BE9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F73A-7A85-4FDD-BE67-12F701B39B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FE49-BC9E-4F69-841D-A923B06F63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EB8-56BA-4625-933D-D4D08D4E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9F5-70A7-4AD3-8B93-F84A4F5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F22-2C0D-4CE2-9C82-58DDB6B0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1DC-6020-4665-8612-7C7000BF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1FE4-534E-4027-BA0C-A447340F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BE1D-AAB6-4CD9-B639-9BBDE7C2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C112-244C-4F99-8BA7-CB91655A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4E98-7523-4B3C-AC60-6D575CA4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67F3-A64E-4BB6-A023-1AEEDA4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6D63-D556-41FF-8E26-AD34B2B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7142-B054-497B-8844-7343BEBB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ED2-82AD-4C78-94EC-BBE07394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D167-4D68-4886-AE31-C4AE198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7BD8-CBD1-482E-803B-F0447C87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BB8A-BFF8-4947-B248-7DA2031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9C52-BE45-4346-B47B-8E06D057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93FE-044A-425F-991D-88E0D746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235-D91D-4C81-96A1-FFA2221D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B33-EC5E-4E7E-9A9D-40500522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AA5-92CE-4392-8ABC-031D500D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738-BC9F-45FC-9C8E-C8668392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5B9-AFC6-437A-9ADA-1AF2A02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64F-30B6-44A4-AE8E-BB7EB673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498-8258-49C7-AC90-3D0647E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4564-92B4-498B-B528-BCC73C2EBB5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4F7-B6CF-43BB-B9EF-F8722BF37D5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E783-F897-4DBF-A811-E7B26EF90D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61BD-4B2B-49D1-8944-C4A376D4C6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ructure of the Select Case is similar to a series of IF/Then/Else if statements – the basic syntax is show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ect Case &lt;valu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2AB-22E0-481F-8F98-71943A9280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adults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discount As Dec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ults = txtFirst.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Case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Is &gt;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xtSecond.Text = Format(discount, "p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D655-94EF-40C4-B067-1D328A45D2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gt;=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940D-1A26-4E19-813E-E61E2EB783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0 To 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40 To 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56 To 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66 To 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76 To 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e Bell</cp:lastModifiedBy>
  <dcterms:modified xsi:type="dcterms:W3CDTF">2010-03-14T17:36:53Z</dcterms:modified>
  <cp:revision>43</cp:revision>
  <dc:subject/>
  <dc:title>Computer Platforms Week 1</dc:title>
</cp:coreProperties>
</file>