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13D0-73EA-450D-BEAF-199D5A5154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978A-53F3-4948-BEA1-24C6A53D15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5E55-BFEF-4EC2-A417-BE30557269D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8E4B-A4AC-4F10-9EEC-80110A0518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9FA1-B071-4FA0-856A-238FE630CB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13EE-2C65-4EEE-97C2-5E8D5A25BC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54F-9BF5-45C2-A42C-093E3735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F0F-9348-4278-8AF1-CE3E6361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9FB-6497-44A6-B54A-40364D94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E25-3F8A-4BBF-B1C9-C3B097C7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AF8F-0E8D-4407-8D8F-AA051FCA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6826-5F23-4AD4-99DA-3C9B6659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FD13-CEE5-44E5-938B-9AE88B7D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2B23-072C-4AA2-A947-EAE16773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7CA8-5A49-4904-BF8D-3464E68F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B417-7161-4016-8CF5-E2E01BCB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D9DE-AACB-4872-BBB3-66938C26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7B8-406D-47BF-9752-B2BE6C94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3315-DCF6-4FF6-BCD7-E872747E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646C-961A-49B1-8E5A-C5CBE5A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A42F-EEEB-4E86-901F-E9A00552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9C61-315E-45A8-B95A-3E8B36C8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1BD3-761D-447E-9EC4-5D0C5A7E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C3A-47B4-4021-BEF0-7FB055D1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A48-1C17-43BA-A840-E917D3F7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8FB-4EDB-404C-AEF5-C8A849BB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090-C1F0-49F6-AF27-0D121038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F36-271E-4C0E-9BC5-CFB4E3F7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A02-A8B8-427D-826C-DACA1192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6BE-465B-4F4B-86F5-F5329B9E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12B7-3817-4998-BCFB-62BF775FA15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2A81-221C-410C-81B7-7D98E91BC9F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AA1C-1CDF-47C6-910D-6582D726DF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3EC9-B647-48B0-809F-3905F8D454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tructure of the Select Case is similar to a series of IF/Then/Else if statements – the basic syntax is shown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ect Case &lt;valu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&lt;value 1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lt;Statement/command 1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&lt;value 2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lt;Statement/command 2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DA20-D74F-4664-9C17-F6CD9D15553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adults As Inte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discount As Deci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ults = txtFirst.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Case ad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Is &gt;=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xtSecond.Text = Format(discount, "p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BA12-2159-4C68-B10C-FA896A6ED0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mark As Inte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grade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rk = txtFirst.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elect Case ma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Fail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D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6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B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gt;= 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A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N/A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xtSecond.Text = gr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E75B-5D17-4AEE-857C-89256743A3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mark As Inte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grade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rk = txtFirst.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elect Case ma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0 To 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Fail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40 To 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D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56 To 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66 To 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B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76 To 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A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N/A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xtSecond.Text = gr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e Bell</cp:lastModifiedBy>
  <dcterms:modified xsi:type="dcterms:W3CDTF">2010-03-14T17:36:53Z</dcterms:modified>
  <cp:revision>43</cp:revision>
  <dc:subject/>
  <dc:title>Computer Platforms Week 1</dc:title>
</cp:coreProperties>
</file>