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C49D-A60E-43E3-90D3-B925EA5F56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9FBA-C2EC-4E7F-A34E-5CBC05FB01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CC4F-33BA-4C26-B7F2-2B636D5CBA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27F5-7BE0-4965-A199-5D93DEEF00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3305-7866-463A-8C72-0E14AE2659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3659-9F80-4351-9AB2-B0F93E1EC74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E17-5626-48D6-B220-AC815F7D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F10C-5AF6-416D-8723-04410F7D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4D4-E421-4A88-B86B-8FE4914F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973-9194-45D1-8C62-1CBFA8D1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197C-03D5-467E-B709-485D2FBA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B5ED-6B85-416B-AA8D-B1BCF70E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5B5A-7FA3-44E8-9207-7F121CC7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45C6-CDF0-4C39-97D2-7A10887D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8C0F-2B2E-4AEE-B462-54A6E63B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8E9B-4D4C-4A52-B5ED-F8AD90A5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46A5-4D8C-45B9-98A6-AE7B953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343-F740-4ED4-8320-9AEA5B1C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BB6C-8A04-4E50-9B67-15059286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7D68-F5CD-4792-9B7E-68E6B914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0814-DED9-482E-87FC-B9710012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945C-AFFD-41F0-BAD5-327CCEA9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75DE-E653-45EB-B59D-D38F5A2D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9A8-5D25-443F-A141-967E3CE0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87F-A6D6-4B4A-93B2-4AC830CD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375-F1F6-4A29-8D37-702292CD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DB0-FACC-4413-B287-9402A09A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CD1-3C38-484D-AD5C-C4AEC51E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98C-86DC-4217-BE7B-6648618C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BB4-E246-41BA-943F-B4A1F9E3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E465-496F-4C60-B912-A6C08CAE050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9207-5D12-4F66-8C88-CDA9B71C714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4CAD-513C-43AA-89BA-0D2B0BAF15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1DE0-15A3-40A1-961E-0DCEAD85A6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tructure of the Select Case is similar to a series of IF/Then/Else if statements – the basic syntax is show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ect Case &lt;valu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1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&lt;value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&lt;Statement/command 2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C87D-E5B9-4FA6-9284-1BB498654A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adults As Inte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 discount As Deci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ults = txtFirst.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Case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se Is &gt;=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scount = 0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xtSecond.Text = Format(discount, "p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9223-3FB7-4B7F-88A0-D6F8BFAAE3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lt;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Is &gt;= 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24A8-EE54-4D02-BEDD-C18F06E4A8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elect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mark As Inte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im grade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ark = txtFirst.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elect Case ma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0 To 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Fail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40 To 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D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56 To 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66 To 7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B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76 To 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A“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se 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grade = "N/A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xtSecond.Text = gra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e Bell</cp:lastModifiedBy>
  <dcterms:modified xsi:type="dcterms:W3CDTF">2010-03-14T17:36:53Z</dcterms:modified>
  <cp:revision>43</cp:revision>
  <dc:subject/>
  <dc:title>Computer Platforms Week 1</dc:title>
</cp:coreProperties>
</file>