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C94C-5A4F-4EEE-B4BB-D60BB5FE8F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ACC3-073C-40B1-9EAB-2055852595E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0627-E1E6-4ED7-BC58-66ECA28513F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E6B0-CF39-4340-8690-6E31A069D5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7A2A-7D4A-49A4-B955-B9CCA657A5D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E26C-01EF-4D4F-9CDA-545EE6E21CD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9D2-A918-4B8D-AF2B-1621F0FD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1219-BE6A-4D94-9EFB-FD54802D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515-C48A-43A3-A625-9D8D97A9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A210-7964-44AF-8A66-5B84B195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5591-36E5-4BAF-9473-3A90D211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943F-8B6E-48F9-BA4C-BCE701E2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226A-032A-4320-9834-F383D935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D600-308C-48F6-818E-D077857F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6691-5DE5-4526-9FCD-94D46A51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F271-13B1-4846-A611-B64744EF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C13B-66A2-4E0E-BDF0-57B4659B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E0F-1A2B-4C5A-915E-A27999F6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05B3-E988-4FAF-99F5-8F0BE952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4777-9DAD-4003-9679-2076BB60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67EE-E92F-498F-A941-57CC7FE4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2A13-7FF1-4A3E-A4C4-20075D02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AFF0-3775-49B1-BCA4-C7BDD732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A8B-4434-4B38-BB01-A9049816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9EAB-6999-4AA5-A977-5FB17025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3EA-2B5C-4A46-A286-61FA754F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811-77B3-41DE-8F6A-4634D605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1A8-79FD-477D-92D9-773A4DAF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408-72D7-400E-B65B-28F4F0DC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601-B24B-4CE6-83D6-F6E7BF46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56C3-B5FE-4E4A-9A5D-C5BDEDB0A85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738F-1EFF-4FB3-8E1B-E5A304A5530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C1B2-9BC7-4132-AE17-EA204C6B11C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6043-4392-49F0-8CE2-B7DE6F229B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tructure of the Select Case is similar to a series of IF/Then/Else if statements – the basic syntax is shown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lect Case &lt;valu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&lt;value 1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&lt;Statement/command 1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&lt;value 2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&lt;Statement/command 2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7C18-B6AA-48B3-BB6A-F9F600A818F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 adults As Inte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 discount As Deci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ults = txtFirst.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Case ad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.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.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Is &gt;=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xtSecond.Text = Format(discount, "p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15D3-9159-4E2D-8ADF-EE6D1FFEA8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mark As Inte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grade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ark = txtFirst.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elect Case ma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Fail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D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6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C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7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B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gt;= 7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A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N/A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xtSecond.Text = gra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C614-0999-45A0-9BD2-F8CE12CF57D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mark As Inte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grade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ark = txtFirst.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elect Case ma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0 To 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Fail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40 To 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D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56 To 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C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66 To 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B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76 To 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A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N/A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xtSecond.Text = gra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e Bell</cp:lastModifiedBy>
  <dcterms:modified xsi:type="dcterms:W3CDTF">2010-03-14T17:36:53Z</dcterms:modified>
  <cp:revision>43</cp:revision>
  <dc:subject/>
  <dc:title>Computer Platforms Week 1</dc:title>
</cp:coreProperties>
</file>