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40C-8E91-4A4A-B90E-78B703B1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D4D-0607-4BBE-ABA2-CB392D65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C54-6B0F-4E2E-916A-41A37F33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E44-17E4-4C9A-B77D-7C766470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2475-76BF-43C4-A08D-FF11C8E9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0CDA-DEE5-4ECA-8187-A41ED08F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AAD3-E3F5-4656-A824-0F22FFBA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47C9-F4FB-4E0B-A8B6-658EE0BE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0806-74BB-41C8-9CF9-2AA201C3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9B6C-A114-480F-A0E4-8CD3DF80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4326-693A-4C60-B4A8-E65EAC35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3D3-1117-45DF-A04D-40585B67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4012-CADD-402C-960F-A6EBBED7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732A-3346-454C-BF6A-03C6666F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EF9A-5B6A-4D05-8F15-479D1EBC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E451-D07D-46A7-8344-5D592B37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465D-D971-44E9-9168-2BD030D5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C64-B800-43D6-BA28-F42B23E4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F0E-306A-49FA-A604-7E518DE6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A04-0121-4597-8384-EBFEBE67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9B4-55FE-4F3A-82AC-B1346543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736-F547-4E0D-8304-391962DD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A1F-B9C4-4B36-B965-880E7709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7C8-374D-409F-84C6-B6C69740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1A9D-425B-4026-B4B4-5BE2BA0C2D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3B58-4499-4A99-B87A-ADF8F88829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&amp;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- Project initiation and feas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107D-F456-4085-919B-DF779CDA5CA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n fea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typically broken down into the following se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 of th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scope (what areas of the system are to be considered in the develop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and requirements (this is usually the reason for the project development being initi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(i.e. has to be completed in 3 months, has to run on existing hardware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 (i.e. don’t proceed with the develop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EA9-4987-4B70-9D01-4B273BDAED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rives an organisation to develop their syste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rganisation needs to gr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rganisation are required to update/change their systems in order to meet new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rganisation is merging with another business and it is more cost effective to adopt a new system to centralise all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eed to reduce staff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think of anymo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824-E488-467F-9E17-FF5936ECF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Task 1 and finish of Task 2 – until the end of the le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9D2-D7F9-430A-8B27-53A2152B59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quired a knowledge into developmental methodolog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understanding into what SSADM is used for and what lifecycle would utilise this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ed an insight into the six stages of the development process (discussed the first o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ed what the key drivers are for an organisation in deciding to move to a new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1F6-EAC8-4F0B-B04E-8F1063C061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what SSADM is used for and what lifecycle would utilise this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the six stages of the development process (discuss the first o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what the key drivers are for an organisation in deciding to move to a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C83-3F14-4658-AC97-4A274E804C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Structured Systems Analysis and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pproach is as the name suggests a structured approach and therefore would be best suited to the a lifecycle like the water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wouldn’t be best suited with a lifecycle like RAD –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focuses on the early stages capturing the requirements and the design of the propose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80D-A6BD-456D-AD71-2A3BB29932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2276640"/>
            <a:ext cx="8353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uctured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overnment stand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driven (GIGO – garbage in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al (DFD, ERD) and physical views (network diagrams)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s user invol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p-down and bottom-up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agrammatic and non-diagrammatic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s to quality assurance, project management, risk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other project proced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BA4-E91D-435A-A562-E97B159B12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2276640"/>
            <a:ext cx="7272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a cookbook appro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delegation of simpler tasks to junior perso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forces a clear chain of respon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thing is audi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s that result are fully docum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E tool support is available from a number of vend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mputer aided software engineer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free for anyone to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sier to project man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159-1C52-443E-A9C4-3F5AAE7AE3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ADM – 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227664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consuming 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ftware emerges slow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sn’t kept up with the new trends in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: look on the internet and find out about CASE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270-B597-4A4E-855E-38D8AE7425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– Structured Systems Analysis and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hole system development process can be broken down into six s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ion and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528-8F71-4634-B16F-422503F167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must be a trigger that initiates the whole development process – a key driver i.e. business is planning to expand therefore a new system is required to manage the new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 – this is undertaken before development begins to ensure that the project should be undertaken and whether it can be justif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7C8A-F3F7-4C8A-AC57-F88028B9F1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ject initiation and feas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on fea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required to ensure the project is financially fea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B1F-8E39-4418-BE6D-7B5ACA5F01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3:03:42Z</dcterms:modified>
  <cp:revision>32</cp:revision>
  <dc:subject/>
  <dc:title>Computer Platforms Week 1</dc:title>
</cp:coreProperties>
</file>