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7F4-D85B-49B5-A77A-632D475C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680-7E25-49E2-97A0-6227EAC8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331-949B-40F9-B0E6-D93781BD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CCC-3BF3-4AF6-A0A7-8719611C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D05D-BD5A-46FE-AD47-612ED264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38FF-D108-4913-9590-B3D04B6E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CCFF-B625-4631-BB76-9F3FD772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6349-B6C6-4D2A-8718-AE79E2CB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7FA7-ED85-4140-87D7-8D4FF6E0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6BB6-5B5E-4150-81D3-50B332DA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2AB2-2A6E-4265-8567-32BC8EFF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502-1F3D-4200-A59E-17925B2E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0CE8-4BBD-474F-91C1-FEBDCB26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F602-E811-4672-A445-D041BC42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1E58-CC69-48C0-91F6-A723907C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35D2-1249-4F6E-9C62-5CB92194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FB6D-A4E8-4BD7-A6F0-E78F5BE2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085-AE6A-42C2-8861-7D1261D8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F71-988C-4545-9B5F-01944BDB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281-1A54-4ECE-BA45-4D5862BC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207-F188-4B47-A6BF-BDDC08A5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70B-258C-445C-9636-0234C597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64B-2CCE-481D-B4D6-4C0139F2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9A7-010B-424F-9693-08369E21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CA24-21B7-4B53-8A3C-DC5CAB4D8C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35C3-E811-462B-8A9A-C472667A5E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&amp;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- Project initiation and fea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A201-2DB1-44EF-92B5-CE5AA05C4A0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n fea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typically broken down into the following se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 of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scope (what areas of the system are to be considered in the develop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and requirements (this is usually the reason for the project development being initi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(i.e. has to be completed in 3 months, has to run on existing hardware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(i.e. don’t proceed with the develop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FEC-7F7F-4430-8A7C-1704D2B63D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rives an organisation to develop their syste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rganisation needs to gr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rganisation are required to update/change their systems in order to meet new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rganisation is merging with another business and it is more cost effective to adopt a new system to centralise all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ed to reduce staff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think of anymo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9E5-1571-464B-B1B8-D56289A29C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Task 1 and finish of Task 2 – until the end of the le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176-5C41-45BD-912E-69893F5A94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red a knowledge into developmental methodolog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what SSADM is used for and what lifecycle would utilise this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insight into the six stages of the development process (discussed the first 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d what the key drivers are for an organisation in deciding to move to a new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514-5F69-4637-AC2C-4220DF98CF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what SSADM is used for and what lifecycle would utilise this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the six stages of the development process (discuss the first o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what the key drivers are for an organisation in deciding to move to a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C89-24B4-4FB2-9D99-29EFE376A8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Structured Systems Analysis and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pproach is as the name suggests a structured approach and therefore would be best suited to the a lifecycle like the water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wouldn’t be best suited with a lifecycle like RAD –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focuses on the early stages capturing the requirements and the design of the propose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26C-BF52-4382-A688-145EC9CC4B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2276640"/>
            <a:ext cx="8353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uctured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overnment stand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driven (GIGO – garbage in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al (DFD, ERD) and physical views (network diagrams)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s user invol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-down and bottom-up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agrammatic and non-diagrammatic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s to quality assurance, project management, risk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other project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A40-26BB-4E97-81C6-8C1A59D356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2276640"/>
            <a:ext cx="7272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a cookbook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delegation of simpler tasks to junior perso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forces a clear chain of respon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thing is audi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s that result are fully docum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E tool support is available from a number of vend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mputer aided software engineer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free for anyone to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sier to project man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B6D-A635-479F-8343-523A056F9D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227664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consuming 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emerges slow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n’t kept up with the new trends in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: look on the internet and find out about CASE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A2C-ADAE-4105-89EB-8389F0C575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– Structured Systems Analysis and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hole system development process can be broken down into six s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ion and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6EB-7351-4123-9F7B-91863AACC7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must be a trigger that initiates the whole development process – a key driver i.e. business is planning to expand therefore a new system is required to manage the new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 – this is undertaken before development begins to ensure that the project should be undertaken and whether it can be justif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A0C-06C0-4C6D-B0BD-B281AB4788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n fea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required to ensure the project is financially fea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C2A-6E0E-4546-93C7-B09D127C7C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3:03:42Z</dcterms:modified>
  <cp:revision>32</cp:revision>
  <dc:subject/>
  <dc:title>Computer Platforms Week 1</dc:title>
</cp:coreProperties>
</file>