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9F24-4C4F-4EBC-BCAB-775E67815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71BB-FD88-4156-8041-F6749ED3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0D73-44A6-4406-9156-358C80B1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8C78-757D-4E96-8A93-A5731471F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7762-B9B9-45C6-99C9-2C4FBD3E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A915-BF9E-453F-A1D2-1DA3037C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80ED-380A-47D9-BC26-AC6DABF1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8B91-7D6B-4815-B816-1D2F0627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A00E-E00E-4D7C-A56D-FDD0A402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348F-AC59-40F5-BCF7-88B66347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AF4C-00FB-4785-8001-2D37C0F9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08B0-5DEE-4492-A336-260AC023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32B0-AD0A-4964-BE1E-7296DDB7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1FBC-5A2B-44F9-ADC8-E40913BA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5C61-A9CF-45C0-ABDA-E22607B4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C210-5CB6-4681-83BC-DCA02C22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3786-1625-4538-9121-5A4BE51B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C342-FAA8-4D7A-BF62-54FA6B84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3076-F316-4B34-BF8C-DFFC0375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7860-C8DD-43DC-9ABF-3E907491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2DD5-9881-42C1-A3DA-20BBA22C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48BA-5584-4878-838A-65082035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CAD7-02CF-4740-B0F5-2CF8E90E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AB16-6D7E-48A2-9461-49EBBEB7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E178-C647-4DA6-B4C8-5C3EDD6B75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31F7-C252-43B1-A93F-FA2863AA1C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 Systems Analysis &amp; De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SADM - Project initiation and feasi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3028-3F0F-45DE-8E79-FC47B116331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ject initiation and feasi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on fea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typically broken down into the following sec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pose of th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scope (what areas of the system are to be considered in the develop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 and requirements (this is usually the reason for the project development being initiat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aints (i.e. has to be completed in 3 months, has to run on existing hardware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mmendations (i.e. don’t proceed with the develop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38FF-F21A-4EDF-ACDC-AC973C7F25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ject initiation and feasi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y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rives an organisation to develop their system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organisation needs to gr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organisation are required to update/change their systems in order to meet new stand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organisation is merging with another business and it is more cost effective to adopt a new system to centralise all proc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need to reduce staff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you think of anymo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E405-7B40-4DDD-83B8-F976D7B718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ject initiation and feasi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Task 1 and finish of Task 2 – until the end of the les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FF4B-AE12-44CA-B95E-20AA6ADB6E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quired a knowledge into developmental methodolog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ed an understanding into what SSADM is used for and what lifecycle would utilise this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ed an insight into the six stages of the development process (discussed the first o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ied what the key drivers are for an organisation in deciding to move to a new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3891-9913-4DE5-9816-7DF1CD0772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what SSADM is used for and what lifecycle would utilise this met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an insight into the six stages of the development process (discuss the first o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 what the key drivers are for an organisation in deciding to move to a new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E10B-43A1-4FD4-B12F-09396A8300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SADM – Structured Systems Analysis and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approach is as the name suggests a structured approach and therefore would be best suited to the a lifecycle like the waterf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SADM wouldn’t be best suited with a lifecycle like RAD – 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SADM focuses on the early stages capturing the requirements and the design of the proposed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BC06-B10B-4A94-8AD9-EFEBBA052E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SADM –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2276640"/>
            <a:ext cx="8353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ructured method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government stand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driven (GIGO – garbage in garbage ou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ical (DFD, ERD) and physical views (network diagrams)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ires user involv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p-down and bottom-up techniq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agrammatic and non-diagrammatic techniq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ks to quality assurance, project management, risk assess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other project proced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5CFC-44DD-47E2-A568-F960BD5A53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SADM – Advan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9640" y="2276640"/>
            <a:ext cx="7272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a cookbook appro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ows delegation of simpler tasks to junior personn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forces a clear chain of responsi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rything is audi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s that result are fully docume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SE tool support is available from a number of vend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omputer aided software engineer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free for anyone to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sier to project man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4996-ED0E-428A-B15C-EB9B12F057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SADM – Disadvan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2276640"/>
            <a:ext cx="835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me consuming to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ftware emerges slow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sn’t kept up with the new trends in 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k: look on the internet and find out about CASE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3704-0D9B-45D1-A0ED-B600D67F15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SADM – Structured Systems Analysis and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hole system development process can be broken down into six s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 initiation and fea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stigation and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en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AE4F-C8F7-46A9-808C-218F7CB8D2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 initiation and feas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must be a trigger that initiates the whole development process – a key driver i.e. business is planning to expand therefore a new system is required to manage the new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sibility – this is undertaken before development begins to ensure that the project should be undertaken and whether it can be justifi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72F5-D80B-4494-9F43-14A070DC77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ject initiation and feasi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on feas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required to ensure the project is financially fea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7B0A-29E0-4275-993D-EBCC4DB37F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brendan.coulson</cp:lastModifiedBy>
  <dcterms:modified xsi:type="dcterms:W3CDTF">2008-10-06T13:03:42Z</dcterms:modified>
  <cp:revision>32</cp:revision>
  <dc:subject/>
  <dc:title>Computer Platforms Week 1</dc:title>
</cp:coreProperties>
</file>