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A06-A796-4362-85D2-F3746542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FF1-E476-435F-AA44-08EB8D3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D5D-E07D-4988-82A7-9F65AA51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64E-C4BE-4E0E-BC72-4445322F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EEF0-7C01-4D14-A0A1-05CDD4CA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D7C-3297-4220-BE63-A223002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D9A8-7937-4988-9D4F-E42612B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3A7-9A51-46E9-95FD-FB45AC5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50F6-D5FA-463D-8139-92253B4C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ED9-6860-4EEF-847E-D29F762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C88-7A0E-4D61-BB39-11DAACF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3CC-36EF-4842-ABBC-746650E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41B9-CF55-4E0F-BB0C-01C2987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D9D6-5D04-405E-AAFC-3189FA9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60A9-EC12-49C3-97C7-3F9ADE34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F19F-E4B9-4152-B0AB-3C953F5F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4807-CD40-436E-A15F-1BFF98D3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DCB-CF18-4AF5-BE0A-2653443A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D4C-5951-4E79-8950-BF58AAB1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EDB-728D-4FF1-8AF8-99350502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251-D243-4B45-B408-6D2A420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BC8-B57C-423A-9372-104A355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5AB-EEAA-44C1-B5DA-5CE068B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5FC-486C-48DE-B74D-6804B64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16A-E685-42D5-895B-443DD4D0A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F03-D1AE-4480-A33B-AA6933BAF4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- Project initiation and fea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CF88-C8CE-4749-B1FB-A09CC0613C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ypically broken down into the following se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scope (what areas of the system are to be considered in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nd requirements (this is usually the reason for the project development being initi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(i.e. has to be completed in 3 months, has to run on existing hardware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(i.e. don’t proceed with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8A2-1CF3-4F2D-971D-0EBAB74FC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rives an organisation to develop their syst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needs to g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are required to update/change their systems in order to meet new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is merging with another business and it is more cost effective to adopt a new system to centralise a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ed to reduce staff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think of anymo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126-F70F-43E3-A2E2-92C415A6C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ask 1 and finish of Task 2 – until the end of the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980-3D79-435F-941C-977042D4A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a knowledge into developmental methodolo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what SSADM is used for and what lifecycle would utilise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insight into the six stages of the development process (discussed the first 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what the key drivers are for an organisation in deciding to move to a new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A81-D4FB-47F0-A874-0FFAD5B76C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at SSADM is used for and what lifecycle would utilise thi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the six stages of the development process (discuss the first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the key drivers are for an organisation in deciding to move to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936-BB2B-4C86-8D89-F69E38143A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roach is as the name suggests a structured approach and therefore would be best suited to the a lifecycle like the water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wouldn’t be best suited with a lifecycle like RAD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focuses on the early stages capturing the requirements and the design of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84B-9202-4056-8261-7F7C45594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27664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ur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vernment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driven (GIGO – garbage in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(DFD, ERD) and physical views (network diagrams)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user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-down and bottom-up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grammatic and non-diagrammatic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s to quality assurance, project management,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other project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16B-C7B2-4039-AB27-377E3AB59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27664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okbook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delegation of simpler tasks to junior perso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s a clear chain of respo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s audi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that result are fully docum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 tool support is available from a number of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mputer aided software enginee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free for anyone to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ier to project ma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04B-9F55-4BAC-BC1B-2C2BDED217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76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um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emerges slow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n’t kept up with the new trend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look on the internet and find out about CAS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508-E910-44CA-B920-FD8E47815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development process can be broken down into six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62B-914F-4490-9B00-68E0E5E0D7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 trigger that initiates the whole development process – a key driver i.e. business is planning to expand therefore a new system is required to manage the new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– this is undertaken before development begins to ensure that the project should be undertaken and whether it can be justif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246-618B-4D7D-A078-689A159241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quired to ensure the project is financially fea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AF2-1026-41C7-96F8-2F826945E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03:42Z</dcterms:modified>
  <cp:revision>32</cp:revision>
  <dc:subject/>
  <dc:title>Computer Platforms Week 1</dc:title>
</cp:coreProperties>
</file>