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1266-AB6C-4631-82AC-C39341A374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fication – is the method of checking data by making the user enter it in 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idation – is the process of checking the data entered is reasonable and in the correc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reen design would normally consists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itle for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reen layout, tab order of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put design would normally consists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title for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 layout or report lay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 of data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52D4-A7CC-4F7A-80DB-841D8E8C1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521C-4B13-42AF-A96A-B178FAC8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B832-1152-43C2-A389-C95FE352D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284A-79E6-48A4-B18F-366D7EB07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0A93-D0DD-4D84-8C34-B1C4CCE44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E6FC-6152-4ABC-875D-F48A30F6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E24F-090C-44F1-B125-A93FC6AD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9C3B-F1C3-4CB4-9F15-23F9A9E9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BE16-760D-4C6F-9AE7-B909E665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0ED3-1834-4B9A-99A5-3F1DF8E4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2A2D0-BD1F-4775-9599-6F66FFE2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DCF2-5695-4D43-A266-90CA8873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6866-7BFC-4609-993B-D667C1BB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0507-B14A-4691-A692-560672AF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7B80-1D66-4E9A-AA72-22C8ED07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AE8C-6D45-420B-8E55-93C700BC8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C795-A679-46F7-8275-5E3C0080B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D03F-EC8C-4862-B7D6-143D2BB8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C436-93BA-47CF-9985-C0F48EF4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3886-5594-4BCB-BB82-35D02085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5298-2B58-40EF-B8FD-6CC792CE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E795-AD28-4B08-95D8-B764D63A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33CB-C347-4844-8F9E-E66292B8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7DB7-143C-4AAB-84F0-765FD768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4D17-B181-46BE-ADE8-936C1CF7CC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C3BF-7E7A-4F9A-A0FD-75951CFC0C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 Systems Analysis and Desig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SADM – Desig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0F8E-9E10-42F3-A177-99457BA2A25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– Flow ch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are diagrams used to show how processes link in a systematic (logical) w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graphically represents decisions, processes and where the overall processes starts and e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1DF7-A289-4A32-96FA-B243014CE7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07552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– Flow ch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als or circles are used to represent where the main process starts and e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sions are represented as a diam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ngles are for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ctive verbs i.e. send, calcul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877080" y="4221000"/>
          <a:ext cx="931680" cy="57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77080" y="4221000"/>
                    <a:ext cx="93168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6659640" y="2205000"/>
          <a:ext cx="1485720" cy="158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59640" y="2205000"/>
                    <a:ext cx="148572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6516720" y="5229360"/>
          <a:ext cx="1700280" cy="103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16720" y="5229360"/>
                    <a:ext cx="170028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8186-E455-45BE-826F-504650A909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lowchart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170028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will attempt to model the pseudo code from the earlier example as a flowchart using Vis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292428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ce you have helped your tutor complete the earlier example you need to attempt and create one yourself using the add customer example from earli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491A-23DD-4567-84D5-6CED454776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07552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sions t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ful when there are a lot of different options to choose from and you want to identify what happens in each circumst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when a flow chart would be too complicated to dra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EA39-D642-4695-973C-97C4E9D831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cisions tab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424160" y="1743120"/>
          <a:ext cx="6172200" cy="2603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isting Custom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Mess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Customer to datab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5DF2-BC54-4BA2-BD16-2438CA07D1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ed further knowledge into the six stages of the development process (discuss the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age – Desig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ed input, output and process spec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ed an insight into ,pseudo code flowcharts and decision 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8F0F-8F35-492E-BDA2-24580EBE6B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 further knowledge into the six stages of the development process (discuss the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age – Desig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 input, output and process spec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 an insight into ,pseudo code flowcharts and decision tabl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76AE-C9BC-474C-8A50-A9191862D7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stage focuses on designing solutions that meet the requirements that were discovered in the analysis st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a number of keys parts to design, which a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 and output specif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descriptors (this is the processes that transform the input into the required outpu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76D8-37A0-4092-8AC2-38B39C5652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– input spec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the method/s used by the user to capture data. Examples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r-code rea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tic str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 entry (using keyboard and mou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ny mo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data is enter manually validation and verification techniques should be us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ember GI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F17F-8EBD-4D20-88D8-1CE663F69E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Layouts – input spec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designed using prototypes screens. These prototypes will not focus on the functionality just appear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-user will evaluate the prototypes and make requests. These requests will get implemented and the end-user will be asked for their opin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ould expect to see on a scre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BB72-43C1-468E-AF64-9929D92D33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Layouts – output spec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would consist of screen outputs, reports or fi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ypes of outputs can you think of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7965-2A2B-47ED-B5AB-5E70DEFCC1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– Process descrip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es would have been identified in the investigation st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important to define each process clearly to ensure that there is no unnecessary code implemented and the process does what was requi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A7F7-3B8A-417E-B35C-B6E0488251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– Process descrip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ollowing methods are used to create process specific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eudo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ow cha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sion 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EA53-4512-4385-A801-54632DCE19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- Pseudo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uctured English - describes the process in English (as appose to programming cod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 “Add fault to fault databas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Open fault datab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Check if fault already exists, if it doesn’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Create new fault recor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Assign fault with unique fault numb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Request the user to input fault detai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Store fault detai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if fault already exis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Display message to let the user know that the fault has already been logg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Close fault datab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try and write some pseudo code to add a customer record to a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BC41-5728-4B9A-9B81-CAB48AE04A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brendan.coulson</cp:lastModifiedBy>
  <dcterms:modified xsi:type="dcterms:W3CDTF">2008-10-06T13:30:02Z</dcterms:modified>
  <cp:revision>29</cp:revision>
  <dc:subject/>
  <dc:title>Computer Platforms Week 1</dc:title>
</cp:coreProperties>
</file>