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D118-6AA8-4CD8-9E56-AFCF72BFC2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tion – is the method of checking data by making the user enter it in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– is the process of checking the data entered is reasonable and in the correc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layout, tab order of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put design would normally consists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title for the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 layout or report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 of data i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DAC-553C-4D42-8F2C-50895D73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2ED-6D54-4610-ACB8-A0D38113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461-D074-4DF9-85AB-F8AA0692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626-4220-403D-8023-14604C7E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4C47-5658-4345-9EAF-47E0B12E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3AFC-1343-456A-902B-86A44FAB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2E20-E671-4165-A4A8-3894FB0D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68DE-1B8D-45D1-B3A6-A5A852AF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D463-A473-4394-8AFF-475D7DC4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6CD9-BE27-4416-B01A-24C63FB8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4552-58BF-4058-94B5-0D692C1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E10-8833-4E8E-B04A-08B3C619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6480-903F-4C78-B8EC-069C733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C6FF-47D5-4483-9CFF-EF598967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63C6-1A1D-413D-8697-EC415398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A89E-1AA3-46F7-B889-5F43C451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FA95-CD0A-4618-9DE8-FD5E2775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E4A-6B2F-4358-9A1D-7D43290D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D6A-A1C5-497D-AB5D-D43C411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E30-8257-4C74-8168-63953FC2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D3D-7A55-4129-ACEA-652DBE8C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129-EB98-461A-98D9-B60A476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606-D891-4448-B849-E38E32E8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935-C736-47DD-A139-1535C24D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62D7-402A-4E41-AEDF-33CDAB111D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7806-453E-4B2D-9E0D-47F1329ED6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and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SADM –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EDB2-79C6-4CEA-AA14-150D9D2FEF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diagrams used to show how processes link in a systematic (logical) 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graphically represents decisions, processes and where the overall processes starts and 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FA1-EB80-4D28-B288-308763113C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– Flow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als or circles are used to represent where the main process starts and 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are represented as a dia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ngles are for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ctive verbs i.e. send, calcu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77080" y="4221000"/>
          <a:ext cx="93168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4221000"/>
                    <a:ext cx="93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659640" y="2205000"/>
          <a:ext cx="1485720" cy="158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59640" y="2205000"/>
                    <a:ext cx="14857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516720" y="5229360"/>
          <a:ext cx="1700280" cy="103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229360"/>
                    <a:ext cx="170028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369-AF42-40B3-B3C3-99F6E1E25D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char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700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ill attempt to model the pseudo code from the earlier example as a flowchart using Vis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9242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you have helped your tutor complete the earlier example you need to attempt and create one yourself using the add customer example from earl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E1A-F1E5-4816-8C3B-8CDC7425D7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when there are a lot of different options to choose from and you want to identify what happens in each circum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when a flow chart would be too complicated to d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2A3-0342-47F3-A535-5CD40E738C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s tab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424160" y="1743120"/>
          <a:ext cx="6172200" cy="2603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isting Custo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Mes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 Customer to datab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267-AFD4-4B90-AF5D-691B65CD01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insight into ,pseudo code flowcharts and decision 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B82-80CC-426C-B101-81358DEF91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further knowledge into the six stages of the development process (discuss 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ge – Desig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input, output and process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insight into ,pseudo code flowcharts and decision ta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5A5-42D0-42CA-A9A2-195EAEF99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tage focuses on designing solutions that meet the requirements that were discovered in the analysis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keys parts to design, which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and output spec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descriptors (this is the processes that transform the input into the required outpu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10A-4C51-428F-9C1B-AC30ECA97D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method/s used by the user to capture data. Example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-code r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tic str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entry (using keyboard and mo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ny mo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ata is enter manually validation and verification techniques should be us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G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CA6-243C-4AB6-B79E-40DA197CBD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in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designed using prototypes screens. These prototypes will not focus on the functionality just appear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-user will evaluate the prototypes and make requests. These requests will get implemented and the end-user will be asked for their opin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uld expect to see on a scre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9F2-13A1-471C-812E-D1F64C28BB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Layouts – output spec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would consist of screen outputs, reports or f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s of outputs can you think o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905-8679-4768-8D79-42EAA17B7D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would have been identified in the investigation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define each process clearly to ensure that there is no unnecessary code implemented and the process does what w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5960-EB0A-46B9-B54C-1A4DF7D497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– Process descri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methods are used to create process spec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eudo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997-449C-4F81-ACD0-D44FB19C35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SAD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- Pseudo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d English - describes the process in English (as appose to programming co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“Add fault to fault databas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Open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heck if fault already exists, if it doesn’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reate new fault 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Assign fault with unique fault numb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Request the user to input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Store fault deta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if fault already exi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Display message to let the user know that the fault has already been logg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Close fault 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try and write some pseudo code to add a customer record to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7D9-5026-4517-ABAC-81EB17BE9F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3:30:02Z</dcterms:modified>
  <cp:revision>29</cp:revision>
  <dc:subject/>
  <dc:title>Computer Platforms Week 1</dc:title>
</cp:coreProperties>
</file>