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1B55-700B-4010-A729-C3AF2C7855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cation – is the method of checking data by making the user enter it in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– is the process of checking the data entered is reasonable and in the correc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design would normally consists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tle for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layout, tab order of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put design would normally consists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title for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 layout or report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 of 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426-F89E-421D-AADA-F1DBDB9C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43A-9B73-485D-973E-B6472F71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059-A229-4173-A1EC-B931D472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F974-9F2A-46AF-A5B2-9715CE5B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75FF-5FBF-4910-A426-D22C1853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A330-35CA-42CB-96BF-B819C9E5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1BF7-0B25-4EE5-AA7B-2268A44A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6785-C17E-4C0C-ACD6-4073EDBF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3035-F144-4334-909A-5C40492C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42A8-1568-4A79-B6D0-3D81292A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26B9-F80A-43AC-A8CF-0C974B88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DAE-6EBF-4E3F-9AAA-22C980DF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0DE0-52C6-4825-8614-6B6C6D9C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F797-3243-4E2C-8D00-EE6D5A42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E332-C91D-4981-A5D2-78B8C093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49BC-C47C-410A-B25D-3D6A6486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39DF-5496-4B63-8F75-A096687A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5ED-FE90-4F9D-82B8-F6C173F4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F59-75AD-4D98-92CF-CFB5DBC1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014C-109B-4F63-ACDF-EA2FAD9D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92F-20CD-497D-8764-3C5FF119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A44-DA34-4719-A3EE-DB393A6D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9C8-FEDC-4A57-81A2-0AFD4527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C64-10C8-43A4-A92B-A293BD6A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A226-76D7-4E55-9FE7-95B7387F2C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63D9-AF69-4B29-9EA1-ED5FC74E45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–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03D6-16C8-4F49-B92C-32ABB5E5AED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diagrams used to show how processes link in a systematic (logical)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graphically represents decisions, processes and where the overall processes starts and 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636-A47C-4F29-8998-0E6EAE6CAB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als or circles are used to represent where the main process starts and 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are represented as a dia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ngles are for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ctive verbs i.e. send, calcul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77080" y="4221000"/>
          <a:ext cx="93168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4221000"/>
                    <a:ext cx="9316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659640" y="2205000"/>
          <a:ext cx="1485720" cy="15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2205000"/>
                    <a:ext cx="14857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516720" y="5229360"/>
          <a:ext cx="1700280" cy="103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5229360"/>
                    <a:ext cx="170028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5D7-EA18-457E-AF9D-E1ADC69B14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char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700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attempt to model the pseudo code from the earlier example as a flowchart using Vis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2924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you have helped your tutor complete the earlier example you need to attempt and create one yourself using the add customer example from earli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E3E-31E2-44BC-A317-56F3B3E09E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when there are a lot of different options to choose from and you want to identify what happens in each circum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when a flow chart would be too complicated to dr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3CD-B9DA-46B3-854E-3610D435D3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424160" y="1743120"/>
          <a:ext cx="6172200" cy="2603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isting Custo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Mess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Customer to data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E34-2F5F-4FC6-8692-1AE122EEE8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further knowledge into the six stages of the development process (discuss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ge – Desig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,pseudo code flowcharts and decision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CC1-56FF-4ABE-9648-D85A68B037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further knowledge into the six stages of the development process (discuss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ge – Desig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,pseudo code flowcharts and decision ta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9A9-7E06-47F8-8ECF-2BB8A02582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tage focuses on designing solutions that meet the requirements that were discovered in the analysis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 number of keys parts to design, which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nd output spec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descriptors (this is the processes that transform the input into the required outpu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3EA-A7FD-4400-AC53-200D09A833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in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method/s used by the user to capture data. Example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-code r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tic str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entry (using keyboard and mo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ny mo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ata is enter manually validation and verification techniques should be us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G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5CF3-C8ED-4B64-8F53-02E99AE4B8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Layouts – in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designed using prototypes screens. These prototypes will not focus on the functionality just appea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-user will evaluate the prototypes and make requests. These requests will get implemented and the end-user will be asked for their opin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expect to see on a scre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65C-0542-47FF-B85E-F9D971D9EB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Layouts – out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ould consist of screen outputs, reports or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s of outputs can you think o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66E-85BD-47F9-9708-340ECDE519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would have been identified in the investigation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define each process clearly to ensure that there is no unnecessary code implemented and the process does what wa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D91-7565-4E7A-9CD0-C087C0526C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methods are used to create process spec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eudo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ch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573-C4AB-4927-B6A2-C1FA650BB6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- Pseudo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d English - describes the process in English (as appose to programming cod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“Add fault to fault databa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Open faul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heck if fault already exists, if it doesn’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new fault reco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Assign fault with unique fault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Request the user to input faul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tore faul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if fault already exi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Display message to let the user know that the fault has already been logg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lose faul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try and write some pseudo code to add a customer record to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B87-F988-43F7-A574-20E45EE39D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06T13:30:02Z</dcterms:modified>
  <cp:revision>29</cp:revision>
  <dc:subject/>
  <dc:title>Computer Platforms Week 1</dc:title>
</cp:coreProperties>
</file>