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B86-4FA5-4D55-8846-E8D5DFC1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B49-9AAB-49ED-B0F3-91329B37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081A-BAFF-4A3A-BC0C-ABB767C2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EB0-62B9-4CEB-8EC4-DF7AB6BC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FA4-201C-4368-8860-430BB486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5027-EE1E-43C7-9D45-0948AA80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9D1-95FA-45CE-B02A-4CE3C8BC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BA6-631F-4F57-B73A-76E241E5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81F-6300-40C8-93C6-6D11DFE5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2C4D-90E4-4C13-8C84-C7EFAB0B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A09-7B16-4658-9686-4FB11CF2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7FA-7403-48F5-AFC4-AD2BA983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0CB4-E0A6-4273-997D-E86C36BDA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ety: improved usability of software, people don’t have to be so specialised to use certain applications, which in turn has an impact on wages – less skilled people can carry output complex job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impacts: people may have to retrain because the job they were dong has been replaced with a more user friendly HCI focused technology, enabling less skilled, less paid people to do jo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I may be so user friendly that a job requiring more than one person to complete may now only require one-unemploy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itive eff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ith disabilities can make use of this technology therefore become more employable and more able in using every day applia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how advances in design has made this HCI technology possible. Applications have become more bespoke to the user. Higher level of usability to e achieved-3D im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before graphical user interfaces – CL, DOS. Less people could use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b.net, asp.net allow graphical interactive applications to be created fast, and with relatively little specialised sk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plane Pi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ances in design, virtual and realistic environment enable pilots to be trained without even taking of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or can provide scenario using realistic graphics and physical contro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this 3D sophisticated design there could be less trained pilots which would impact on society because air travel might become more expensive therefore stopping people from being so mob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07:29Z</dcterms:created>
  <dc:creator>Administrator</dc:creator>
  <dc:description/>
  <dc:language>en-US</dc:language>
  <cp:lastModifiedBy>Administrator</cp:lastModifiedBy>
  <dcterms:modified xsi:type="dcterms:W3CDTF">2009-02-03T10:28:29Z</dcterms:modified>
  <cp:revision>5</cp:revision>
  <dc:subject/>
  <dc:title>Revision</dc:title>
</cp:coreProperties>
</file>