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CC3-12CA-4F06-AFCA-8DD7D8CA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6D8-3AAB-497C-A7AB-0C6580F7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DD6-6C83-4577-A62B-B404D621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F04B-8970-4881-BC59-FC496A6A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2A2-D77A-4A8B-99C9-E2507A5E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4EE-9616-4ECC-9EEA-4DE3DA7D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24C-3BDA-4A2A-87A8-560A8658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E9D-E8AD-44B0-9EA8-74CFD8B2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544-2EA3-4D4A-9D5B-90795269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9B8-1ED9-4215-BD2F-24344A7E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945-EB0E-4555-8FB9-1EAB2DA1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C04A-348D-4D94-9279-947AC022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F336-56C6-4E5E-8E0C-D17F4F90F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ety: improved usability of software, people don’t have to be so specialised to use certain applications, which in turn has an impact on wages – less skilled people can carry output complex job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impacts: people may have to retrain because the job they were dong has been replaced with a more user friendly HCI focused technology, enabling less skilled, less paid people to do jo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I may be so user friendly that a job requiring more than one person to complete may now only require one-unemploy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itive eff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ith disabilities can make use of this technology therefore become more employable and more able in using every day applia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how advances in design has made this HCI technology possible. Applications have become more bespoke to the user. Higher level of usability to e achieved-3D im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before graphical user interfaces – CL, DOS. Less people could use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b.net, asp.net allow graphical interactive applications to be created fast, and with relatively little specialised ski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plane Pi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ances in design, virtual and realistic environment enable pilots to be trained without even taking of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ulator can provide scenario using realistic graphics and physical contro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this 3D sophisticated design there could be less trained pilots which would impact on society because air travel might become more expensive therefore stopping people from being so mob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07:29Z</dcterms:created>
  <dc:creator>Administrator</dc:creator>
  <dc:description/>
  <dc:language>en-US</dc:language>
  <cp:lastModifiedBy>Administrator</cp:lastModifiedBy>
  <dcterms:modified xsi:type="dcterms:W3CDTF">2009-02-03T10:28:29Z</dcterms:modified>
  <cp:revision>5</cp:revision>
  <dc:subject/>
  <dc:title>Revision</dc:title>
</cp:coreProperties>
</file>