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A18-AE7C-4E33-823E-0E162FE9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9F6-E60C-4252-9EB9-673D4A9B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0A5-5387-43F1-8437-749FEBD3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73B-F2B0-4BD9-8129-759B2F0D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5D2-4CBA-4791-8286-4FEB54C5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9F49-42DD-482E-8EA9-717014C6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B29-5A99-447F-9C67-663A7384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C518-C0F2-4FB2-8E7C-6CBC07F0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F19-DF17-4EDC-86FD-8745951C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C04-F176-47EF-BDCF-29BA2E29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1D7-45D0-4641-9F4E-4768CB5D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B12-42E3-48EC-AA2F-74135BB7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BD5A-0F43-4981-8191-6E90C1B54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ety: improved usability of software, people don’t have to be so specialised to use certain applications, which in turn has an impact on wages – less skilled people can carry output complex job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impacts: people may have to retrain because the job they were dong has been replaced with a more user friendly HCI focused technology, enabling less skilled, less paid people to do jo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I may be so user friendly that a job requiring more than one person to complete may now only require one-unemploy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itive eff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ith disabilities can make use of this technology therefore become more employable and more able in using every day applia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advances in design has made this HCI technology possible. Applications have become more bespoke to the user. Higher level of usability to e achieved-3D im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before graphical user interfaces – CL, DOS. Less people could use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b.net, asp.net allow graphical interactive applications to be created fast, and with relatively little specialised sk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plane Pi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ances in design, virtual and realistic environment enable pilots to be trained without even taking of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or can provide scenario using realistic graphics and physical contro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this 3D sophisticated design there could be less trained pilots which would impact on society because air travel might become more expensive therefore stopping people from being so mob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07:29Z</dcterms:created>
  <dc:creator>Administrator</dc:creator>
  <dc:description/>
  <dc:language>en-US</dc:language>
  <cp:lastModifiedBy>Administrator</cp:lastModifiedBy>
  <dcterms:modified xsi:type="dcterms:W3CDTF">2009-02-03T10:28:29Z</dcterms:modified>
  <cp:revision>5</cp:revision>
  <dc:subject/>
  <dc:title>Revision</dc:title>
</cp:coreProperties>
</file>