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CD8-491A-4FB6-BD6A-99F1E76E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72FC-E958-4034-9F14-9891ADF4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005-A25A-45D3-972C-ADE8E9B6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177-29D9-4C24-B934-C07A9A36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1FF-379B-4F7F-8EEC-653D988F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669-2C60-4B3E-B32D-13B5BD7E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A14F-1E44-4315-876E-D65E4747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DCB-0A24-48E8-872D-4B7DF930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473-08DB-480B-B8B5-BB72A798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0D01-4AE8-47AC-8BF3-74916224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F956-493B-4871-8067-FDE444E9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6A6-7A6D-4EDD-94DC-F8958857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1783-5D69-4788-B037-EF79F392F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ety: improved usability of software, people don’t have to be so specialised to use certain applications, which in turn has an impact on wages – less skilled people can carry output complex job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impacts: people may have to retrain because the job they were dong has been replaced with a more user friendly HCI focused technology, enabling less skilled, less paid people to do jo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I may be so user friendly that a job requiring more than one person to complete may now only require one-unemploy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itive eff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ith disabilities can make use of this technology therefore become more employable and more able in using every day applia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how advances in design has made this HCI technology possible. Applications have become more bespoke to the user. Higher level of usability to e achieved-3D im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before graphical user interfaces – CL, DOS. Less people could use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b.net, asp.net allow graphical interactive applications to be created fast, and with relatively little specialised ski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plane Pi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ances in design, virtual and realistic environment enable pilots to be trained without even taking of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or can provide scenario using realistic graphics and physical contro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this 3D sophisticated design there could be less trained pilots which would impact on society because air travel might become more expensive therefore stopping people from being so mob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07:29Z</dcterms:created>
  <dc:creator>Administrator</dc:creator>
  <dc:description/>
  <dc:language>en-US</dc:language>
  <cp:lastModifiedBy>Administrator</cp:lastModifiedBy>
  <dcterms:modified xsi:type="dcterms:W3CDTF">2009-02-03T10:28:29Z</dcterms:modified>
  <cp:revision>5</cp:revision>
  <dc:subject/>
  <dc:title>Revision</dc:title>
</cp:coreProperties>
</file>