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195E2A-B263-4C4D-9D79-3E9A05A4AC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A0B944-A72C-4E51-B963-8BCED6085E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AD36E0-114E-4D5A-82DF-B44A9B91A3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063C42-1196-4F72-86C9-282C868BD5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2274DA-FE20-421D-85BA-FE4855AD4F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8B0D95-0529-45DE-80D0-82A6874B40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0527F2-60BE-4ED2-BCDF-B97F79187E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4586B2-10F4-4779-8428-8B45ACABB2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4A93C2-107D-4D58-85A9-2531E4E96A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11EBF-74A6-4DE5-8FDA-E0AF21E77D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A2396-D117-4A67-AEB0-3918F959D2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56335-6515-4EDE-B0C9-2DF4B4249B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BDE17-490F-464C-8526-154918B2CE1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Specification part 2</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TEC National</a:t>
            </a:r>
            <a:endParaRPr b="0" lang="en-US" sz="3200" spc="-1" strike="noStrike">
              <a:solidFill>
                <a:srgbClr val="000000"/>
              </a:solidFill>
              <a:latin typeface="Arial"/>
            </a:endParaRPr>
          </a:p>
        </p:txBody>
      </p:sp>
      <p:pic>
        <p:nvPicPr>
          <p:cNvPr id="43" name="" descr=""/>
          <p:cNvPicPr/>
          <p:nvPr/>
        </p:nvPicPr>
        <p:blipFill>
          <a:blip r:embed="rId1"/>
          <a:stretch/>
        </p:blipFill>
        <p:spPr>
          <a:xfrm>
            <a:off x="6804000" y="404640"/>
            <a:ext cx="1542960" cy="1381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boundaries or scope</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oundaries or scope of a project are what the project aims to achieve. The project should be no more and no less than what is defined in the scope, then it should be delivered as part of the project. If it is not in the scope then it should not be built, as building unnecessary features will incur extra costs. The scope of a project is recorded in the written project specification, which should contain th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son for undertaking the project</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cted benefi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cess criteri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rai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boundaries or scope</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roadma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ource require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kehold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iverab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poi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rget completion d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straint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obstacles that may make the project difficult to achieve. These constraints might b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inancial</a:t>
            </a:r>
            <a:r>
              <a:rPr b="0" lang="en-GB" sz="2000" spc="-1" strike="noStrike">
                <a:solidFill>
                  <a:srgbClr val="000000"/>
                </a:solidFill>
                <a:latin typeface="Arial"/>
              </a:rPr>
              <a:t> (for example, no major investment might be allowed until next yea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CT staff</a:t>
            </a:r>
            <a:r>
              <a:rPr b="0" lang="en-GB" sz="2000" spc="-1" strike="noStrike">
                <a:solidFill>
                  <a:srgbClr val="000000"/>
                </a:solidFill>
                <a:latin typeface="Arial"/>
              </a:rPr>
              <a:t> (for example, the skills needed for this project migt not be availa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CT equipment</a:t>
            </a:r>
            <a:r>
              <a:rPr b="0" lang="en-GB" sz="2000" spc="-1" strike="noStrike">
                <a:solidFill>
                  <a:srgbClr val="000000"/>
                </a:solidFill>
                <a:latin typeface="Arial"/>
              </a:rPr>
              <a:t> (for example, the project might require specialised hardware or software, this may need to be brought, installed etc before the project can begi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usiness</a:t>
            </a:r>
            <a:r>
              <a:rPr b="0" lang="en-GB" sz="2000" spc="-1" strike="noStrike">
                <a:solidFill>
                  <a:srgbClr val="000000"/>
                </a:solidFill>
                <a:latin typeface="Arial"/>
              </a:rPr>
              <a:t> (for example, the project may be required to help launch a new business and would therefore need to be completed prior to the business launch)</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straints continued</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are obstacles that may make the project difficult to achieve. These constraints might b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gislation </a:t>
            </a:r>
            <a:r>
              <a:rPr b="0" lang="en-US" sz="2000" spc="-1" strike="noStrike">
                <a:solidFill>
                  <a:srgbClr val="000000"/>
                </a:solidFill>
                <a:latin typeface="Arial"/>
              </a:rPr>
              <a:t>(for example, the project may be required to ensure the organisation conforms to new laws and would therefore need to be completed prior to the laws start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etition.</a:t>
            </a:r>
            <a:r>
              <a:rPr b="0" lang="en-US" sz="2000" spc="-1" strike="noStrike">
                <a:solidFill>
                  <a:srgbClr val="000000"/>
                </a:solidFill>
                <a:latin typeface="Arial"/>
              </a:rPr>
              <a:t> (for example, the project might provide a competitive advantage or respond to a competitive threat so may need to be delivered quickl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resources</a:t>
            </a:r>
            <a:r>
              <a:rPr b="0" lang="en-US" sz="2000" spc="-1" strike="noStrike">
                <a:solidFill>
                  <a:srgbClr val="000000"/>
                </a:solidFill>
                <a:latin typeface="Arial"/>
              </a:rPr>
              <a:t>. (for example, the users may be unavailable for training during the peak seas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sideration of option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usually more than one ICT solution to a business problem. One option may be cheap and quick to produce but will only give limited benefits. Another option may meet every possible need very well; however, this may be very costly and the benefits may never exceed the running costs. The chosen option is often somewhere between these two extremes. It is often appropriate to record briefly in the project definition the options that were rejected and wh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ssue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ject specification should highlight any issues that the stakeholders need to decide on to make the project a success. Examples of these include the following:</a:t>
            </a:r>
            <a:endParaRPr b="0" lang="en-US" sz="2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thical</a:t>
            </a:r>
            <a:r>
              <a:rPr b="0" lang="en-US" sz="2000" spc="-1" strike="noStrike">
                <a:solidFill>
                  <a:srgbClr val="000000"/>
                </a:solidFill>
                <a:latin typeface="Arial"/>
              </a:rPr>
              <a:t>. Will this project change business terms and conditioned and make them unreasona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stainable</a:t>
            </a:r>
            <a:r>
              <a:rPr b="0" lang="en-US" sz="2000" spc="-1" strike="noStrike">
                <a:solidFill>
                  <a:srgbClr val="000000"/>
                </a:solidFill>
                <a:latin typeface="Arial"/>
              </a:rPr>
              <a:t>. Can the organisation still function effectively once the changes brought in by the project happe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ect of failure</a:t>
            </a:r>
            <a:r>
              <a:rPr b="0" lang="en-US" sz="2000" spc="-1" strike="noStrike">
                <a:solidFill>
                  <a:srgbClr val="000000"/>
                </a:solidFill>
                <a:latin typeface="Arial"/>
              </a:rPr>
              <a:t>. What would happen to the organisation if the project failed to hit deadlines or did not produce a working ICT produc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sks and risk mitigation</a:t>
            </a:r>
            <a:endParaRPr b="0" lang="en-US" sz="4400" spc="-1" strike="noStrike">
              <a:solidFill>
                <a:srgbClr val="000000"/>
              </a:solidFill>
              <a:latin typeface="Arial"/>
            </a:endParaRPr>
          </a:p>
        </p:txBody>
      </p:sp>
      <p:sp>
        <p:nvSpPr>
          <p:cNvPr id="57" name="PlaceHolder 2"/>
          <p:cNvSpPr>
            <a:spLocks noGrp="1"/>
          </p:cNvSpPr>
          <p:nvPr>
            <p:ph/>
          </p:nvPr>
        </p:nvSpPr>
        <p:spPr>
          <a:xfrm>
            <a:off x="457200" y="1599840"/>
            <a:ext cx="8229600" cy="2405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projects face risk, which you need to consider. You should also plan for risk mitigation; what you might reasonably do both to prevent them happening and if they do happen. There are many types of risk, including business, ICT and implementation risks.</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does it mea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
          <p:cNvSpPr/>
          <p:nvPr/>
        </p:nvSpPr>
        <p:spPr>
          <a:xfrm>
            <a:off x="900000" y="4292640"/>
            <a:ext cx="4248360" cy="916920"/>
          </a:xfrm>
          <a:prstGeom prst="rect">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isk is any event, foreseen or not, that may happen and that puts the success of the project in jeopardy</a:t>
            </a:r>
            <a:endParaRPr b="0" lang="en-US" sz="1800" spc="-1" strike="noStrike">
              <a:solidFill>
                <a:srgbClr val="000000"/>
              </a:solidFill>
              <a:latin typeface="Arial"/>
            </a:endParaRPr>
          </a:p>
        </p:txBody>
      </p:sp>
      <p:sp>
        <p:nvSpPr>
          <p:cNvPr id="59" name=""/>
          <p:cNvSpPr/>
          <p:nvPr/>
        </p:nvSpPr>
        <p:spPr>
          <a:xfrm>
            <a:off x="5724360" y="4292640"/>
            <a:ext cx="2735280" cy="119124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mitigation is the actions taken to reduce the effect of a risk if it should happ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sks and risk mitigation</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usiness risk is that the nature of the business may change during the life of a project. Typical ICT risks includ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liability of new hardware or softwar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vailability of staff with the right business and technical skills at the right tim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tegration of different technologi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oject implementation risk is that it is not a good idea to introduce a new system just prior to an expected peak in business activity. This is because relatively minor problems within the project could lead to major risks for the busin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3T20:47:27Z</dcterms:created>
  <dc:creator>stds12</dc:creator>
  <dc:description/>
  <dc:language>en-US</dc:language>
  <cp:lastModifiedBy>brendan.coulson</cp:lastModifiedBy>
  <dcterms:modified xsi:type="dcterms:W3CDTF">2009-05-13T21:19:11Z</dcterms:modified>
  <cp:revision>4</cp:revision>
  <dc:subject/>
  <dc:title>Project Specification part 2</dc:title>
</cp:coreProperties>
</file>