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000-A180-4DD0-A5C2-C85120FE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727-37AA-40AA-85F7-1B78CE60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4A9-F504-4127-93F4-6B23EFF95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C47-B803-4335-9B0C-A853B740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11AD-A4F2-467C-876B-99D44E6B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F72D-8DC1-45F7-B12F-4946685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0FB0-64D8-4CC5-85C6-1091FFC6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7CD7-A619-4574-8FDA-E4B7CB53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3F4A-C386-4B0D-9575-3C39DC0F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E873-028D-44C1-AFB4-E78E4E41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DC43-27B5-4D1C-93D5-63D6356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988-4B78-4935-B16F-A28D1CAE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133-7695-4490-964A-7CD2692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4408-84BF-4DA6-9255-A1074CD2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8AFD-AA5A-4DF2-A2B8-4A61E47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B9B-AFDE-48E2-86DA-0973C33C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12C1-75A1-43F9-A02A-1D37C64B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417-A960-4D2C-94EB-6BC6F9E1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E55-2204-4106-92C7-CEF8392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6AE-E705-4981-8DC7-44C66FED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9AF-C04F-4573-B1BF-45E6CD21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25E-F1D7-464C-ABAA-AD86FDFB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D7F-189C-4394-8EFD-1FA062B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0EF-E973-48AE-9033-CCFDE923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EC4-DEAE-4413-9D59-40ABD857F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866A-C48E-4FEF-9CA2-B95AB1A0B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400C-15F1-44A4-A54D-DC2AF21C9C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D31-DF75-42ED-9392-78C16F2D64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478-AD59-411A-9F00-544C5B9487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6BB-87F8-42EE-914C-30B7AF54A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476-670D-4490-BF61-A7AE7E706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863-F3E9-4B4D-9152-FE532ED1C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a product to a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produc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produc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product with unique produc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produc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produc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product has been add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produc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FEF3-87FB-4431-8844-E9F247D3B4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932-B668-44B3-9634-E02C5C27A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presents an input or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7308720" y="2133720"/>
          <a:ext cx="1486080" cy="158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08720" y="2133720"/>
                    <a:ext cx="1486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6804000" y="4941720"/>
          <a:ext cx="1700280" cy="103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4941720"/>
                    <a:ext cx="17002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24000" y="5877000"/>
            <a:ext cx="2463480" cy="795240"/>
          </a:xfrm>
          <a:prstGeom prst="parallelogram">
            <a:avLst>
              <a:gd name="adj" fmla="val 774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/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D76-6435-43C4-978E-6550FBAD3D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70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flow chart outlined in task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(task 2 and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92B-6C6B-439E-87BC-AFA60EB827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Flow Cha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A8C-87BA-4861-8A30-0D0E6A241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3-17T17:45:49Z</dcterms:modified>
  <cp:revision>31</cp:revision>
  <dc:subject/>
  <dc:title>Computer Platforms Week 1</dc:title>
</cp:coreProperties>
</file>