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C50C-AF22-4E06-8F7B-7534CE00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40F9-0B02-4090-A542-3B7C50BD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0F75-8634-47A1-994D-5408DC03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28D3-E7E8-4330-9761-68D34487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58F5-8999-4A77-A5C3-B05DB500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7561-46EC-4EBF-A26D-B3392B7D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F0B8-E7BB-4F81-8025-5C80FEC6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F128-D0EC-4993-8339-D464830F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122A-01BB-4320-889E-D05AE566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2254-5324-421C-BAC9-60424F87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A3D4-3097-48F6-BED2-1224E67D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BC1A-A73B-4E6D-AFEB-A1730EC8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A354-9F46-416F-8DCC-C87311C1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270D-A045-4057-91B8-94BC2C71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1C8B-FD30-4767-841E-AE7F2E59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FC25-D347-4883-9166-8F3069EA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4EBF-981E-4260-84D4-0D630248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E8D9-588B-4963-A4F2-0F222378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A8BF-32DF-49F3-A859-21DF6CFB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A8D2-BC03-456F-BA7E-7AE32B86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36CA-DCFE-4F7F-A286-C04B6789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1031-7318-4827-B96E-96FBF406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A481-81B6-47E4-8830-B5CF04C4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5EE5-F977-459A-ABE6-781B8A48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E916-3C66-476A-A1BF-E85381D650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0B77-29FD-4500-8AE3-0BD2CA9390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 Systems Analysis and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SADM – De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9D5A-5D39-4D03-99B2-AE7C1469910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cisions t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424160" y="1743120"/>
          <a:ext cx="6172200" cy="2603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isting Custom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Mess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Customer to data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7554-7255-440D-9B25-B0822D05BF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ed input, output and process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ed an insight into ,pseudo code flowcharts and decision 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62A0-CE46-44DB-8ADE-F8E1051D9F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input, output and process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an insight into ,pseudo code flowcharts and decision tab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F3E3-E5BA-4173-93D0-6D4C1B500B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s Desig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Process descrip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es would have been identified in the investigation s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important to define each process clearly to ensure that there is no unnecessary code implemented and the process does what was re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D3D9-1E78-4485-8DDA-E4D6C9C394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s Desig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Process descrip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llowing methods are used to create process specif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eudo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w ch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833C-96D0-460B-B3CE-740E44D1D5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s Desig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- Pseudo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d English - describes the process in English (as appose to programming cod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“Add a product to a databas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Open product datab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heck if product already exists, if it doesn’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reate new product recor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Assign product with unique product nu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Request the user to input product detai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Store product detai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if product already exi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Display message to let the user know that the product has been add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lose product datab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try and write some pseudo code to add a customer record to a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5076-3609-4BB6-98F4-8028445467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s Desig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Flow ch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diagrams used to show how processes link in a systematic (logical) 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graphically represents decisions, processes and where the overall processes starts and e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C552-818C-4FC4-AF94-6D0A27447F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s Desig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0755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– Flow ch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als or circles are used to represent where the main process starts and 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s are represented as a diam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ngles are for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ctive verbs i.e. send, calcul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presents an input or out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877080" y="4221000"/>
          <a:ext cx="931680" cy="571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77080" y="4221000"/>
                    <a:ext cx="9316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7308720" y="2133720"/>
          <a:ext cx="1486080" cy="1582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08720" y="2133720"/>
                    <a:ext cx="148608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804000" y="4941720"/>
          <a:ext cx="1700280" cy="1032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04000" y="4941720"/>
                    <a:ext cx="170028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324000" y="5877000"/>
            <a:ext cx="2463480" cy="795240"/>
          </a:xfrm>
          <a:prstGeom prst="parallelogram">
            <a:avLst>
              <a:gd name="adj" fmla="val 7744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/ 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21E-7AEC-4785-B63D-886FE374B1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wchart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17002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ill attempt to model the flow chart outlined in task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292428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e you have helped your tutor complete the earlier example you need to attempt and create one yourself (task 2 and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5B22-D640-4940-9A4A-DF373013F0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0755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s 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ful when there are a lot of different options to choose from and you want to identify what happens in each circums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when a flow chart would be too complicated to dra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A074-F26E-4DA8-BC76-0DB63D588C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9-03-17T17:45:49Z</dcterms:modified>
  <cp:revision>31</cp:revision>
  <dc:subject/>
  <dc:title>Computer Platforms Week 1</dc:title>
</cp:coreProperties>
</file>