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88D-34DE-4CEC-B6E1-18474D58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9305-B4DB-4F2B-B3BC-FB8B3430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775B-5CEC-42B6-AC96-12EFB0CA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384-E601-43C2-8573-F97C6235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C3F0-836D-4B5B-9804-65B2B7FE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7CE0-34B0-4F42-B828-30265290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C3A5-2BF2-4C7F-8164-12AE0A86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F221-A098-4E42-8637-01E07D02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2117-EC04-4922-8146-AA500F60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C331-1157-4C37-B6EB-4414B4C7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5027-9710-452E-AB79-1B9BFBA5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E720-EB20-45A0-8382-7B207926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128F-44AB-4372-A256-54071F4E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F99B-2E6C-4596-9E4B-3B054F13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7FF5-3E0E-44E0-BB99-BB843539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12D0-F6C1-449F-ABD9-E487A111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245F-AE0D-419B-8E09-4D78A504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E660-8CD1-4849-A837-1A0C5AEB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B1E1-4B47-4264-8F05-8C5194F1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326-C5E0-403F-ABBF-7B41D2FA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1C51-9153-4A9B-AF78-850ABFD3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E22-C584-4CB7-AE04-801EF7EA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0C92-4198-4259-BA5B-1DB12FD3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9747-8D13-4F36-A0B0-9303319C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64BD-D382-4B1D-916F-BD9146B543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BA50-0841-4C0E-AA5F-5F6E91F447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and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SADM –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A23A-C8FD-402E-B317-650495C38B1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cisions t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424160" y="1743120"/>
          <a:ext cx="6172200" cy="2603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isting Custom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Mess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Customer to data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6186-4ADA-4A9A-9013-68435268AA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input, output and proces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an insight into ,pseudo code flowcharts and decision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4DF-11D0-4F7E-9673-425895CB73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input, output and proces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an insight into ,pseudo code flowcharts and decision tab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4AD2-A3BA-4844-9F96-1C4104DDB6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s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Process descri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es would have been identified in the investigation 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important to define each process clearly to ensure that there is no unnecessary code implemented and the process does what was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E7B-C4A4-4B0B-AB26-134F5A903B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s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Process descri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llowing methods are used to create process specif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eudo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 ch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A80-98DC-4A57-BC2F-8AFE3AD746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s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- Pseudo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d English - describes the process in English (as appose to programming cod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“Add a product to a databas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Open product data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heck if product already exists, if it doesn’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reate new product reco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Assign product with unique product 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Request the user to input product detai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Store product detai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if product already exi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Display message to let the user know that the product has been add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lose product data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try and write some pseudo code to add a customer record to a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EEB-BB3A-40F2-9BCA-2DFAE5F371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s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Flow ch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diagrams used to show how processes link in a systematic (logical) 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graphically represents decisions, processes and where the overall processes starts and e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3C9-CFA9-46CD-9753-585DE354FB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s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– Flow ch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als or circles are used to represent where the main process starts and 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are represented as a dia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ngles are for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ctive verbs i.e. send, calcul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presents an input or 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877080" y="4221000"/>
          <a:ext cx="931680" cy="571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77080" y="4221000"/>
                    <a:ext cx="9316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7308720" y="2133720"/>
          <a:ext cx="1486080" cy="158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08720" y="2133720"/>
                    <a:ext cx="148608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804000" y="4941720"/>
          <a:ext cx="1700280" cy="1032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04000" y="4941720"/>
                    <a:ext cx="170028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324000" y="5877000"/>
            <a:ext cx="2463480" cy="795240"/>
          </a:xfrm>
          <a:prstGeom prst="parallelogram">
            <a:avLst>
              <a:gd name="adj" fmla="val 7744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/ 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600-A050-4206-B85C-76007B27F2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char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17002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ill attempt to model the flow chart outlined in task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292428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you have helped your tutor complete the earlier example you need to attempt and create one yourself (task 2 and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EE0-682E-4C6F-A23B-21E6B5C960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 when there are a lot of different options to choose from and you want to identify what happens in each circum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when a flow chart would be too complicated to dra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958-1254-46B1-B9E7-B23838E1F4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9-03-17T17:45:49Z</dcterms:modified>
  <cp:revision>31</cp:revision>
  <dc:subject/>
  <dc:title>Computer Platforms Week 1</dc:title>
</cp:coreProperties>
</file>