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E7B-77B5-4F5D-94C8-681E5745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1DC-0AA9-4F5A-9199-80ACCB71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004-D7D5-4585-9696-CB3DDFDEB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90F-E0DB-4058-953F-A3236A21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CC9B-AB90-41A3-9FA1-238AC4183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2FF-D868-49B4-A9DB-1EFA9BD9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96D3-B997-43DB-B21F-6B7C6B4E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4F9-EB8B-4277-B2D0-273880E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E7E2-C810-4D0C-96E3-09308A00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0238-6AE9-484C-BCD9-7EEB6C4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B21-42E4-44F5-AC2E-08EAC8C5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ECE-E0BE-43B2-884F-C254DFC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BA72-B0E3-46E2-A227-0C4A5F7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A998-FB36-416C-B571-4783BF6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47AB-03F1-475D-A439-C9D40031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8E86-F5C2-48D6-B8A0-787043A3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36DB-652A-4407-8537-03816A37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EDC-D062-4447-972A-390B7FB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2B2-58F7-40D1-8666-64EF70D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3CD-19AE-4AC1-993B-5701E849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92A-9F4D-4E81-BD44-551B6AC7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B7D-2C34-4518-9573-2BA5AED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B08E-9501-4CDB-88B7-1ECC1A1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324-B77D-4E4B-B20A-C17DD01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D9C-7CA6-4979-ABD1-32B0463E64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706-8AE8-43B2-A8F5-6921B5ACAE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AEDD-2E17-4377-9960-430A5EEA5A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144-8022-47E4-920B-0627DB0949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D16-7C9B-4DC9-976A-2F81F8976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4E6-EDCC-46EF-8A76-74208A6E0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9F8-A027-4FED-86A9-FC650ABD8B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226-5447-4242-A664-64C4C44F10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a product to a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produc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produc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product with unique produc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produc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product has been ad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88A-48E7-44A3-9C1B-08396316DA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755-4F38-41CA-840E-4454BF88B9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presents an input or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08720" y="2133720"/>
          <a:ext cx="1486080" cy="15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8720" y="2133720"/>
                    <a:ext cx="1486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04000" y="4941720"/>
          <a:ext cx="170028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4941720"/>
                    <a:ext cx="17002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4000" y="5877000"/>
            <a:ext cx="2463480" cy="795240"/>
          </a:xfrm>
          <a:prstGeom prst="parallelogram">
            <a:avLst>
              <a:gd name="adj" fmla="val 774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EB3-A313-473D-BEAF-4C46EB200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70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flow chart outlined in task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(task 2 an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AA1-8F39-4C65-83FF-9439CA15DF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3DB-2CA9-4863-8F68-282F21B5C3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3-17T17:45:49Z</dcterms:modified>
  <cp:revision>31</cp:revision>
  <dc:subject/>
  <dc:title>Computer Platforms Week 1</dc:title>
</cp:coreProperties>
</file>