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7DC-B675-4530-AFB7-71600E1C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5CC-A2E9-446F-A1A5-24CFD2E8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25E-E7E2-4F33-8946-08EF4763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EBC-EA0A-46E2-8731-CB4C397F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0510-792A-4D65-B886-270B5B27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A487-CE07-435E-880C-774593FF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7FF3-855F-4B80-AA0F-78BC2466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D967-DC2A-44C7-A120-1B6F2DAE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529D-602C-44A1-92CA-1CC49352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5B7D-2C84-4D87-982F-1EEC6187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4914-A806-4EF8-B8ED-1656D0F5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F216-9ABF-4B39-A382-700BA479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AD74-E97F-478E-B712-2CC6AC0D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2677-0D8A-49F7-9F7F-B7A603B3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00D3-C752-45A8-A617-7C9483F3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66E0-D2FA-42CF-8780-9052D36C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FE2E-1E1A-41C0-853C-DABF7AB4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F42-B3F2-4B48-9370-AB454CD2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4DD-1252-439B-932F-AB4B69D5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BA9-CC61-4879-8207-FBFD44BE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34E-6F65-4478-BB19-EE449593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DB7-C728-4220-BD97-B3776429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210-00FB-4362-B100-4A1666B1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ABE-20AE-4EC2-9D03-197DE9FF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097B-E2B1-4D67-9EB1-7EE158717E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B894-2835-4D28-A3AD-5486F5C3272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Tahoma"/>
              </a:rPr>
              <a:t>Principles of Interface Desig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sition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sitioning and layering are vital. If not parts of the GUI may appear behind the main screen and the user may not be able to access a full range of comman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bjects need to placed in a hierarchical system. If images are sitting behind or in front of other images then the entire interface will not be visi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ercep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ceptions vary between the developer and the us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user may not be aware of the fine details in a GUI, such as the importance of colour or the positioning of ic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ikewise the developer may not be fully aware of the users capabilities, wants or nee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olou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use of colour is extremely important in the design of GUI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crosoft Office uses grey as the predominant colour, blue for title bars and drop down men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ny users feel this is boring, however if black and red were used it would soon become uncomfortable on the ey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ours affect different people in different ways, some find yellow easier to read, others find it fuzz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rs with dyslexia may be affected by colour in different w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UIs with 3D effect are based on the trichromatic system (the combination of the 3 colours that are basis of 3D vision: red, blue and gre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umina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three colours of the trichromatic system are detected by three different types of cells on the retina of the eye (receptor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se signals are opponent colour channels because they relay information about opposite colou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theory states there is a hierarchy of luminance, red-green, yellow-blue, black-white, early colour parings cannot effectively display det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332000" y="1125360"/>
            <a:ext cx="6985080" cy="33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Why is yellow text on a white background difficult to 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Georgia"/>
              </a:rPr>
              <a:t>Where as blue on a white background is not.</a:t>
            </a:r>
            <a:r>
              <a:rPr b="1" lang="en-GB" sz="2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op out effe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is is used where there are a lot of symbols or imagery and one is required to stand out. This can be done by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ligning differe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louring differe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justing to a different shap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eattentive Processing The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Patter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icrosoft uses a template for its dialog boxes. It provides consistency and evenness (symmetr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t aids he way the user relates to the interface, providing user friendliness and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onnectednes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istency helps the user to feel comfortable with what happens next (save as – dialog box – file name – loc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estalt Law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268280"/>
            <a:ext cx="8540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estalt laws have been formulated to describe our pattern perception and form rules for our desig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Proxim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view things which are close together as a gro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Continu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smooth continuous lines are more easily interpreted than rapidly changing li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Symmetr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see symmetrical shapes easier than unsymmetrical sha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Similar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we see similar objects as a group, dissimilar objects tend to be viewed as individu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1:56:58Z</dcterms:created>
  <dc:creator>IT Support</dc:creator>
  <dc:description/>
  <dc:language>en-US</dc:language>
  <cp:lastModifiedBy>IT Support</cp:lastModifiedBy>
  <dcterms:modified xsi:type="dcterms:W3CDTF">2009-01-25T13:22:41Z</dcterms:modified>
  <cp:revision>7</cp:revision>
  <dc:subject/>
  <dc:title>Principles of Interface Design</dc:title>
</cp:coreProperties>
</file>