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B0F-CD9E-42C2-81E3-AF13B3C2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232-9ADE-4A2B-B983-6B26E862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F33-6253-4854-AA72-9742822C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568-B328-4A93-9379-63032A4D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0B9C-C466-4D5B-AA4B-8C81B7B3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E52D-D8D2-4DBA-862B-4C561DB2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5B3A-991C-4203-A525-F46934F7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5C43-CA1F-461A-AA94-B8334EF8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DFB-BBBC-4BAA-97B6-AB9F5111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2109-7ECE-4AB7-A97F-8BC74133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3FD0-93DC-4904-9385-38AC1217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4F6-04B7-4054-B69E-789BD27F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370A-FBF1-477A-B519-12B5F0A3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B5E1-0EF2-4E58-9D90-A239EB5D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03FC-2791-468F-8EE6-05218468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99BE-E73B-49EF-9B16-978B56C1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B991-86C9-45C0-8ECB-F81930E8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B2A-55D5-4D46-AB57-684F9C77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8A18-432E-4A08-8401-9933FA71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03C-5765-45FD-BFE9-ED68995B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819-C0D7-4567-949B-996B480C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F5B-FABF-4382-B32A-34FAE829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CBE2-06C6-4A94-8A81-0D1ECE7A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233-7B0A-4830-A1A6-BBF20D15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9AA3-7C5F-42FA-A74D-8494A29B00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673C-9F09-42FA-8C67-60279E33D77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Principles of Interface Desig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sition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oning and layering are vital. If not parts of the GUI may appear behind the main screen and the user may not be able to access a full range of comman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bjects need to placed in a hierarchical system. If images are sitting behind or in front of other images then the entire interface will not be visi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erce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ceptions vary between the developer and the us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r may not be aware of the fine details in a GUI, such as the importance of colour or the positioning of ic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kewise the developer may not be fully aware of the users capabilities, wants or nee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lou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 of colour is extremely important in the design of GUI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Office uses grey as the predominant colour, blue for title bars and drop down men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y users feel this is boring, however if black and red were used it would soon become uncomfortable on the ey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s affect different people in different ways, some find yellow easier to read, others find it fuzz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rs with dyslexia may be affected by colour in different w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UIs with 3D effect are based on the trichromatic system (the combination of the 3 colours that are basis of 3D vision: red, blue and gre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umin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ree colours of the trichromatic system are detected by three different types of cells on the retina of the eye (receptor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se signals are opponent colour channels because they relay information about opposite colou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eory states there is a hierarchy of luminance, red-green, yellow-blue, black-white, early colour parings cannot effectively display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332000" y="1125360"/>
            <a:ext cx="6985080" cy="33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Why is yellow text on a white background difficult to 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Georgia"/>
              </a:rPr>
              <a:t>Where as blue on a white background is not.</a:t>
            </a:r>
            <a:r>
              <a:rPr b="1" lang="en-GB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p out eff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s is used where there are a lot of symbols or imagery and one is required to stand out. This can be done b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ign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justing to a different sha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attentive Processing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atter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uses a template for its dialog boxes. It provides consistency and evenness (symmet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aids he way the user relates to the interface, providing user friendliness and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nectednes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stency helps the user to feel comfortable with what happens next (save as – dialog box – file name – lo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estalt Law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8540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estalt laws have been formulated to describe our pattern perception and form rules for our desig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Proxim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view things which are close together as a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Continu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smooth continuous lines are more easily interpreted than rapidly changing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ymmetr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ymmetrical shapes easier than unsymmetrical sha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imilar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imilar objects as a group, dissimilar objects tend to be viewed as individu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6:58Z</dcterms:created>
  <dc:creator>IT Support</dc:creator>
  <dc:description/>
  <dc:language>en-US</dc:language>
  <cp:lastModifiedBy>IT Support</cp:lastModifiedBy>
  <dcterms:modified xsi:type="dcterms:W3CDTF">2009-01-25T13:22:41Z</dcterms:modified>
  <cp:revision>7</cp:revision>
  <dc:subject/>
  <dc:title>Principles of Interface Design</dc:title>
</cp:coreProperties>
</file>