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D7F-2A8D-4369-9711-9AEE6BB9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5D3-5960-4005-97BC-D593925F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587-3BA9-4523-9C4F-FE1A55BD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93F-5141-45D9-BF46-A3A81B3A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3D93-48D9-442E-9A91-F592C349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6DF2-5AE9-4EDA-8A44-53FCE300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E58D-514B-49CC-BDC2-78D48FA4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1FB0-78BB-4D6E-9177-6FB0E60C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7F5-C962-42B6-A2F5-7B98BE4F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A9A3-3297-4F0F-A69D-91A662F0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65B7-19FD-4839-AA0A-9B63180F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39C-4770-4F5B-9A3C-6160F469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A331-79E5-4372-9A47-C8BAEBBF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10BB-6F41-4872-B7C8-A195D9D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F026-D8EA-4EF4-861C-25CEF0E0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7D6F-BA2E-458C-B4ED-7EE8EF1B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2A23-9426-47A5-870C-8F9E6FCA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09E-3CB7-4FCF-9DCB-A20099A2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EBA-0B35-453F-8BFB-5D144D5D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AE5-FD01-4E85-9930-5079129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ED6-DF9D-4BE0-813F-BE525B5A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61F-9F5C-4547-9FBB-820E5E2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B49-FAA6-432F-B78F-9481C49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A32-F97F-4362-A827-EA06CE6E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2F8D-DF58-4590-B97F-E48F1AEBC2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B7A4-3176-40C8-9C22-310002548D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Principles of Interface Desig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sitio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ing and layering are vital. If not parts of the GUI may appear behind the main screen and the user may not be able to access a full range of comman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bjects need to placed in a hierarchical system. If images are sitting behind or in front of other images then the entire interface will not be visi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erce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eptions vary between the developer and the us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r may not be aware of the fine details in a GUI, such as the importance of colour or the positioning of ic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kewise the developer may not be fully aware of the users capabilities, wants or nee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lou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 of colour is extremely important in the design of GU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Office uses grey as the predominant colour, blue for title bars and drop down men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users feel this is boring, however if black and red were used it would soon become uncomfortable on the ey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s affect different people in different ways, some find yellow easier to read, others find it fuzz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rs with dyslexia may be affected by colour in different w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Is with 3D effect are based on the trichromatic system (the combination of the 3 colours that are basis of 3D vision: red, blue and gre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umin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ree colours of the trichromatic system are detected by three different types of cells on the retina of the eye (receptor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se signals are opponent colour channels because they relay information about opposite colou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eory states there is a hierarchy of luminance, red-green, yellow-blue, black-white, early colour parings cannot effectively display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332000" y="1125360"/>
            <a:ext cx="6985080" cy="33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hy is yellow text on a white background difficult to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Georgia"/>
              </a:rPr>
              <a:t>Where as blue on a white background is not.</a:t>
            </a:r>
            <a:r>
              <a:rPr b="1" lang="en-GB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p out eff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is used where there are a lot of symbols or imagery and one is required to stand out. This can be done b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ign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justing to a different sha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attentive Processing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atter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uses a template for its dialog boxes. It provides consistency and evenness (symmet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aids he way the user relates to the interface, providing user friendliness and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nectednes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stency helps the user to feel comfortable with what happens next (save as – dialog box – file name – lo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estalt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estalt laws have been formulated to describe our pattern perception and form rules for our desig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Proxim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view things which are close together as a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Continu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smooth continuous lines are more easily interpreted than rapidly changing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ymmetr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ymmetrical shapes easier than unsymmetrical sha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imilar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imilar objects as a group, dissimilar objects tend to be viewed as individu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6:58Z</dcterms:created>
  <dc:creator>IT Support</dc:creator>
  <dc:description/>
  <dc:language>en-US</dc:language>
  <cp:lastModifiedBy>IT Support</cp:lastModifiedBy>
  <dcterms:modified xsi:type="dcterms:W3CDTF">2009-01-25T13:22:41Z</dcterms:modified>
  <cp:revision>7</cp:revision>
  <dc:subject/>
  <dc:title>Principles of Interface Design</dc:title>
</cp:coreProperties>
</file>