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BF3-4F8C-4ECD-8A09-975462FC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B14-4EFB-4C6C-A5E4-8FE6B386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49A-AF28-4FCD-ABCD-85C2BF9E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518-F66F-4672-9754-A2D393F9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C6E5-3BFE-48A0-A66D-B7DDA4ED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4216-68F8-40B9-8430-F434D7C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CD73-D84E-4048-BA4D-228AF606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2025-923C-45D9-A7EC-BB61E3BA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B555-57D2-411C-950E-48FE93E0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8255-CAB1-43AF-B901-274DBAC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FCF7-64C9-488C-A82D-2D88194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D14-DC14-4F2F-BD3E-C9D31F8E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659A-724C-447F-9D32-C3C43BDF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0C14-2C9E-465F-9E72-C16B0EF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A63B-100A-4163-A009-F79FC0E2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ADAC-D522-4B18-9968-8E30BCAB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1F1C-2BE0-469E-8F54-DF2DB82B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DFD-D684-410D-A2D4-53CDCA44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F6D-7862-4BE7-99F7-EB309FE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930-3F2E-431E-9403-0158AA4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956-9985-48D7-940E-0EB2F0FD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328-C32E-42C4-8DF6-F8A7736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F4C-9A46-4949-8F6B-13916656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9BC-69FD-4504-AC80-507B131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444-A721-4E8C-8984-ADBDF50434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E348-5148-44FA-990B-D10C316EB1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Principles of Interface Desig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sitio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ing and layering are vital. If not parts of the GUI may appear behind the main screen and the user may not be able to access a full range of comma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bjects need to placed in a hierarchical system. If images are sitting behind or in front of other images then the entire interface will not be visi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erce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eptions vary between the developer and the u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r may not be aware of the fine details in a GUI, such as the importance of colour or the positioning of ic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kewise the developer may not be fully aware of the users capabilities, wants or nee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lou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 of colour is extremely important in the design of GU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Office uses grey as the predominant colour, blue for title bars and drop down men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users feel this is boring, however if black and red were used it would soon become uncomfortable on the ey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s affect different people in different ways, some find yellow easier to read, others find it fuzz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rs with dyslexia may be affected by colour in different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Is with 3D effect are based on the trichromatic system (the combination of the 3 colours that are basis of 3D vision: red, blue and gre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um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ree colours of the trichromatic system are detected by three different types of cells on the retina of the eye (recepto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se signals are opponent colour channels because they relay information about opposite colou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eory states there is a hierarchy of luminance, red-green, yellow-blue, black-white, early colour parings cannot effectively display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332000" y="1125360"/>
            <a:ext cx="698508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y is yellow text on a white background difficult to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Georgia"/>
              </a:rPr>
              <a:t>Where as blue on a white background is not.</a:t>
            </a:r>
            <a:r>
              <a:rPr b="1" lang="en-GB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p out eff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is used where there are a lot of symbols or imagery and one is required to stand out. This can be done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ign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justing to a different sha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attentive Processing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atter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uses a template for its dialog boxes. It provides consistency and evenness (symmet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aids he way the user relates to the interface, providing user friendliness and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nectednes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stency helps the user to feel comfortable with what happens next (save as – dialog box – file name – lo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estalt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stalt laws have been formulated to describe our pattern perception and form rules for our desig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roxim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view things which are close together as a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Continu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smooth continuous lines are more easily interpreted than rapidly changing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ymmet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ymmetrical shapes easier than unsymmetrical sha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imilar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imilar objects as a group, dissimilar objects tend to be viewed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6:58Z</dcterms:created>
  <dc:creator>IT Support</dc:creator>
  <dc:description/>
  <dc:language>en-US</dc:language>
  <cp:lastModifiedBy>IT Support</cp:lastModifiedBy>
  <dcterms:modified xsi:type="dcterms:W3CDTF">2009-01-25T13:22:41Z</dcterms:modified>
  <cp:revision>7</cp:revision>
  <dc:subject/>
  <dc:title>Principles of Interface Design</dc:title>
</cp:coreProperties>
</file>