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C46-698C-4B30-908A-11C985CA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1D5-C97F-40D6-B793-C342432E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460-6DF2-47CA-AC0D-E5700350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34D-21F5-4BFC-ACD7-8D791213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F378-96FB-4C05-977D-3A076CDD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4035-1909-417C-A569-89B0911D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4B29-2B5B-424E-A4D3-16C021F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C315-6DB3-4A06-A857-66D91BD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0C4F-BDA4-4AE7-8905-E85F1457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A569-0297-415A-AE3E-48F5261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44F7-A92B-4347-ABC3-C559A68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0D1-949A-4043-B7FC-99891FA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4F3D-F68F-4862-AE58-B1C3839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6D7-2C01-45C8-BC90-A1B5B3C8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17E9-DA4D-4812-B78D-C972405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AE57-0FCE-42CF-951F-E03CD9D3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60D-DF11-4D40-AB4C-56E25758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7D8-0D43-4A72-A643-A1EB9B1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F97-1A2D-4775-8969-9FE2F0A6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45F-F1A7-43C3-BAF0-B7D8C054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8F7-6544-4F3D-B067-6D8B6DAF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61F-E426-490E-8A66-48ACB74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67F-A54C-4379-AB67-9A8F01F3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360-41A6-43E8-B696-FA36A28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7FC9-F547-4040-87C1-05DE3C8FE8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168-9DB9-423C-A779-6CF2816288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Principles of Interface Desig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sitio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ing and layering are vital. If not parts of the GUI may appear behind the main screen and the user may not be able to access a full range of comma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jects need to placed in a hierarchical system. If images are sitting behind or in front of other images then the entire interface will not be visi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erce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s vary between the developer and the u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r may not be aware of the fine details in a GUI, such as the importance of colour or the positioning of ic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kewise the developer may not be fully aware of the users capabilities, wants or nee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lou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 of colour is extremely important in the design of GU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Office uses grey as the predominant colour, blue for title bars and drop down men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users feel this is boring, however if black and red were used it would soon become uncomfortable on the ey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s affect different people in different ways, some find yellow easier to read, others find it fuzz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s with dyslexia may be affected by colour in different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Is with 3D effect are based on the trichromatic system (the combination of the 3 colours that are basis of 3D vision: red, blue and gre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um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ree colours of the trichromatic system are detected by three different types of cells on the retina of the eye (recepto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se signals are opponent colour channels because they relay information about opposite colou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eory states there is a hierarchy of luminance, red-green, yellow-blue, black-white, early colour parings cannot effectively display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332000" y="1125360"/>
            <a:ext cx="698508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y is yellow text on a white background difficult to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Georgia"/>
              </a:rPr>
              <a:t>Where as blue on a white background is not.</a:t>
            </a:r>
            <a:r>
              <a:rPr b="1" lang="en-GB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p out eff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used where there are a lot of symbols or imagery and one is required to stand out. This can be done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ign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justing to a different sha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attentive Processing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atter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uses a template for its dialog boxes. It provides consistency and evenness (symmet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aids he way the user relates to the interface, providing user friendlines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nectednes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stency helps the user to feel comfortable with what happens next (save as – dialog box – file name – lo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estalt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stalt laws have been formulated to describe our pattern perception and form rules for our desig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roxim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view things which are close together as a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Continu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smooth continuous lines are more easily interpreted than rapidly changing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ymmet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ymmetrical shapes easier than unsymmetrical sha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imilar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imilar objects as a group, dissimilar objects tend to be viewed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6:58Z</dcterms:created>
  <dc:creator>IT Support</dc:creator>
  <dc:description/>
  <dc:language>en-US</dc:language>
  <cp:lastModifiedBy>IT Support</cp:lastModifiedBy>
  <dcterms:modified xsi:type="dcterms:W3CDTF">2009-01-25T13:22:41Z</dcterms:modified>
  <cp:revision>7</cp:revision>
  <dc:subject/>
  <dc:title>Principles of Interface Design</dc:title>
</cp:coreProperties>
</file>