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C0A9-59C0-45D7-9A3C-B1A58507AB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A9E7-5D3A-4F60-8060-A0B99686E8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996F-FAF6-4EB0-8E04-5147DE89EF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8A96-9DCF-4DF1-8518-6F8D73CFB3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772-D696-4E85-B7F4-9B7A6E5E28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7FF8-7843-44E8-AC55-57EB7BC002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3201-6EB8-436E-A3B5-3215F2B777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E63B-8C77-44E6-B3C8-D8B048EF88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E3D-AE90-4F3F-A4A0-A2B0DA7F3A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239-09A1-4874-96AE-2F01B2A6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50A-46C0-42B5-ACEE-0E138DE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384-0571-42C2-A45A-4B9D3100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D3B-8723-499B-9590-BC33C5A5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DE62-414F-4323-AB6E-6072ED26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27BF-8081-4626-A5C0-3CE64EC6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49B-D6E1-4D5A-9C22-DBDD8BFD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E8F0-A966-4D76-B029-CEF1FA23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01C1-00DF-42F9-AB35-B35856A2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A4DD-470A-4D5C-8AEB-BA6CAF2B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AE3-386A-45A6-9C69-A5CB380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9A8-3BB8-460D-B3AE-D5FA6D2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1C6-1348-4ECB-91A5-53D407B8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5739-9198-430D-95BA-34CA695A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E55-09AE-45EE-AD82-CC6016E9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6122-5113-4C6E-A1B6-64E30FB6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794B-6695-4F11-9334-33AF674D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F7BD-E98E-49EE-A930-5205AF6C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D9FA-5252-40C2-A79D-00FB732C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641F-9FEE-44A1-AFFD-4C4C269E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A345-8859-4640-9537-0949E31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C580-D0C6-4460-A50C-DB8E405A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5E3-2294-46C5-9296-A3A711AC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DD25-7AA1-4076-BA25-04B44E4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E02D-5243-4BBB-9B23-C66E3A1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3F77-0FAB-4C3C-A349-E0CAC67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FB19-1A5D-4D3B-96E0-390A869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0496-743A-4053-9658-B87E39C4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B5F8-499A-46F7-855D-6C4DD12E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6FAD-0D27-4391-8F52-88EBB8DF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F211-1C12-45DE-89FB-7718010A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1756-A579-4127-90AB-3F7DB154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BBABB-AC67-468E-94C4-AD144C5C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C4E-0493-40CA-AAE7-14C37C51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7E73-0063-4350-857F-30577346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5CE44-B78E-437D-9BB6-AE7703E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0618-895F-4DF6-97AE-19066ECD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8562-89D3-46F9-B974-AB6F6921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0802-4D01-48B4-B6B4-68DD7B6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6087-9674-4086-9F31-E6C4D69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257FD-D392-40C6-B97C-9BCC6BB1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408E-016C-4F34-86EA-E26C4EF7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A6FF-4579-43E0-A4E2-B2D448EB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C2F8-AF00-41A2-AD65-D7143624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05D-DD1F-4870-ADCB-2406D0B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C4AD-89A1-426E-929A-CE8E9C5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E0574-B927-4292-893D-E13C09B3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150F6-F959-4362-8962-730FB851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32F0-6E41-44A5-8399-B97186D0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BD6E8-AD40-49FC-A71E-45B7F222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4958-7E33-439C-AF98-03DD0C4F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7292-9ACE-4D71-916E-DFA7569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0E0D5-DF98-4F53-8408-870C339F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A7DB-FCD8-4B69-A2D0-D47F0886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A31D-A144-4A2D-A046-D2CC27AE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F58-EBE3-489D-ACDA-E213873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F808-0F2E-4576-8486-17D03737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5293-CA8B-4D3F-BFCD-FBAF2AAA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8C419-2F5B-4C69-A415-5CFAE19C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D59D-52FA-410F-AFD6-B4792B0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9CB6-B232-45A9-B479-E2F2802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0F72B-80AE-410B-9EFF-40D79D5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02499-AFB9-464B-9D97-585C4AAC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C0DB-3993-446A-BC25-1DB2E506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79AD1-414A-4600-B240-FA6A7E9D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FA34-3199-4085-86A7-6229EDA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B0C-4B80-4AF1-A170-AB50D581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9881D-9FBE-4D96-A975-27986DD9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8D855-44A4-47FA-8629-363DCE5A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9846-7C3F-4A94-AF10-AD68879C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0DCB-4213-4731-AABF-652AB9FF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2113C-9DE2-4BA1-A122-DD0F67AA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A826F-C78D-4901-A9A3-C3C1EC5B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EB4E-796D-409B-825D-3835B0BB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5C2A-F933-4EA3-BD51-FCB79215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C15E-EA50-4FBD-9056-B6417450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43BB8-E1A6-449E-A49C-E3A70D9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5C4-9F7C-4897-A8F8-F66E02B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B1FD-DAEC-4CE4-8666-2C68C50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5D224-81A4-4718-8649-4694BD34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93DE0-D803-4A34-B102-A03295EA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1F8F7-A782-4FDB-BDD2-5D4CDCAB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78D1-6542-48E9-BBA9-5098A64C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5BCE-F0B0-4A7E-A502-C5D146A6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7B94B-5D35-4A72-A2C0-D4851C0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E31B-2FA9-41A2-A414-7BCE4752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6AC7C-FD46-4927-9D13-4EBB52F2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2B90-8286-458A-800A-68CEAC51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47F-503A-445C-A48B-0215255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3EDFE-D6C9-4DCA-ACFB-AE96660F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2659B-48AA-4419-8E35-89B0E75C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338E-9400-4976-9C5E-736D968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1DCA-D21B-4AC1-ACAE-1E419D3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4E653-B54E-439A-A615-E1E7120E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46385-FE61-471B-9AA4-94209374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8D829-D912-4E34-A1E7-533ECED5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9F9-03BC-42C1-90D4-7DBD37EC1F1C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CC49-DC0E-4CFB-864F-2D19A526B90B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9B25-D6DE-4ABD-9355-E628B79C827F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8012-4629-4C6E-A253-8914FA2E847E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A1CB-11E7-4998-8674-BEB89C3C8896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FAD9-3BD2-4F1B-BE0D-859FBFA21892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94D5-7A48-475B-841A-2BEF23E8C81C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1358-5376-457B-8C46-77C4183C3695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How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s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 adapt in response to IT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4300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considers how organisations need to manage their services in response to IT develop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siders  whether the organisation can meet the demands  and  how improvements can be made to increase effectiven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a financial viability and stability and the way in which information is communicated internally and external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vity Gai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219320"/>
            <a:ext cx="81154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range of automated manufacturing process and developments in customer support.  (covered in last presentation) i.e., robots, machinery, automated telephone syst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ry doesn’t need a tea break and doesn’t demand a holiday.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t from machinery repairs (when its sick) productivity is constant and rel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sation can calculate how many products it will make, how much they will cost to make and the length of time it will take to make th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negative point the initial outlay for automating a process is extremely high and regular maintenance costs will be necessar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Re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s in IT are allowing reduced costs for some services and produ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automated services is often less than the cost of staf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video phones by new journalists to make up-to-the –minute reports saves the cost of a larges camera crew, all the supporting staff and their travel and expenses cos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online helps reduce costs as they generally do not have the high overheads costs for example, office, sales staff and shop spa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troducing more automated processes and exploiting technology in business activities, organisations should become more effici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mail catalogues, internet and shops to sell their products and services let the consumer make the choice about where and how they make their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 – electronic data interchan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rvice orders they can process orders, take payment for the product and inform the accounts system to recalculate stock and re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ystems will be set up in to send the order direct to the supplier who will despatch the product directly to the customer  - this means no storage space/delivery c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hanges in IT, the development of specialised systems to manage information enables organisations to track and analyse productivity more easi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 – management information system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the stock of components in order to maintain the flow of productiv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invoices can be generated swiftly which in turn means payment received swift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 up-to-date and accurate picture of the state of the organis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ults in smarter pricing of products and services to remain competiti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 (2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T systems and improved MIS enable managers to monitor the efficiency and effectiveness of performance which gives them more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isation enable organisations to locate alternative suppliers in order to provide more competitive products and in turn save mon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uman input is still relied on to maintain machinery and input the programme language that operates the machin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ergy and Integration of System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ynergy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occurs when two or more elements (in this case computer systems) work together with positive results – the combined effect is greater than the sum of the individual effects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rganisations cannot work effectively when their systems do not work in harmony with each other. An example would be.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..replacing all the computers with new base units including cd/dvd drives without floppy disk drives when all the staff still use floppy disks or have a large storage of archived disk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46:22Z</dcterms:created>
  <dc:creator>Sheila</dc:creator>
  <dc:description/>
  <dc:language>en-US</dc:language>
  <cp:lastModifiedBy> </cp:lastModifiedBy>
  <dcterms:modified xsi:type="dcterms:W3CDTF">2009-03-17T14:44:29Z</dcterms:modified>
  <cp:revision>30</cp:revision>
  <dc:subject/>
  <dc:title>How Organisations adapt in response to IT Developments</dc:title>
</cp:coreProperties>
</file>