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9A56-5E0A-4C75-AB9D-253EB21B7E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BB66-9F5C-4DFF-8FD1-6FE7C7D76C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E2E7-D650-4245-8429-98D8600ED6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9C92-4715-47D1-9F1D-3A02E12518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ECB9-6B3C-4A71-9A5F-561A230AD3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08F5-521F-4277-B770-6C5A6B58EF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7A09-C4DF-4BF7-8734-1B9CDCBA8C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B3B-197A-42E6-96EC-042842610B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A744-D641-427D-9D83-3422AFD201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204-C451-452C-804C-E1EEA305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0B3-DE34-46EB-8E1E-B6135FC4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D0A-3609-4DBD-90BB-AC8F2A59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AC7-640D-4837-8EBF-17DD8831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0D36-9062-41A6-B29B-1887D9BD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AF82-DAA2-4D3B-8C85-6956947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F4F7-9C5C-45DC-AAD0-0B2E16F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B89-F52A-4E8A-8AF1-C2DE6A2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66ED-FE0B-4A9B-899B-E2CBDEA6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3235-6714-4089-9244-54FC6A0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BCAB-A90B-4FFB-A8DD-FD71E88A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969-473C-4ED3-8FC0-19E45CEB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6152-89C4-4E05-B683-DD8DB69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AFE8-A8E7-4411-9604-36C01BB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A264-D1C8-49BA-82B0-4743479C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8C1B-3E9F-4374-B675-B858EF43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BCEB-682B-4436-8C5B-7BF9D8A2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BF1C-E0E1-4D74-AF0F-647A44BC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DCC0-F712-469D-9446-11E4012A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31E3-B625-46E1-B1E6-97077AC2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5AC2-79C7-4D19-B051-5A07D2F4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E69E-993D-4208-946F-C98B912E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01E-51CA-4A73-82B1-B9983E8D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0499-B0FD-4EA0-B350-8589229C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7ACD-F100-4838-82AA-899EC26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055C9-B58F-4A24-BCFD-6AC874E1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B554-A814-4D13-B5C5-761C2B4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D030-F9C3-4F42-BBD0-5E0E7D82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4E38-BB35-4BFD-BF47-8D1392A8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BE90-A39E-4A03-9D97-A08330AE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E9B1-E042-4DD1-BA94-A26C5371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C5FB-D8B0-4D99-B080-D94C3AFB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99695-6E4B-4A07-8A39-FBF3BAC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90A-505B-4153-9374-4DD69D6C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F6F47-77A4-44FD-881C-958B4039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F21C6-BF01-456D-A47C-249855E6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03EE-6E81-4A1B-B742-8BDF21D0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60344-630A-43B1-85C7-37880D03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E105A-32D1-4300-9479-0C3A445C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80D8-4C02-4182-B5BF-1CE80CE9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FC0D-C881-446D-AE5F-082F3BDA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20D5-EEA3-45A1-8AFA-C7CE200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EB71-0A4A-48BF-A66A-5218029C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4464F-828F-4338-BEA8-F5AAB955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61B-471B-40EB-823B-D5CD6D7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9596-F39E-4606-B61A-5397C99D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44992-4293-4B1C-B1D9-5029A80A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1F5A-106F-49E5-A0C0-7D89EDF8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2C46F-462F-47A6-AC1E-265B8D6D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6DE5-EADF-4E64-A75A-6B64A65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DC524-EEDA-4B1B-A078-F1D77C8A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FC10-6CE5-4351-A798-3DAFD4B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1A22-31A9-4F47-9C6D-3B3DD8E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3060-C2D5-4478-9DC0-22586A7B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88B23-D78C-42C6-92D1-B435A90A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871-019D-4B7E-AD0D-E7A726E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79AF-1A41-4E9C-9B95-83131A32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F5F65-64F8-45EF-A8CD-123AB2D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C1BF4-EBFF-4661-86C2-AC8B6CC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FE5BC-8635-4D71-A233-7A291E13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5E372-C732-4369-B58C-CE3F882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E5703-6077-427D-A002-5B8CADF6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38866-D68A-4B16-90A4-DA1ED00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EABE-5C34-43A2-AC54-C15C8CD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63D9-1EA5-45CB-9892-4DAA492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47F39-3DD8-462B-8042-271D0AB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EAD-6918-4709-AAF5-F9C5C720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7C901-5C16-4B59-807A-A699B8C7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CE6C6-D8EB-420B-AE40-1149D234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F956-6069-4DED-A844-7A5543FA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0852B-598C-4831-9AC2-F9B65AF8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AE39-8636-47B9-A47F-AF247343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E495-4DC7-4729-98E0-139A7976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292B7-D9A2-4360-B629-C04BB4E9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C2064-359F-4938-8DBB-63721FE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6FC24-4723-4E6A-AC13-E424AA5C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75632-C6FB-4333-A069-11361D6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909-C79D-41D3-941F-BC3A3D99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7A348-967E-45D0-90BF-7404171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A415-39EB-4539-B17B-028AF90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EC35-C4D8-4EC3-8FF7-B0AF917D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355AD-ABFD-4C20-8CAF-23A9BE8C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2C8F8-ADFC-4936-880C-318A02BB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1AC1-CD5E-433E-A93A-1769CCE5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F8042-13FC-4E76-AB48-3483DFF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69882-800D-4FC1-83D8-7B1A6B7F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4C4E-415B-441B-9284-87ED6DFF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27CBF-9CF9-43CE-B43E-EA622D5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C99-5D96-4403-A43A-21405C7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A9EEB-C87D-4C5F-A59B-E12DA7D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3F9FF-4DB2-4B2D-8B84-70886B1C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0BB5-F8AF-484D-BDF8-6C7073E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5603-B800-412F-BB9B-3694A2AA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E68F0-CF90-4018-9C23-FD43607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B7C1-B004-4C9B-AD46-F60EBBBF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BBF5A-510A-4429-A1B5-5DE5ECB4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DF77-4DDE-4BA9-92C5-EAD93FABC607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DA33-A4F7-4199-AE5B-7D6DC70EEC17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E5BF-122D-4435-8A60-0FFD4578CDBC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657F-F76F-4777-A733-7A58B12D1809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4F13-3C01-420E-A282-417EA6A26938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EA23-0027-4A0E-96DA-B7ED750162A9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CA18-3A61-449F-AC7E-2BC2D087F1AD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9E5F-C5B0-4275-A22F-1CECB4B98080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How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s</a:t>
            </a:r>
            <a:r>
              <a:rPr b="0" lang="en-GB" sz="2800" spc="-1" strike="noStrike">
                <a:solidFill>
                  <a:srgbClr val="000000"/>
                </a:solidFill>
                <a:latin typeface="Bookman Old Style"/>
              </a:rPr>
              <a:t> adapt in response to IT Developmen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4300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considers how organisations need to manage their services in response to IT develop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siders  whether the organisation can meet the demands  and  how improvements can be made to increase effectivene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a financial viability and stability and the way in which information is communicated internally and externally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vity Gai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219320"/>
            <a:ext cx="8115480" cy="54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 range of automated manufacturing process and developments in customer support.  (covered in last presentation) i.e., robots, machinery, automated telephone syst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ry doesn’t need a tea break and doesn’t demand a holiday.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t from machinery repairs (when its sick) productivity is constant and reliab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ganisation can calculate how many products it will make, how much they will cost to make and the length of time it will take to make th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negative point the initial outlay for automating a process is extremely high and regular maintenance costs will be necessar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Redu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s in IT are allowing reduced costs for some services and produc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st of automated services is often less than the cost of staf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video phones by new journalists to make up-to-the –minute reports saves the cost of a larges camera crew, all the supporting staff and their travel and expenses cos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online helps reduce costs as they generally do not have the high overheads costs for example, office, sales staff and shop spac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troducing more automated processes and exploiting technology in business activities, organisations should become more efficien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mail catalogues, internet and shops to sell their products and services let the consumer make the choice about where and how they make their purchas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 – electronic data interchan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rvice orders they can process orders, take payment for the product and inform the accounts system to recalculate stock and reorde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ystems will be set up in to send the order direct to the supplier who will despatch the product directly to the customer  - this means no storage space/delivery c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18960"/>
            <a:ext cx="822960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the changes in IT, the development of specialised systems to manage information enables organisations to track and analyse productivity more easi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 – management information system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the stock of components in order to maintain the flow of productiv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invoices can be generated swiftly which in turn means payment received swift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an up-to-date and accurate picture of the state of the organis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ults in smarter pricing of products and services to remain competiti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Management Information (2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T systems and improved MIS enable managers to monitor the efficiency and effectiveness of performance which gives them more contro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Globalisation enable organisations to locate alternative suppliers in order to provide more competitive products and in turn save mon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Human input is still relied on to maintain machinery and input the programme language that operates the machin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ynergy and Integration of Systems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ynergy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occurs when two or more elements (in this case computer systems) work together with positive results – the combined effect is greater than the sum of the individual effects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Organisations cannot work effectively when their systems do not work in harmony with each other. An example would be.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...replacing all the computers with new base units including cd/dvd drives without floppy disk drives when all the staff still use floppy disks or have a large storage of archived disk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46:22Z</dcterms:created>
  <dc:creator>Sheila</dc:creator>
  <dc:description/>
  <dc:language>en-US</dc:language>
  <cp:lastModifiedBy> </cp:lastModifiedBy>
  <dcterms:modified xsi:type="dcterms:W3CDTF">2009-03-17T14:44:29Z</dcterms:modified>
  <cp:revision>30</cp:revision>
  <dc:subject/>
  <dc:title>How Organisations adapt in response to IT Developments</dc:title>
</cp:coreProperties>
</file>