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E377-FFAC-4E18-8C54-618E025DBE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DB64-7B36-41EE-96F0-B3C3DE52B8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1919-CFB3-4863-8490-1DDCF73151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6EA9-C42E-4805-BF12-7145A22F81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1F6D-3D82-4FE6-A6C0-6188B881C4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C308-58F8-4EEF-B534-7F3390F2F2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FD57-3033-4CFB-A687-7DF9B94955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2492-A78E-4B7E-9C1A-DC7B5AD54B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B41B-6432-4C9A-A239-9C64AE072D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C18-2875-423A-B9F3-739B0049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F5A-A28C-4808-AB56-534FEF69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DE7-9AB7-4DA8-A873-CF3F4D94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BF9-D0AA-4940-ABD2-475B7AFC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52CD-1561-4D7D-BB21-9CB5A463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FF0C-6EE3-49DA-82E1-AD7D43DD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1154-1FFD-47BB-A6E2-F78666B5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82B1-4343-4DEC-935F-66C641C6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E4A1-43B7-4E20-AE16-C9AC6C34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9F9B-DA04-4B56-994B-592B826B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A1B2-7548-4A6A-9C19-5006429F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2D1-B408-4497-BD37-2E47015F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FED0-C3CD-4F03-88F1-79F1F11A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6C17-45B2-4BD1-A85F-4141B32A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CFC7-FF37-4074-994E-F476D51B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3ED6-7B0D-4345-A18E-BAD50AB1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E12F-D47F-40A2-8012-BE8E0720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80B32-5A69-4CEC-92E5-8DE0BF22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83D67-540D-4E5D-9931-E9CDAEC1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FED43-5553-4693-A66A-B29E81DC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E920C-D1A2-4A4E-808A-78271435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75582-C963-4C00-8E0D-82F156EE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7FE-5E36-44F9-969E-5ACA838F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59FFE-C2C3-4A95-8B32-D6F412E6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871A7-D8DE-4C5A-8732-0FF1BC50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B2DF1-4F5E-4601-A426-A72D0D0F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6FBF8-349B-425F-9089-70D5EC15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0BC01-B55E-45BB-99E3-FB52BA5C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813A-3DB5-4739-92AC-12533257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66D53-8A99-4EEC-BA7E-3B2E047C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C8E3A-C0B4-46F6-845E-0DC28B84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7B816-8267-4E25-959E-F3088C6E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35661-E4B8-42BD-880F-C8069E26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A15-C05F-4C99-A0B9-0E55907E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B433E-C96E-4D14-BC1A-079E0ABE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D58B4-CC32-4A2A-9693-62B219C3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DEE82-E502-421C-97E6-51AE0049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E5078-92E6-4C35-9123-113BA529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E5E81-BBB2-43FD-8B6A-AADFD91D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D9F39-0CAC-4764-9367-C3094F31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400E6-118F-47E2-8B86-C149F26C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82DF6-E46C-44AD-A6EA-434E6342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630E1-BAC9-4CB5-9E4E-BC7215D5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7988C-31F5-4DBB-B06D-89218129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157-D702-4EFC-996B-BF4949E6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C9F7E-61BD-4368-8191-70AAFEF2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3AFCA-C2A3-42D1-BC57-8D301526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2CADB-57F4-4C7B-8719-D8063599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E6E2B-85E1-4607-B401-C92404F6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D1085-AEF2-4190-BDDD-2465DB05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CD55E-96D7-465F-A791-D6F19E47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48808-CFFD-46AC-BB0E-65F5F935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755B3-8340-4D67-9720-FE89BD99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7A7D4-E445-430B-8D10-82C4ED8E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348B5-8985-4FA6-B638-7DA6264B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408-4029-43B2-9A44-3B2832FE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20889-25C0-4043-AEA6-0A7AB188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2C103-B3B4-4F35-A49D-DA027E57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70CE7-39F5-459E-BD18-A1F7134D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115FD-E8EA-4330-90DB-3455E4AF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892A6-4F91-49CE-9892-3BD0AE3C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17F60-218A-4AE6-9772-C6754679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2876F-9BC8-4A0B-83F1-664AD764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85B10-7D4C-42D6-A4B5-6362F54B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70983-189E-480D-BC8E-C6EB2E13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4D003-188D-4DFE-B8B8-92430B14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B1D-C47E-4593-A0DA-2CF50294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88A1B-1EFB-4217-8EF5-E21E918A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DFAD3-F953-4D01-8ED8-29905123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9DB9E-3DE6-41F1-88AE-5309E6FE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BBCE3-DD1A-44CD-99E7-6B7B9130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42F20-7280-4B9F-874D-932AF328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3DA7E-B385-4228-85B9-A899F414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35CC5-3773-40B5-977A-A6199FAE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187A3-EC45-42BE-A2A0-C8421473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D9881-7969-46AC-9E91-1991A8A9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01CE2-B5E0-4435-AA8D-CAD25971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D42-21EB-4FAF-80B1-E7B4007F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65B36-EFE1-49C1-9F3A-82710186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6BD31-8DB4-49AA-AEE5-820795A4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0E3DF-A83F-4EED-864E-3306685B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A9E72-055F-4B4E-86F4-9D95FAD3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DEC05-8098-4D67-9CE7-E1C509E9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62C4E-1F8A-4011-8F3D-4A505162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92ADC-215D-431D-86C1-5C57EE37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A0677-210B-42DF-A0B5-DD9A5903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39431-40F6-4D3A-BF1F-0645D228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E8209-3B6D-4772-9A6C-50A84DBE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64E-66AA-4B1D-93E7-4C4854D6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2141F-B7A5-43CE-BE43-8A8BDBB7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9BE29-DB4B-48C8-873D-EF4BD852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8F2BA-3D55-4FBE-901A-FFE63FEC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A5D2B-8F4A-4BEC-9335-433E4265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8FE0E-0CDA-4C9D-B973-E225A71E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EDD2F-2D17-4450-B2E7-4DF2F8F8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7EB9B-CD3D-4602-A1B6-64102624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0859-6AF8-4BE3-98D4-3973CE0B00ED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F6BE-40D6-44A8-9A5C-D78251674843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C405-EEA1-470F-8D65-A4EADD3F90F5}" type="slidenum"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F99C-A7BA-4308-B809-584320A048A7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871C-DCAB-4520-BAFF-8C36FC4080C5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8567-3309-4230-B5BD-7297B7765A17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252D-8980-45C2-8B52-3302C767B73D}" type="slidenum"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5C9F-CBA3-4972-88D2-5259C03F08CA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How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ations</a:t>
            </a: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 adapt in response to IT Developments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14300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considers how organisations need to manage their services in response to IT developm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nsiders  whether the organisation can meet the demands  and  how improvements can be made to increase effectivene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looks a financial viability and stability and the way in which information is communicated internally and external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vity Gai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219320"/>
            <a:ext cx="811548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 range of automated manufacturing process and developments in customer support.  (covered in last presentation) i.e., robots, machinery, automated telephone syste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ry doesn’t need a tea break and doesn’t demand a holiday.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rt from machinery repairs (when its sick) productivity is constant and reliab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rganisation can calculate how many products it will make, how much they will cost to make and the length of time it will take to make the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negative point the initial outlay for automating a process is extremely high and regular maintenance costs will be necessary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Redu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s in IT are allowing reduced costs for some services and produc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st of automated services is often less than the cost of staff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video phones by new journalists to make up-to-the –minute reports saves the cost of a larges camera crew, all the supporting staff and their travel and expenses cos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online helps reduce costs as they generally do not have the high overheads costs for example, office, sales staff and shop spa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introducing more automated processes and exploiting technology in business activities, organisations should become more efficien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mail catalogues, internet and shops to sell their products and services let the consumer make the choice about where and how they make their purchas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 – electronic data interchang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rvice orders they can process orders, take payment for the product and inform the accounts system to recalculate stock and reord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systems will be set up in to send the order direct to the supplier who will despatch the product directly to the customer  - this means no storage space/delivery cos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Management Inform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1896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the changes in IT, the development of specialised systems to manage information enables organisations to track and analyse productivity more easi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S – management information system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the stock of components in order to maintain the flow of productiv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 invoices can be generated swiftly which in turn means payment received swift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n up-to-date and accurate picture of the state of the organis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results in smarter pricing of products and services to remain competitiv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Management Information (2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T systems and improved MIS enable managers to monitor the efficiency and effectiveness of performance which gives them more contr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Globalisation enable organisations to locate alternative suppliers in order to provide more competitive products and in turn save mone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uman input is still relied on to maintain machinery and input the programme language that operates the machine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ergy and Integration of Systems 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Synergy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occurs when two or more elements (in this case computer systems) work together with positive results – the combined effect is greater than the sum of the individual effects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rganisations cannot work effectively when their systems do not work in harmony with each other. An example would be.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...replacing all the computers with new base units including cd/dvd drives without floppy disk drives when all the staff still use floppy disks or have a large storage of archived disk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46:22Z</dcterms:created>
  <dc:creator>Sheila</dc:creator>
  <dc:description/>
  <dc:language>en-US</dc:language>
  <cp:lastModifiedBy> </cp:lastModifiedBy>
  <dcterms:modified xsi:type="dcterms:W3CDTF">2009-03-17T14:44:29Z</dcterms:modified>
  <cp:revision>30</cp:revision>
  <dc:subject/>
  <dc:title>How Organisations adapt in response to IT Developments</dc:title>
</cp:coreProperties>
</file>