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1F1-1EEE-47F2-A34C-DA06D4C6D4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1FDE-7E82-4C18-BB62-14F9C470AD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7565-88A0-4034-B091-8CD5057E76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BC2-B76B-4E0C-AF89-8D3D58EA16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1880-7945-4F08-B46C-31A95152B0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5F24-7968-478A-83BD-4912B3400A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B138-CEAD-4A4A-ADED-F9D4BBF693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F64-F9FD-4479-8B97-CE081AAB81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FB8-54C9-4F58-8106-DC8B15CCE3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F7A-89F8-473F-BA8A-B9BF143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AE1-2931-46CF-AA99-EEDE44A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937-E961-4C04-8345-D4D8879F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725-4123-4E80-8D45-216B13D3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EF43-BD66-4D9F-A47B-171CE448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C541-12D3-4768-A44A-570FC82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B11-CA4F-4206-9FA9-346FF923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433B-0969-4DBC-8526-7038CAF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3052-FD27-492E-BF91-2EDBC01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F31-C330-4DC6-99B3-DDE867BE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2F09-8D35-457F-A0E9-EC9B8C1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56F-568B-47DA-9BCE-70D678E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68CF-0406-409D-9B31-56839B21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1CDA-7F62-4CAF-B6BE-A9EBF59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E485-C529-4361-A052-4845B8D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5E22-1B5B-4140-889B-AF4FF970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467-A85A-4998-928E-B10B64A4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09BC5-0FD7-4E02-B36D-109852E5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6325-D8A0-43BA-B2E8-40B3A2C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4B45-F40D-4845-A812-0E0677E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05DB-95FE-44D5-8D05-90B78A86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C3E1-E034-4740-8278-FE1E3D78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360-9AEA-4E38-B980-8EE6142B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D1F9-A813-46E2-897B-5A7F71D7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3A0E-63DD-458A-9470-AE5B8BBE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9F65-9587-4683-B106-5A493D24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DE1F7-0AD3-4034-A60A-6F423B0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01F3-1A59-461E-B207-79324ED9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869F-A9CE-44CE-BA87-52236325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D575-28E7-4D3C-9BA1-018CE84D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6ED5A-CD23-4707-89D6-F0F81D67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B4E68-4D5F-4007-9013-4C8F8B94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B0E9-B049-4F52-9654-641D54C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68C-70E8-4F6E-AC24-86B9AA5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23A8-B4B2-47CB-8DCF-D4DE7F1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380F-8371-472F-AE53-B679145E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B9E9-9AC2-4A1E-8D1C-155DFA9E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3888-7337-4695-9A4D-C490FAE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B8BB-0B53-4AEA-A6AD-D32CB65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32F0-1EE8-4DC0-87F6-42B92E13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34E0-1726-4B7B-B60D-AC6152E6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6A5D-D6CE-4C1F-94EF-A87C865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5664-9077-4870-BA86-FAFB6298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6C1A-E18D-4174-8742-69FA91E1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A19-F1C0-4A20-B1D3-9466CF3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EA219-1AE5-42A4-8C19-30DEC699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0640-B8CA-4A82-94C3-39BEAE6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7FE1-5C34-4DFE-97FC-02842EC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6FDE-8FC0-4373-88B5-927E4019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DE3D-FAF7-4DFB-974F-7336304D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F08D-1872-43DB-8CD9-6F054DE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C4E2B-B081-46D5-A5FD-82B9302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0EEE-736E-4F19-94BF-071DBCAB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2ACF-A2D7-44CA-8168-409E443D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7E73-1106-4833-A708-69620C70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E5D-FBAA-4F8A-86A7-A97259F4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47F69-E8DC-4DE1-BB54-B5D6560B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84C7-5EA2-4156-A78E-FDBA7EA0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7ADA4-C46D-499F-991C-3039F0EA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D7CD0-6456-4ABB-80CB-75AFAD4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5392-9FD1-4410-823C-2C136ADD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EB13-C214-46DC-A711-4A028402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6C9FB-B941-4B35-A25F-8B5587A4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EEE8-E389-4274-B6A2-BAC0B5E9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5B82-4FD9-4965-9AEE-BE4A5CF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F3B7E-2540-4B5B-AD34-DBD5F655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820-C8A1-4F6D-8604-84B5AA1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BA1EF-DF4D-42AD-AFAC-E37823CE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5419-B1A1-46E9-BEEE-DB8725473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23F5-B456-4E6C-A9FC-43C1CBB9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E4F8-052A-4C8D-8678-BF15D461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48182-D4BF-45D4-9DA0-1CD1F844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66C9-8AEE-44A6-81E5-F61C9E6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DA4B-29EA-4998-9A7D-9986EED2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5745-17AE-4FCE-882B-E1B1822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5C12B-84E0-4018-B7A4-562DFE7B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EEAD-858D-446F-B123-72FD5EC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36E-1829-4E71-9558-61E745E9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4B65-4628-42B7-AD66-D87C485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25A07-0C95-4159-A3D5-4BF1F00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009B-6C85-4750-8470-5A935E3C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263FB-FCA7-4979-9CEE-06C119C7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14D4-0018-49CE-8C2D-DBAF8FC1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FE5C2-F7DA-4CF7-B41F-EB5A490A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7EAB-FBAE-4FE7-9CB7-4FBD62B0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91F2-BB9A-472D-A013-FB5B204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4AE1B-A87D-47CA-A811-295106DA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6D1D-952F-421F-8DDD-98F05B19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A59-9023-4FCA-A599-1D914F8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7F979-5BFA-4E96-8003-ADF4FFB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A6C8-BF5E-4536-9208-2510992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AE784-A4AF-44A1-845D-5CF3FED3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52E8-99C7-4998-BAC3-5A3163F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D98DD-ABBD-450F-A2FC-22AFCC1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EC1D-A8B4-4CBA-BD54-7B8558A8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5107F-EF4F-4CCF-B92A-1C070534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4362-3BBA-48FD-B53B-D035699124B8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E577-D52E-40A0-B2FB-6F31EB83F478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12BB-9C25-40F9-9FE6-A643443E0D22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0C05-E728-4DEB-88B7-D20F903E82A5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2722-E26C-4744-9468-76B51705B06B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3F6-57DD-4097-ADBA-F83E3277457B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E655-32FA-4555-8B69-F9D700853D5A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FF1-2AB9-4300-A600-85ACC9D2F2CD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How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s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 adapt in response to IT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4300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considers how organisations need to manage their services in response to IT develop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  whether the organisation can meet the demands  and  how improvements can be made to increase effective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a financial viability and stability and the way in which information is communicated internally and external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ty Ga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19320"/>
            <a:ext cx="81154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range of automated manufacturing process and developments in customer support.  (covered in last presentation) i.e., robots, machinery, automated telephone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ry doesn’t need a tea break and doesn’t demand a holiday.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from machinery repairs (when its sick) productivity is constant and rel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can calculate how many products it will make, how much they will cost to make and the length of time it will take to make th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negative point the initial outlay for automating a process is extremely high and regular maintenance costs will be necessar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Re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s in IT are allowing reduced costs for some services and produ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utomated services is often less than the cost of staf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video phones by new journalists to make up-to-the –minute reports saves the cost of a larges camera crew, all the supporting staff and their travel and expenses cos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online helps reduce costs as they generally do not have the high overheads costs for example, office, sales staff and shop spa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troducing more automated processes and exploiting technology in business activities, organisations should become more effici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mail catalogues, internet and shops to sell their products and services let the consumer make the choice about where and how they make their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 – electronic data interchan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ice orders they can process orders, take payment for the product and inform the accounts system to recalculate stock and re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ystems will be set up in to send the order direct to the supplier who will despatch the product directly to the customer  - this means no storage space/delivery c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hanges in IT, the development of specialised systems to manage information enables organisations to track and analyse productivity more easi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 – management information system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the stock of components in order to maintain the flow of producti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invoices can be generated swiftly which in turn means payment received swift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 up-to-date and accurate picture of the state of the organis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smarter pricing of products and services to remain competiti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 (2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T systems and improved MIS enable managers to monitor the efficiency and effectiveness of performance which gives them more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isation enable organisations to locate alternative suppliers in order to provide more competitive products and in turn save mon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uman input is still relied on to maintain machinery and input the programme language that operates the machin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ergy and Integration of System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occurs when two or more elements (in this case computer systems) work together with positive results – the combined effect is greater than the sum of the individual effects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rganisations cannot work effectively when their systems do not work in harmony with each other. An example would be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..replacing all the computers with new base units including cd/dvd drives without floppy disk drives when all the staff still use floppy disks or have a large storage of archived disk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6:22Z</dcterms:created>
  <dc:creator>Sheila</dc:creator>
  <dc:description/>
  <dc:language>en-US</dc:language>
  <cp:lastModifiedBy> </cp:lastModifiedBy>
  <dcterms:modified xsi:type="dcterms:W3CDTF">2009-03-17T14:44:29Z</dcterms:modified>
  <cp:revision>30</cp:revision>
  <dc:subject/>
  <dc:title>How Organisations adapt in response to IT Developments</dc:title>
</cp:coreProperties>
</file>