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10050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1005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503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50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640" y="754200"/>
            <a:ext cx="5022720" cy="37684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775040"/>
            <a:ext cx="5486400" cy="452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9547200"/>
            <a:ext cx="2971800" cy="5032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9547200"/>
            <a:ext cx="2971800" cy="503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1DD6E-CEDB-4663-858F-4DC1DBF27873}"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7640" y="754200"/>
            <a:ext cx="5022720" cy="3768480"/>
          </a:xfrm>
          <a:prstGeom prst="rect">
            <a:avLst/>
          </a:prstGeom>
          <a:ln w="0">
            <a:noFill/>
          </a:ln>
        </p:spPr>
      </p:sp>
      <p:sp>
        <p:nvSpPr>
          <p:cNvPr id="380"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1"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D259-1C01-440C-AF8E-04050CA7853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7640" y="754200"/>
            <a:ext cx="5022720" cy="3768480"/>
          </a:xfrm>
          <a:prstGeom prst="rect">
            <a:avLst/>
          </a:prstGeom>
          <a:ln w="0">
            <a:noFill/>
          </a:ln>
        </p:spPr>
      </p:sp>
      <p:sp>
        <p:nvSpPr>
          <p:cNvPr id="383"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4"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1CF4-AA70-4992-BD7C-0F05F1954E3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54200"/>
            <a:ext cx="5022720" cy="3768480"/>
          </a:xfrm>
          <a:prstGeom prst="rect">
            <a:avLst/>
          </a:prstGeom>
          <a:ln w="0">
            <a:noFill/>
          </a:ln>
        </p:spPr>
      </p:sp>
      <p:sp>
        <p:nvSpPr>
          <p:cNvPr id="386"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7"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A88F-5408-43F6-B529-92FE432960B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54200"/>
            <a:ext cx="5022720" cy="3768480"/>
          </a:xfrm>
          <a:prstGeom prst="rect">
            <a:avLst/>
          </a:prstGeom>
          <a:ln w="0">
            <a:noFill/>
          </a:ln>
        </p:spPr>
      </p:sp>
      <p:sp>
        <p:nvSpPr>
          <p:cNvPr id="389"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2D8C-8A4B-48EA-A468-20B034AFA48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7640" y="754200"/>
            <a:ext cx="5022720" cy="3768480"/>
          </a:xfrm>
          <a:prstGeom prst="rect">
            <a:avLst/>
          </a:prstGeom>
          <a:ln w="0">
            <a:noFill/>
          </a:ln>
        </p:spPr>
      </p:sp>
      <p:sp>
        <p:nvSpPr>
          <p:cNvPr id="392"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3"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5394-FD7E-4D0C-B72B-44833220CCF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54200"/>
            <a:ext cx="5022720" cy="3768480"/>
          </a:xfrm>
          <a:prstGeom prst="rect">
            <a:avLst/>
          </a:prstGeom>
          <a:ln w="0">
            <a:noFill/>
          </a:ln>
        </p:spPr>
      </p:sp>
      <p:sp>
        <p:nvSpPr>
          <p:cNvPr id="395"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9E3F-6B0E-4AA9-9FB1-EAC46489006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7640" y="754200"/>
            <a:ext cx="5022720" cy="3768480"/>
          </a:xfrm>
          <a:prstGeom prst="rect">
            <a:avLst/>
          </a:prstGeom>
          <a:ln w="0">
            <a:noFill/>
          </a:ln>
        </p:spPr>
      </p:sp>
      <p:sp>
        <p:nvSpPr>
          <p:cNvPr id="398"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2736D-CBAD-41D1-99FE-E0571234489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54200"/>
            <a:ext cx="5022720" cy="3768480"/>
          </a:xfrm>
          <a:prstGeom prst="rect">
            <a:avLst/>
          </a:prstGeom>
          <a:ln w="0">
            <a:noFill/>
          </a:ln>
        </p:spPr>
      </p:sp>
      <p:sp>
        <p:nvSpPr>
          <p:cNvPr id="401"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50C95-8D9B-4E54-B328-98F0C972B5C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17640" y="754200"/>
            <a:ext cx="5022720" cy="3768480"/>
          </a:xfrm>
          <a:prstGeom prst="rect">
            <a:avLst/>
          </a:prstGeom>
          <a:ln w="0">
            <a:noFill/>
          </a:ln>
        </p:spPr>
      </p:sp>
      <p:sp>
        <p:nvSpPr>
          <p:cNvPr id="404"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1B15-DEB9-44BC-BACC-7A5EEA85ABF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689CA-B220-4338-BD9C-80DE20BB7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23EFF-DB92-4F98-BF86-CB59A7C1C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6EEF1-51C2-4C67-873E-235B0F9EA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11A46-39F0-436E-A1D3-88D27CCB8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F8472-DB72-425E-A61D-C1C7CFE801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89411-4C1F-4B92-A30D-0C3474AE1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6A48E-1917-4C12-AAB0-FC3E2C211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BBFD1-2F02-4151-B96A-E03BFBA3A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AB7D4-9C4D-473F-B391-72481D5B6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858F1-F4FD-46E1-BA3A-E2FF32F56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F1023-46E8-4F8B-B80F-C055A0750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D325B-25CE-4A66-93C9-6E1AAFA65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F7BF2-72B9-431A-94A1-2377D0A3C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F4ED6-554A-4B72-A45F-7188C45C1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02F1D-DB8E-4181-ADEF-20D2B7294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C9DAE3-965C-4A46-9164-2EF4F64FD6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7FE667-E75F-4B69-8191-3567190B4D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8880E7-A972-4C75-9348-56E562EF2E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7F2F94-EA9C-47E7-ADE3-A2CF63124D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DA747E-1405-4A2B-BA57-CC5F038CFE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8D88EE-78F7-43C0-92F0-C26B292FE7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2318F5-3D53-4BB6-B063-774949886A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2D13A-C543-424D-9455-5112A5DB9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6A80B0-DFB1-4651-8AAD-FC7CB17261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2F659-2C26-4EA6-9A29-715DC15074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D556FC-B076-4892-BE87-547749A11F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895362-637C-4A6A-B010-C0EEC229B3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86EABE-BF46-4398-9695-90C3A69BFF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02E374-C29C-4078-8F5C-4D801F7C9D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E05576-AE2F-4DDD-9E64-7F4CDB3128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53775E-63C8-4FAA-A06C-981A9CC85B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034F19-91AD-4692-B147-55DCCAAFAA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54BAEE-072A-4FD8-8C02-B27C7E83A9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5B275-88ED-4D24-834F-ED1800435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53F0FC-77E8-4465-B2C9-6B18FA85DB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98B297-90CB-433F-9813-7BDEA40C6E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971F2D-32A4-4A1C-94F1-19874CC5C1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C1F63B-8B7E-4C59-AB4E-010E8B88A4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A8660D-FB18-4C86-B114-5992A6C199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F96F2-C119-4802-AE76-B413DA20D3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9088BD-4B2B-45F3-82A2-F12E4E7576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1F3B76-63FF-4041-9002-7D3C3A70A3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F9BAA1-2546-478F-A623-A3D2B095AD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7BC9E9-E3F7-4E3B-A342-3D85803726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7E5F4-BD1E-470C-8074-2B5219C3B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EBA1F6-FEC7-449D-8BAC-4F13215C34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D02CCE-DBAA-476F-9F3A-A1EB9F5273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A3E74C-A054-4F37-9D51-5DDBF013B0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27F8AF-46ED-437B-9A4A-AA2A264204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93BD6F-6F34-4C13-AC2A-3BEB4F0317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0B6977-853D-415A-9836-586CDDC717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E72AAF-A940-46FB-8A64-8CFBE565DD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76ABCA-D3EC-4A0A-89CA-32AA109384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691ABA-EF3B-4FD8-8C0B-BE939F1C0E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69FC6B-86A3-4922-9956-0ECB8ACE04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BB9EA-92E3-454B-A9C6-A3F8C7D06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609DA5-5582-4E4D-98A2-E36A9ABABF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71711D-84F9-4F0C-B63D-CDA89E8CA5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9F2C5A-542A-41E2-95BA-D73350DA61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6A17E9-5C1B-445B-B219-A9B217F7B4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443D6F-B975-44DD-A659-E1BE2D16CA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6F611B-1632-4492-AABD-A0EC974EE6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FF054A-A759-4963-97CE-1B4866FCF7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B10631-B6FA-4016-9398-79268C98C2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9707BC-C6BC-42DD-8043-66BED84CDB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A01E42-6815-442A-8ACB-F8DE27B009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72B4A-E1F5-4C4E-AA62-A0CB86D43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DD35F9-458A-4FC5-B3FA-3C1C5AD4EE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9BEF38-4F1A-4FBF-83FA-E24D1F88AF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FBCBF9-B069-43E1-8FF8-639D9E7307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76A4FA-B770-4E90-949F-EFAC55885E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1D8F1E-664E-48DC-B607-401D4DD977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FAD9E9-04AB-4061-9FE8-1A5FFD822B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AADF7A-B2DB-4D38-BFB4-AFC4B35629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669506-3C52-4932-A0BE-0206003FC7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C6E617-1CE0-4293-B35B-CE09857F54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9D8057-4CF9-456C-BBC3-AACE60A70C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6447E-E5E9-49C2-BD99-8D2327D8D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672FF1-3C57-4A86-BE77-3B542EA1B2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7370ED-BED5-4A08-A1F4-A4B538406D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E1CAD7-4A36-4D01-87C1-969CD28717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53946D-A98A-49AA-84B2-AB01E6C0C5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1B911C-BD52-4C4C-8572-4BE6F21846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CB50C3-AB11-4F47-A224-B965C7ECBC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F70125-B244-43A9-A1C3-49ED625F2D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29458F-BC6D-42B3-AA29-3D8F76CB4B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EF9881-D53B-4714-B58E-D5CBC3F488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D81541-0F35-4DE6-B728-36245CF857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5C477-D107-4D4A-81D6-552726C3F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FD8817-8568-4C34-B730-C8F7AEA28B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09D539-5241-48C1-9882-7F1114A5D2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4FE518-F4F3-475F-9D8D-ACECF5CD17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F2B5DC-75F9-46E3-95B1-C4551586C5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0A2CFF-5B67-4506-8F3B-E269521DF2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027686-3020-40F9-8708-2241AAAEFD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5B32FD-897B-4979-94F0-7D563B50C27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C7F9-229C-4B45-8DE9-08A0BC23BC4E}"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3478-CB64-40D4-AEC9-E04B4D8A3D8A}"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6504E-39B8-4E1D-B13B-BDBA4B6B72E4}" type="slidenum">
              <a:rPr b="0" lang="en-GB"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583CF-4851-4686-80C6-C72CE586A9D2}"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7532-F2A8-4E0F-85EF-7C96AED3BE47}"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2A8EC-4F06-4F13-85B8-8E3A1E7D5CCB}"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9597-BA4C-433F-949D-EDFD1B4E564F}" type="slidenum">
              <a:rPr b="0" lang="en-GB"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CEB9-7ECB-48E6-BECA-BDDBF0DA2DD7}"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man Old Style"/>
              </a:rPr>
              <a:t>How Organisations adapt in response to IT Developments</a:t>
            </a:r>
            <a:endParaRPr b="0" lang="en-US" sz="2800" spc="-1" strike="noStrike">
              <a:solidFill>
                <a:srgbClr val="464653"/>
              </a:solidFill>
              <a:latin typeface="Bookman Old Style"/>
            </a:endParaRPr>
          </a:p>
        </p:txBody>
      </p:sp>
      <p:sp>
        <p:nvSpPr>
          <p:cNvPr id="360" name="PlaceHolder 2"/>
          <p:cNvSpPr>
            <a:spLocks noGrp="1"/>
          </p:cNvSpPr>
          <p:nvPr>
            <p:ph type="subTitle"/>
          </p:nvPr>
        </p:nvSpPr>
        <p:spPr>
          <a:xfrm>
            <a:off x="10717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Times New Roman"/>
                <a:ea typeface="Times New Roman"/>
              </a:rPr>
              <a:t>ORGANISATIONAL ACTIVITIES </a:t>
            </a:r>
            <a:endParaRPr b="0" lang="en-US" sz="3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rPr>
              <a:t>Automating manufacturing process</a:t>
            </a: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the last 20 years there have been huge changes in the way we work – Typewriters, Word Processers, Computers, Fax Machines and Email…. And now…. </a:t>
            </a:r>
            <a:r>
              <a:rPr b="1" lang="en-GB" sz="2600" spc="-1" strike="noStrike">
                <a:solidFill>
                  <a:srgbClr val="000000"/>
                </a:solidFill>
                <a:latin typeface="Times New Roman"/>
              </a:rPr>
              <a:t>ROBOT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ar industry use robots to build and spray paint car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ormula 1 industry uses programmable machinery to carry out dangerous and precision tasks such as cutting sheet metal and welding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Highly specialist care manufacturers combine both automated and manual processes due to fine precision engineering and the hand built approach i.e. Astin Martin</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Even sweet manufacturers use automated machinery to make and pack their confectionery</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ACTIVITIES</a:t>
            </a:r>
            <a:endParaRPr b="0" lang="en-US" sz="44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Organisational activities explore the promotion and   procurement aspects and how to adapt them to changes in IT development</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GB" sz="2800" spc="-1" strike="noStrike" u="sng">
                <a:solidFill>
                  <a:srgbClr val="000000"/>
                </a:solidFill>
                <a:uFillTx/>
                <a:latin typeface="Times New Roman"/>
                <a:ea typeface="Times New Roman"/>
              </a:rPr>
              <a:t>Promotion  </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The marketing of products and services</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GB" sz="2800" spc="-1" strike="noStrike" u="sng">
                <a:solidFill>
                  <a:srgbClr val="000000"/>
                </a:solidFill>
                <a:uFillTx/>
                <a:latin typeface="Times New Roman"/>
                <a:ea typeface="Times New Roman"/>
              </a:rPr>
              <a:t>Procurement</a:t>
            </a:r>
            <a:r>
              <a:rPr b="0" lang="en-GB" sz="2600" spc="-1" strike="noStrike" u="sng">
                <a:solidFill>
                  <a:srgbClr val="000000"/>
                </a:solidFill>
                <a:uFillTx/>
                <a:latin typeface="Times New Roman"/>
                <a:ea typeface="Times New Roman"/>
              </a:rPr>
              <a:t>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Acquisition and buyin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dapting sales and marketing strategies</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rganisations are altering the way in which products are marketed and sold to exploit developments in IT.</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Marketing products on the internet is swifter and cheap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ales reps can do deals over the phone, email and use conference and video calls.  </a:t>
            </a:r>
            <a:r>
              <a:rPr b="1" lang="en-GB" sz="2600" spc="-1" strike="noStrike">
                <a:solidFill>
                  <a:srgbClr val="000000"/>
                </a:solidFill>
                <a:latin typeface="Times New Roman"/>
                <a:ea typeface="Times New Roman"/>
              </a:rPr>
              <a:t>Results = deals closed quicker = cheaper to organisation = cheaper to custom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Viral Marketing</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Marketing that relies on social networks passing on product or service information from person to person</a:t>
            </a:r>
            <a:endParaRPr b="0" lang="en-US" sz="24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t all are malicious – some build a sense of community among recipients who want to pass on the messag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orks very well amongst groups with developed social networks such, such as teenager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rganisations will arrange to promote each others products – for example – you might buy a computer from one website and follow a link to another  for softwar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op ups are a type of internet advertising – not a popular choice as they appear without the users permission</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pam emails, such as follow ups from an online purchase is another unpopular choic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Understanding the customers needs</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Mass customisation – </a:t>
            </a:r>
            <a:r>
              <a:rPr b="0" lang="en-GB" sz="2600" spc="-1" strike="noStrike">
                <a:solidFill>
                  <a:srgbClr val="000000"/>
                </a:solidFill>
                <a:latin typeface="Times New Roman"/>
                <a:ea typeface="Times New Roman"/>
              </a:rPr>
              <a:t>specialist software can monitor and log sales of a product.  The organisation can gain a greater understanding of the impact of the product on the consum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It gains better and quicker feedback through the ordering process and therefore can adapt the product rand to meet the demands of the consum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Loyalty cards – </a:t>
            </a:r>
            <a:r>
              <a:rPr b="0" lang="en-GB" sz="2600" spc="-1" strike="noStrike">
                <a:solidFill>
                  <a:srgbClr val="000000"/>
                </a:solidFill>
                <a:latin typeface="Times New Roman"/>
                <a:ea typeface="Times New Roman"/>
              </a:rPr>
              <a:t>These can be used to track the purchases that individual customers make and specialised software is used to identify other similar products in or to target the consumer via vouchers and offer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dapting new purchasing opportunities</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Easier and faster for organisations to talk to one another through their system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rdering faster and more efficient – </a:t>
            </a:r>
            <a:r>
              <a:rPr b="1" lang="en-GB" sz="2600" spc="-1" strike="noStrike">
                <a:solidFill>
                  <a:srgbClr val="000000"/>
                </a:solidFill>
                <a:latin typeface="Times New Roman"/>
                <a:ea typeface="Times New Roman"/>
              </a:rPr>
              <a:t>EDI (electronic data interchange) </a:t>
            </a:r>
            <a:r>
              <a:rPr b="0" lang="en-GB" sz="2600" spc="-1" strike="noStrike">
                <a:solidFill>
                  <a:srgbClr val="000000"/>
                </a:solidFill>
                <a:latin typeface="Times New Roman"/>
                <a:ea typeface="Times New Roman"/>
              </a:rPr>
              <a:t> for automatic recording and restocking before stocks run out.  Also used to give calculations as to when then next stock will be required basing it on the last stock ord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rganisations can choose how to sell their products and services, through catalogues, over the phone, on the internet, etc. choosing the method that is the most effective – </a:t>
            </a:r>
            <a:r>
              <a:rPr b="1" lang="en-GB" sz="2600" spc="-1" strike="noStrike">
                <a:solidFill>
                  <a:srgbClr val="000000"/>
                </a:solidFill>
                <a:latin typeface="Times New Roman"/>
                <a:ea typeface="Times New Roman"/>
              </a:rPr>
              <a:t>Channel Managemen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dapting new purchasing opportunities (2)</a:t>
            </a:r>
            <a:endParaRPr b="0" lang="en-US" sz="3200" spc="-1" strike="noStrike">
              <a:solidFill>
                <a:srgbClr val="464653"/>
              </a:solidFill>
              <a:latin typeface="Bookman Old Style"/>
            </a:endParaRPr>
          </a:p>
        </p:txBody>
      </p:sp>
      <p:sp>
        <p:nvSpPr>
          <p:cNvPr id="372"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 relaunching of existing products to keep up with the changing times and make use of the new technology available  - </a:t>
            </a:r>
            <a:r>
              <a:rPr b="1" lang="en-GB" sz="2600" spc="-1" strike="noStrike">
                <a:solidFill>
                  <a:srgbClr val="000000"/>
                </a:solidFill>
                <a:latin typeface="Times New Roman"/>
              </a:rPr>
              <a:t>examples:</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Monopoly board game also available as an electronic version.</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Poppy Foundation give people the choice of downloading the poppy as an icon for display on a mobile phone</a:t>
            </a:r>
            <a:endParaRPr b="0" lang="en-US" sz="2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rPr>
              <a:t>Using new technology in customer support</a:t>
            </a: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echnology has changed the way organisations provide customer support, for example if you have a query on a mobile phone or computer you have the following options</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Logging a query on a website</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Using the ‘contact us’ section</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AQ’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utomated telephone system – not so popular with the consumer but very effective to the organisation</a:t>
            </a:r>
            <a:endParaRPr b="0" lang="en-US" sz="2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Secure Funds Transfer</a:t>
            </a:r>
            <a:endParaRPr b="0" lang="en-US" sz="32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aying on-line for good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Banking on-line (e banking)</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With more and more users moving money via online transactions, the opportunities for hackers to steal funds has increased.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Software is required to provide security for the transfer of fund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600" spc="-1" strike="noStrike">
                <a:solidFill>
                  <a:srgbClr val="000000"/>
                </a:solidFill>
                <a:latin typeface="Gill Sans MT"/>
              </a:rPr>
              <a:t>We explore this further in the Managing Risks secti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09:46:22Z</dcterms:created>
  <dc:creator>Sheila</dc:creator>
  <dc:description/>
  <dc:language>en-US</dc:language>
  <cp:lastModifiedBy> </cp:lastModifiedBy>
  <dcterms:modified xsi:type="dcterms:W3CDTF">2009-03-17T16:51:04Z</dcterms:modified>
  <cp:revision>23</cp:revision>
  <dc:subject/>
  <dc:title>How Organisations adapt in response to IT Developments</dc:title>
</cp:coreProperties>
</file>