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BC1FF-64F0-4B33-B7BE-B53FE92AA5D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.E Un-authorised Access -  rules guidelines given to employees to ensure this is me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CODES of CONDUCT and CONTRACT of EMPLOYMNET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volved would b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ftware acquisition and installation policy…. EXPLA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paration of Duties….. EXPLAIN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ring Policy….. EXPLAIN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8963-35F0-4DEF-9AE7-785F4B2B5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ECF0-0757-44D4-B961-B660D764C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85C1-B687-42EC-8C43-DEA6A0F47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494C-1B63-4C14-9C0F-0EE5255D0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C291C-70A4-41E4-85FC-0174C35E3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35658-6C70-4C31-AF40-E169C8404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0B1CC-7881-47AB-9C0D-D4575EADA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B4350-5AD2-46B0-B223-A50634701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2A7D5-B269-4DAF-89EA-F2B232966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F694D-F543-4043-8BC5-145DC8580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E96AD-EAC3-42E3-93F4-626251CBF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B7D1-5ACC-4052-AE47-C3AD89A58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0AC84-B66C-4C6D-91C7-3AAB72985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BB66D-D9BD-45F3-BE71-57246703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B0CA5-C5EF-47AC-80E3-485BFD6B9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3A40A-EA81-42DA-B115-2E1504630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76ED3-E5A5-460C-B825-3ED390678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9500-0E1B-4B57-B3AC-4AD02F462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7896-89FE-441E-9A12-93FB991B3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9DCA-24BF-4DF8-A15A-3194C61E1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93EE-3C7F-4D46-B239-8C74A14E4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FA66-66A1-4855-AC70-56FA24FD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B33F-F159-4B47-B58E-E58A5CFFE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81B2-AF99-4F29-8A2E-B5FCF4CCD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35D2E-F79C-4ABF-B3F7-7F44EFD1023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A2F32-297E-4180-B393-044F20A72993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sational Systems Secur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signment 2 tip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available on Wiki als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ask 1 – Disaster Recovery (P5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ick a disaster,i.e fire flood (not extreme as in earthquake or tsunam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st discovery plan in steps on PowerPoint slides as to how to recover (add additional info in notes as requir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nk about the systems… initial plan.. Assessment of damage etc, middle road and then long term… Security Policies (session 13 for a guid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ask 2 – Link legislation to tools and policies (P6/P7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by looking at legislation (law) handout (session 1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ch it with the security policy, that helps to ensure legislation is met (session 11 employment contracts and codes of conduct and session 13 for security polic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sample slide for exampl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Eg. </a:t>
            </a:r>
            <a:r>
              <a:rPr b="1" lang="en-GB" sz="3800" spc="-1" strike="noStrike">
                <a:solidFill>
                  <a:srgbClr val="000000"/>
                </a:solidFill>
                <a:latin typeface="Arial"/>
              </a:rPr>
              <a:t>Computer Misuse Ac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plain what this act covers in your own word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  Then explain which security policy/contract/tools will cover this in an organisation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(P6) – maybe use a table with 2 colum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dditional notes to explain how Contract of Employment, Codes of Conduct should include rules or guidelines See notes….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(P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ask 2 Full Exampl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57200" y="1600200"/>
          <a:ext cx="8229600" cy="46180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6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Legisl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er Missus Ac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overs……… and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…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ecurity Poli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dating Security Procedures &amp; Scheduling Security Audits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urity audits – physical &amp; networked systems – at regular 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val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ask 3 – Systems accessed without damaging dat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d PowerPoint again in session 2 – Network Analysis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oose 2 different threats whereby information can be accessed without damage – i.e Scan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a MERITt question so a certain amount of research and understanding is requir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ask 4 – (D2) – Assess acceptable behaviou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ggested layout –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 behavi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professional bodies and discuss what they consider to be acceptable behaviour. (session 13 – Security Policies lists professional bodi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 the usefulness – giv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pinion of what works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INCTION question requires that you understand, research and compare in order to give your opi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12:51:44Z</dcterms:created>
  <dc:creator>sheila.cassidy-allan</dc:creator>
  <dc:description/>
  <dc:language>en-US</dc:language>
  <cp:lastModifiedBy>sheila.cassidy-allan</cp:lastModifiedBy>
  <dcterms:modified xsi:type="dcterms:W3CDTF">2010-02-03T14:22:25Z</dcterms:modified>
  <cp:revision>2</cp:revision>
  <dc:subject/>
  <dc:title>Organisational Systems Security </dc:title>
</cp:coreProperties>
</file>