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B0EE-1FC3-4503-B17A-09FA7BFD35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.E Un-authorised Access -  rules guidelines given to employees to ensure this is m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DES of CONDUCT and CONTRACT of EMPLOYMNE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olved would 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ftware acquisition and installation policy…. EXPL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on of Duties….. EXPLAI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ring Policy….. EXPLAI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162E-435A-4584-AF54-E3209857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F3A-BE85-4B9A-9C0F-D6BE05B0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12D-1A2D-4751-8013-576F24EF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942-9081-4FDA-BC90-691F5E03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3DB9-6A19-44B4-B9DC-4616978E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AA5E-96C0-4CE6-8A9C-5C97DADC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7669-B6AA-4274-8B3D-FAC02C6F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BB30-9940-4359-A0B2-D095E0F9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FC2F-BD66-4B48-A854-ADB7DBFD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83DB-1E1B-4008-8961-FEB997F8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96DA-DED4-41D8-97C8-C149B5F8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AEE-EDB7-4B86-8A02-7DC07B56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7173-1578-4EAB-B985-291F17A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0153-79E5-46E7-AAAC-5787A5A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7750-BA33-4188-A5F5-FF26F78C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414C-397F-49F4-8BFD-9817EEC7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84D1-20DB-4FAB-95EE-51914321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B68-94A0-4E5D-8F36-215B986D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A98-5070-47DA-BFA1-973C77AE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C0F-96BE-417D-A292-13F9330A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B63-6E39-42AE-953F-D6780739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933-6FEF-4F7C-B4BA-E30D31E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0DF-AD83-42F0-9A40-E4444DD6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D5E-8E1A-4157-B868-B167A718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61EB-83D6-4E62-85BC-9A706B9B0F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23EB-38FD-43F7-A079-324A7B5976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ational Systems Secur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gnment 2 t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vailable on Wiki al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1 – Disaster Recovery (P5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disaster,i.e fire flood (not extreme as in earthquake or tsuna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discovery plan in steps on PowerPoint slides as to how to recover (add additional info in notes as 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about the systems… initial plan.. Assessment of damage etc, middle road and then long term… Security Policies (session 13 for a gu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2 – Link legislation to tools and policies (P6/P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legislation (law) handout (session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it with the security policy, that helps to ensure legislation is met (session 11 employment contracts and codes of conduct and session 13 for securit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ample slide for exampl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Computer Misuse 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plain what this act covers in your own wor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 Then explain which security policy/contract/tools will cover this in an organisation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P6) – maybe use a table with 2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dditional notes to explain how Contract of Employment, Codes of Conduct should include rules or guidelines See notes…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2 Full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egi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Missus A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vers……… 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curity Poli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ing Security Procedures &amp; Scheduling Security Audits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audits – physical &amp; networked systems – at regular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3 – Systems accessed without damaging 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PowerPoint again in session 2 – Network Analysi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2 different threats whereby information can be accessed without damage – i.e 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MERITt question so a certain amount of research and understanding is requi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4 – (D2) – Assess acceptable behaviou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layout –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fessional bodies and discuss what they consider to be acceptable behaviour. (session 13 – Security Policies lists professional bod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usefulness – g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inion of what work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question requires that you understand, research and compare in order to give your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2:51:44Z</dcterms:created>
  <dc:creator>sheila.cassidy-allan</dc:creator>
  <dc:description/>
  <dc:language>en-US</dc:language>
  <cp:lastModifiedBy>sheila.cassidy-allan</cp:lastModifiedBy>
  <dcterms:modified xsi:type="dcterms:W3CDTF">2010-02-03T14:22:25Z</dcterms:modified>
  <cp:revision>2</cp:revision>
  <dc:subject/>
  <dc:title>Organisational Systems Security </dc:title>
</cp:coreProperties>
</file>