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6541-74DF-4D2B-9C9E-179758C9B7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.E Un-authorised Access -  rules guidelines given to employees to ensure this is m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DES of CONDUCT and CONTRACT of EMPLOYMNE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olved would 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ftware acquisition and installation policy…. EXPL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on of Duties….. EXPLAI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ring Policy….. EXPLAI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0A9-3E5C-4AA2-A224-50D86D87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DBB-2E5D-4089-B62B-C38F24B5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698-4B28-4656-ABFB-F2760878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581-5509-4188-B191-181F2AEB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C148-3929-4F97-BF39-DBC7130F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28C2-D5BA-492A-9D0A-2AC14431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4451-BDE4-4414-9DED-084D52A2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B890-BEA5-42D7-8B85-9F3B535B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45E1-2AD6-4D73-B057-8DA3598E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9A22-8698-4AC4-8B42-AB3330D3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BE5E-EC00-4305-B095-0C846CB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074-1095-40BA-8E95-25A5D7B9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29C9-65CA-43AA-981A-FBB9E0D5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422C-3F14-467D-8FA1-3C493F8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855D-5E97-4094-B845-08DDA3A6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F80E-F893-4B57-932F-6A601302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F839-F290-442D-AD6D-27D9E100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808-0583-4BB1-8222-C923EDB0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A91-9E0B-4F3E-818C-D3F9942C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E45-4C92-4CE1-9CDD-B3FB1AA5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343-BD52-43C5-BDAB-62C7418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90F-C6B3-479B-AE25-9FC30EFD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ECF-1597-4654-B4D8-A51F6236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D68-29BF-4A02-9F9D-1DF14C71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5126-024F-48AE-8D35-2F32603C5A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DB44-3525-4801-82F7-D0668DC647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ational Systems Secur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gnment 2 t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vailable on Wiki al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1 – Disaster Recovery (P5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disaster,i.e fire flood (not extreme as in earthquake or tsuna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discovery plan in steps on PowerPoint slides as to how to recover (add additional info in notes as 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about the systems… initial plan.. Assessment of damage etc, middle road and then long term… Security Policies (session 13 for a gu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2 – Link legislation to tools and policies (P6/P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legislation (law) handout (session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it with the security policy, that helps to ensure legislation is met (session 11 employment contracts and codes of conduct and session 13 for securit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ample slide for exampl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Computer Misuse 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plain what this act covers in your own wor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 Then explain which security policy/contract/tools will cover this in an organisation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P6) – maybe use a table with 2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dditional notes to explain how Contract of Employment, Codes of Conduct should include rules or guidelines See notes…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2 Full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egi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Missus A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vers……… 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curity Poli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ing Security Procedures &amp; Scheduling Security Audits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audits – physical &amp; networked systems – at regular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3 – Systems accessed without damaging 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PowerPoint again in session 2 – Network Analysi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2 different threats whereby information can be accessed without damage – i.e 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MERITt question so a certain amount of research and understanding is requi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4 – (D2) – Assess acceptable behaviou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layout –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fessional bodies and discuss what they consider to be acceptable behaviour. (session 13 – Security Policies lists professional bod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usefulness – g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inion of what work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question requires that you understand, research and compare in order to give your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2:51:44Z</dcterms:created>
  <dc:creator>sheila.cassidy-allan</dc:creator>
  <dc:description/>
  <dc:language>en-US</dc:language>
  <cp:lastModifiedBy>sheila.cassidy-allan</cp:lastModifiedBy>
  <dcterms:modified xsi:type="dcterms:W3CDTF">2010-02-03T14:22:25Z</dcterms:modified>
  <cp:revision>2</cp:revision>
  <dc:subject/>
  <dc:title>Organisational Systems Security </dc:title>
</cp:coreProperties>
</file>