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A4E4-AB7B-4FA3-9770-27D8315B2C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.E Un-authorised Access -  rules guidelines given to employees to ensure this is me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DES of CONDUCT and CONTRACT of EMPLOYMNE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olved would 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ftware acquisition and installation policy…. EXPL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on of Duties….. EXPLAIN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ring Policy….. EXPLAIN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A844-D6AC-41B2-842B-977B685C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3FE-C67E-4429-9B88-7C9893E0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CCF-278B-476D-8D37-9D3FAD77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C8E-2AEC-4887-8038-67337D94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A70C-3CDF-4DC8-8F16-563A67B4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9F63-11B4-40B0-A030-B11F796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5828-6C0A-4CE3-8FA5-5A2F55CD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107E-689C-4CE9-B9BB-A239C3C3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640F-E04C-4A06-A992-7AAC3248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19C-6A35-4CC4-9CF9-427ABA7B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29FA-C853-461B-8DA8-57A7C45D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DC06-825A-4A66-929B-94C2478A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E531-76DE-4ED4-96D8-EA70D659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6550-9939-435E-944B-508CFB93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0CBA-FBEA-4A1F-9F72-FD99330F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A983-1328-4ED9-A459-D5E81570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935F-CBC6-4B5D-8773-E412586E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56E-C845-4AB0-A8E8-A5A3416F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165-9F99-4684-830B-43E844D4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AF8-3C80-4F6B-AEF3-A033609C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49A-5037-4CD4-BE94-C0AD9FBD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0CE-1324-4C8F-A465-6E814E3E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F3D-08D9-4684-A487-BA599DA4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532-ECD2-484B-8BE6-4FD85DB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6919-7851-40F1-9CC6-6DDE26BCC5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682C-F5D9-483C-9009-2B6A62E195E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sational Systems Secur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gnment 2 t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vailable on Wiki al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k 1 – Disaster Recovery (P5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 disaster,i.e fire flood (not extreme as in earthquake or tsuna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discovery plan in steps on PowerPoint slides as to how to recover (add additional info in notes as 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about the systems… initial plan.. Assessment of damage etc, middle road and then long term… Security Policies (session 13 for a gu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2 – Link legislation to tools and policies (P6/P7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looking at legislation (law) handout (session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it with the security policy, that helps to ensure legislation is met (session 11 employment contracts and codes of conduct and session 13 for securit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ample slide for exampl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Computer Misuse 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plain what this act covers in your own wor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 Then explain which security policy/contract/tools will cover this in an organisation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P6) – maybe use a table with 2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dditional notes to explain how Contract of Employment, Codes of Conduct should include rules or guidelines See notes…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k 2 Full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egi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Missus Ac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vers……… 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curity Poli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ing Security Procedures &amp; Scheduling Security Audits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audits – physical &amp; networked systems – at regular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3 – Systems accessed without damaging 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PowerPoint again in session 2 – Network Analysi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2 different threats whereby information can be accessed without damage – i.e Sc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MERITt question so a certain amount of research and understanding is requi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4 – (D2) – Assess acceptable behaviou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layout –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fessional bodies and discuss what they consider to be acceptable behaviour. (session 13 – Security Policies lists professional bod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usefulness – g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inion of what work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question requires that you understand, research and compare in order to give your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2:51:44Z</dcterms:created>
  <dc:creator>sheila.cassidy-allan</dc:creator>
  <dc:description/>
  <dc:language>en-US</dc:language>
  <cp:lastModifiedBy>sheila.cassidy-allan</cp:lastModifiedBy>
  <dcterms:modified xsi:type="dcterms:W3CDTF">2010-02-03T14:22:25Z</dcterms:modified>
  <cp:revision>2</cp:revision>
  <dc:subject/>
  <dc:title>Organisational Systems Security </dc:title>
</cp:coreProperties>
</file>