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C3C9-91CE-47D5-8004-37D47D3972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B7D1-3FB6-49D7-9BD6-28B898BF7A2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F97-FF5E-42E2-8878-7761E4E9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91A-8BF1-4DC6-BC0C-8899C0E1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1DD-813F-42B4-A62F-E8E7754F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9D2-A078-47F9-B2F8-139548A5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65F3-88F4-496D-898F-2E845197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DA16-1399-4185-BDF6-496FA587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95AA-BE38-469F-9393-A8822E52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D17-5566-4861-BFE6-C0CD35B5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CA81-DC3B-4B92-B7B9-277AF4F0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2005-41E8-40C8-8778-95BDC58E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B3BF-26C7-4D80-B4A4-B4B480F7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2D7-FB69-4DD1-9015-EB658F0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3B6E-BDB4-4415-AB88-750A6CA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6004-1769-4ABA-BDAD-A3F20717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E05D-792E-4C7E-8843-9DF79B1C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A085-2152-4CA0-8C24-9E7F1E4A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4A49-FF24-4308-8ADC-77D5BA80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531-94E5-41DD-9CA1-8F3D1DD4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EC7-20F3-497C-90BE-55214ECC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2B9-6E18-45AE-ACF1-11BA230F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97B-FCA0-4268-94E8-8EA85E98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978-1A02-464A-B690-C5AD2052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0E2-3EA0-427F-8CC7-F22A5B1A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737-165A-4ACA-9251-CC46C34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3774-8B5E-4D53-9814-5718A096B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Unit5-networ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6F24-4087-415A-88DE-FF5D2CE699E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X&amp;start=40&amp;oi=define&amp;q=http://ec.wmich.edu/glossary/prog-glossary.htf&amp;usg=AFQjCNF6JwNO6bPJvz2IiFS_Hxgi06CVOQ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12855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inciples of Networking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7 Layer 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5723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t provides for full-duplex, half-duplex, or simplex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reliable data transfer services to the upper la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media – cabling / broadca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devices – NICs / 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INTERNET APPLICATION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57200"/>
            <a:ext cx="7772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pplication layer is made up of other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ML / HT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/ SM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LNET – remote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NS – Domain name server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rresponds to layers 5-7 of OSI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60668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ctivity - What is a standa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 principle commonly agreed to by experts in the conduct and use of evaluation for the measure of the value or quality of an evaluation.”</a:t>
            </a:r>
            <a:br>
              <a:rPr sz="3200"/>
            </a:br>
            <a:br>
              <a:rPr sz="3200"/>
            </a:br>
            <a:r>
              <a:rPr b="0" lang="en-GB" sz="3200" spc="-1" strike="noStrike" u="sng">
                <a:solidFill>
                  <a:srgbClr val="ff4568"/>
                </a:solidFill>
                <a:uFillTx/>
                <a:latin typeface="Arial"/>
                <a:ea typeface="Arial"/>
                <a:hlinkClick r:id="rId1"/>
              </a:rPr>
              <a:t>ec.wmich.edu/glossary/prog-glossary.ht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OSI Model Lay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4124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OSI model is represented by seven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e seventh layer being the top which is nearest the us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One being the bottom for the communication medium (the data leaving the comput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 - 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- Presentation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- 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- Transport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- 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- Data Link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- Physical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24" name="AutoShape 30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27" name="AutoShape 33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357120"/>
          <a:ext cx="8466120" cy="6213600"/>
        </p:xfrm>
        <a:graphic>
          <a:graphicData uri="http://schemas.openxmlformats.org/drawingml/2006/table">
            <a:tbl>
              <a:tblPr/>
              <a:tblGrid>
                <a:gridCol w="857160"/>
                <a:gridCol w="1500480"/>
                <a:gridCol w="610848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ay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SI Ro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ed to a 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ail and web browsers – many protocols associated to i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ganisation of data into a format that can be used by hum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CII - Plain text for web pag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 – Word docu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is allows you to have multiple browsers and resources open simultaneously without data conflicts in transmissio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ewalls, layer 4 switches operate at this level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gical address for a server or workstation is managed here – common protocol is TCP/IP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uting takes place at this lev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 Lin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 address (Media access control (MAC)) Used to identify the devi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ame rela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hys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bles/wireless encoding of bits of data 0001111010101, Hu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-operation between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sest to user – both User and Layer 7 software interact with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 Web Brow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7120" y="1641240"/>
            <a:ext cx="8786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nnelise Arnold</cp:lastModifiedBy>
  <dcterms:modified xsi:type="dcterms:W3CDTF">2009-10-16T20:04:38Z</dcterms:modified>
  <cp:revision>84</cp:revision>
  <dc:subject/>
  <dc:title>AVCE – UNIT 14 Project Management</dc:title>
</cp:coreProperties>
</file>