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445B-0F03-4157-B4AA-AC398FFED3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0A8D-C8CA-4383-93B0-0010CC88244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2436-E8D9-4D77-9F25-4A8E0247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69B-A8C1-4848-A910-ED33CA6D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8BC7-DE58-4BEE-96B8-BDF9C820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66AC-63C4-4630-BF09-8AF722CA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A2BC-77E2-4EA0-8B92-3CCD556C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1648-917B-46AF-B9D9-3C65D539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6E93-EF99-410D-8305-48DF5590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3AE4-2D55-4DAF-9450-7A6D2F2D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C897-F64E-47DD-BB5F-38697656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541B-A245-4610-8E92-272CA250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23FA-F676-4A8E-B0D3-6DBACCA0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9229-86E8-45D9-A90E-D9D6B16B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3157-35D9-4CC4-B52A-EF685908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5AB8-100E-4F2C-AB3C-43AC291C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44B1-B5E6-4140-BDF6-BE78953C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0429-7F7C-46D2-8609-C44F1499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6889-CCD0-47C7-B9CB-130B25F4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21F-43B2-4F2C-B84A-06186A77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2B06-7D2D-4A86-8E4E-2B10D050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8C1-BC4F-4A4F-A66F-80C158B2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531-0A57-4160-B4FB-4D19C23D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E6A6-CFEA-41D1-B796-092C54CE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7F85-0292-4466-B6A0-FA3D7E03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336E-C52E-4275-9B2C-3A9F1CEE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1027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Unit5-networ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14BB-B31D-48B2-A7FB-DC0BA64D7D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Unit5-networ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1E0F-0DF9-4E7A-A48F-BB5CB9CDD92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X&amp;start=40&amp;oi=define&amp;q=http://ec.wmich.edu/glossary/prog-glossary.htf&amp;usg=AFQjCNF6JwNO6bPJvz2IiFS_Hxgi06CVOQ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12855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rinciples of Networking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7 Layer OSI Mode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219320" y="44197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SESSION LAYER 5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8760" y="1213920"/>
            <a:ext cx="85723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nages connections between mach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rmines whether all data transmitted / recei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It provides for full-duplex, half-duplex, or simplex op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stablishes logical connection for 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ecks data received – retransmits if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nnects on premature ter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leases logical connection on comple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TRANSPORT LAYER 4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858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ides upon network to use depending on data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 reliable data transfer services to the upper lay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low control – enough space to send/receive mess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ltiplexing – combines messages to same 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cketing – breaks larger into smaller pie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 checking and re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NETWORK LAYER 3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uting and addressing functions – correct dest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eives incoming packets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uting – decides what route to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warding – sends on packets to other h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ols communication subnet – layers 1-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DATA LINK LAYER 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rganisation of data bits into frame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beginning and end of the data fr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ddress of the s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ddress of the rece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 checking of the data fr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HYSICAL LAYER 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mits / receives data bits as electrical pul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ols physical link between communicating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cribes network top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mission media – cabling / broadca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mission devices – NICs / mod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ectrical or optical (fibre optic) signa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HE INTERNET APPLICATION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5720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pplication layer is made up of other protoc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ML / HT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 / SM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LNET – remote s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NS – Domain name server – IP addr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rresponds to layers 5-7 of OSI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TCP / I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5723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ic communication protocol of the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MISSION CONTROL PROTOC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nages assembly of messages / files into smaller packets. Reassembles packets when received     (OSI layer 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ET PROTOC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andles the address part of the pac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sures reaches correct destination (OSI layer 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tand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60668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Activity - What is a standa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A principle commonly agreed to by experts in the conduct and use of evaluation for the measure of the value or quality of an evaluation.”</a:t>
            </a:r>
            <a:br>
              <a:rPr sz="3200"/>
            </a:br>
            <a:br>
              <a:rPr sz="3200"/>
            </a:br>
            <a:r>
              <a:rPr b="0" lang="en-GB" sz="3200" spc="-1" strike="noStrike" u="sng">
                <a:solidFill>
                  <a:srgbClr val="ff4568"/>
                </a:solidFill>
                <a:uFillTx/>
                <a:latin typeface="Arial"/>
                <a:ea typeface="Arial"/>
                <a:hlinkClick r:id="rId1"/>
              </a:rPr>
              <a:t>ec.wmich.edu/glossary/prog-glossary.htf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THE OSI 7 LAYER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pen Systems Inter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standard description or “reference model” for how messages should be transmitted between any two points in a telecommunication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ny two computers can communicate when connected regardless of underlying architectur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OSI Model Lay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64124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The OSI model is represented by seven lay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The seventh layer being the top which is nearest the us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One being the bottom for the communication medium (the data leaving the comput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990720" y="457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OSI 7 Layer Mode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3110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267080" y="12952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 - Applicat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191120" y="23623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267080" y="19810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 - Presentation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267080" y="26668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 - Sess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267080" y="342900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- Transport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4267080" y="419112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 - Network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4267080" y="49528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- Data Link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4267080" y="571500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- Physical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6095880" y="17524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6095880" y="24382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6095880" y="31240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6095880" y="38862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24"/>
          <p:cNvSpPr/>
          <p:nvPr/>
        </p:nvSpPr>
        <p:spPr>
          <a:xfrm>
            <a:off x="6095880" y="46483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6095880" y="54100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Group 29"/>
          <p:cNvGrpSpPr/>
          <p:nvPr/>
        </p:nvGrpSpPr>
        <p:grpSpPr>
          <a:xfrm>
            <a:off x="1066680" y="1371600"/>
            <a:ext cx="2806560" cy="2437920"/>
            <a:chOff x="1066680" y="1371600"/>
            <a:chExt cx="2806560" cy="2437920"/>
          </a:xfrm>
        </p:grpSpPr>
        <p:sp>
          <p:nvSpPr>
            <p:cNvPr id="124" name="AutoShape 30"/>
            <p:cNvSpPr/>
            <p:nvPr/>
          </p:nvSpPr>
          <p:spPr>
            <a:xfrm>
              <a:off x="3543120" y="1371600"/>
              <a:ext cx="330120" cy="2437920"/>
            </a:xfrm>
            <a:custGeom>
              <a:avLst/>
              <a:gdLst>
                <a:gd name="textAreaLeft" fmla="*/ 210960 w 330120"/>
                <a:gd name="textAreaRight" fmla="*/ 330480 w 330120"/>
                <a:gd name="textAreaTop" fmla="*/ 63360 h 2437920"/>
                <a:gd name="textAreaBottom" fmla="*/ 2374560 h 243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31"/>
            <p:cNvSpPr/>
            <p:nvPr/>
          </p:nvSpPr>
          <p:spPr>
            <a:xfrm>
              <a:off x="1066680" y="1795680"/>
              <a:ext cx="2328480" cy="119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r services, application, activit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Group 32"/>
          <p:cNvGrpSpPr/>
          <p:nvPr/>
        </p:nvGrpSpPr>
        <p:grpSpPr>
          <a:xfrm>
            <a:off x="914400" y="4267080"/>
            <a:ext cx="2971440" cy="1752840"/>
            <a:chOff x="914400" y="4267080"/>
            <a:chExt cx="2971440" cy="1752840"/>
          </a:xfrm>
        </p:grpSpPr>
        <p:sp>
          <p:nvSpPr>
            <p:cNvPr id="127" name="AutoShape 33"/>
            <p:cNvSpPr/>
            <p:nvPr/>
          </p:nvSpPr>
          <p:spPr>
            <a:xfrm>
              <a:off x="3537000" y="4267080"/>
              <a:ext cx="348840" cy="1752840"/>
            </a:xfrm>
            <a:custGeom>
              <a:avLst/>
              <a:gdLst>
                <a:gd name="textAreaLeft" fmla="*/ 222840 w 348840"/>
                <a:gd name="textAreaRight" fmla="*/ 349200 w 34884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Text Box 34"/>
            <p:cNvSpPr/>
            <p:nvPr/>
          </p:nvSpPr>
          <p:spPr>
            <a:xfrm>
              <a:off x="914400" y="4419720"/>
              <a:ext cx="2466000" cy="1557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ual data transmission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ommunications sub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57120" y="357120"/>
          <a:ext cx="8466120" cy="6213600"/>
        </p:xfrm>
        <a:graphic>
          <a:graphicData uri="http://schemas.openxmlformats.org/drawingml/2006/table">
            <a:tbl>
              <a:tblPr/>
              <a:tblGrid>
                <a:gridCol w="857160"/>
                <a:gridCol w="1500480"/>
                <a:gridCol w="6108480"/>
              </a:tblGrid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y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SI Ro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lated to a Netwo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ail and web browsers – many protocols associated to i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sen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ganisation of data into a format that can be used by hum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CII - Plain text for web pag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c – Word docu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is allows you to have multiple browsers and resources open simultaneously without data conflicts in transmissi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rewalls, layer 4 switches operate at this level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two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gical address for a server or workstation is managed here – common protocol is TCP/IP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uting takes place at this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a Li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ysical address (Media access control (MAC)) Used to identify the devic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ame rel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ys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bles/wireless encoding of bits of data 0001111010101, Hub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HE OSI SEVEN LAYER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PER 4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ssage passing – from computer t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WER 3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ssage passing – through hos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uter to an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separate specific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APPLICATION LAYER 7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56840"/>
            <a:ext cx="7772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acts with applications for communication purp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rmines identity &amp; availability of communications 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rmines sufficient resources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ols the communication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-operation between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sest to user – both User and Layer 7 software interact with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.g. Web Brow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RESENTATION LAYER 6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7120" y="1641240"/>
            <a:ext cx="8786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ts data to the user in understandable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vides conversion functions for application layer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representation – graphic form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racter representation – text / ASC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compressio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Annelise Arnold</cp:lastModifiedBy>
  <dcterms:modified xsi:type="dcterms:W3CDTF">2009-10-16T20:04:38Z</dcterms:modified>
  <cp:revision>84</cp:revision>
  <dc:subject/>
  <dc:title>AVCE – UNIT 14 Project Management</dc:title>
</cp:coreProperties>
</file>