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A87F-954B-4F03-A0CA-084BD50B38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898C-6BDB-4BBE-B7E4-C505EDDD8BE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200-6641-4A91-9732-E48DF336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9AB-7A47-4F3F-B692-831EDD42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0DC-F9DA-4D82-BAE6-659B5AB0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F51-9D91-4A06-B2AE-6BAE4A09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15A7-3EFE-41F7-A926-8C587222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B2DA-B7E7-44FC-BAFB-22C75FF9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621B-330D-461A-9315-6E0D3940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458F-F2B2-4A61-A8FC-19CC9C17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BB57-5B7E-4C3F-85DB-9259A373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B741-1D5E-4AE8-8071-3DC042C9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1A24-5487-429F-B15E-4580E5B1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F9A-644C-4AFF-B54F-6683B449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6980-1D01-490B-8EDD-20C7EE0D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7A8C-C452-4E22-A996-35B3C26C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964D-4F8A-4006-BF82-EF420852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DA9B-E330-41F3-872E-535859E9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0C5F-1481-4534-A37E-51765D57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A68-7D1E-43B5-8045-22307C83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1D8-1469-41C4-9E90-B892E63E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2A6-954B-4C8E-8EE7-D745A754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DBBD-F939-4D6C-90B4-E5ABAC08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4A9-15AF-41A5-93E5-339E9939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B18-30F3-4560-B1D1-0CE8843E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B18-B839-4277-9292-AE8C27A6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1027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nit5-netwo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D9FB-69DD-46D5-BF29-69720D010B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Unit5-netwo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950A-53FE-43E1-8235-AEA5DD6B3F5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X&amp;start=40&amp;oi=define&amp;q=http://ec.wmich.edu/glossary/prog-glossary.htf&amp;usg=AFQjCNF6JwNO6bPJvz2IiFS_Hxgi06CVOQ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12855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rinciples of Networking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7 Layer OSI Mod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219320" y="4419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SESSION LAYER 5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8760" y="1213920"/>
            <a:ext cx="85723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ages connections between mach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rmines whether all data transmitted / recei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It provides for full-duplex, half-duplex, or simplex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stablishes logical connection for 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ecks data received – retransmits if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nnects on premature ter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eases logical connection on comple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TRANSPORT LAYER 4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858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ides upon network to use depending on data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 reliable data transfer services to the upper lay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low control – enough space to send/receive mes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exing – combines messages to same 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cketing – breaks larger into smaller pie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 checking and re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NETWORK LAYER 3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and addressing functions – correct dest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eives incoming packets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– decides what route to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warding – sends on packets to other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communication subnet – layers 1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DATA LINK LAYER 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rganisation of data bits into frame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beginning and end of the data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ddress of the s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ddress of the rece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 checking of the data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HYSICAL LAYER 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ts / receives data bits as electrical pul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physical link between communicating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bes network top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ssion media – cabling / broadca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ssion devices – NICs / mod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ectrical or optical (fibre optic) signa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HE INTERNET APPLICATION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5720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lication layer is made up of other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ML / HT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/ SM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LNET – remote s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NS – Domain name server – IP add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rresponds to layers 5-7 of OSI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TCP / I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572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ic communication protocol of the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SSION CONTROL PROTOC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ages assembly of messages / files into smaller packets. Reassembles packets when received     (OSI layer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 PROTOC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ndles the address part of the pac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sures reaches correct destination (OSI layer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tand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60668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Activity - What is a standa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A principle commonly agreed to by experts in the conduct and use of evaluation for the measure of the value or quality of an evaluation.”</a:t>
            </a:r>
            <a:br>
              <a:rPr sz="3200"/>
            </a:br>
            <a:br>
              <a:rPr sz="3200"/>
            </a:br>
            <a:r>
              <a:rPr b="0" lang="en-GB" sz="3200" spc="-1" strike="noStrike" u="sng">
                <a:solidFill>
                  <a:srgbClr val="ff4568"/>
                </a:solidFill>
                <a:uFillTx/>
                <a:latin typeface="Arial"/>
                <a:ea typeface="Arial"/>
                <a:hlinkClick r:id="rId1"/>
              </a:rPr>
              <a:t>ec.wmich.edu/glossary/prog-glossary.htf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THE OSI 7 LAYER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pen Systems Inter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standard description or “reference model” for how messages should be transmitted between any two points in a telecommunication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y two computers can communicate when connected regardless of underlying architectur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OSI Model Lay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4124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The OSI model is represented by seven 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The seventh layer being the top which is nearest the us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One being the bottom for the communication medium (the data leaving the comput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9907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OSI 7 Layer Mode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267080" y="12952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 - 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191120" y="23623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267080" y="19810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 - Presentation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267080" y="2666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- Sess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267080" y="3429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- Transport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267080" y="419112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- Network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4267080" y="4952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- Data Link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4267080" y="5715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- Physical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6095880" y="17524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6095880" y="24382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6095880" y="3124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6095880" y="3886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4"/>
          <p:cNvSpPr/>
          <p:nvPr/>
        </p:nvSpPr>
        <p:spPr>
          <a:xfrm>
            <a:off x="6095880" y="46483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6095880" y="5410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Group 29"/>
          <p:cNvGrpSpPr/>
          <p:nvPr/>
        </p:nvGrpSpPr>
        <p:grpSpPr>
          <a:xfrm>
            <a:off x="1066680" y="1371600"/>
            <a:ext cx="2806560" cy="2437920"/>
            <a:chOff x="1066680" y="1371600"/>
            <a:chExt cx="2806560" cy="2437920"/>
          </a:xfrm>
        </p:grpSpPr>
        <p:sp>
          <p:nvSpPr>
            <p:cNvPr id="124" name="AutoShape 30"/>
            <p:cNvSpPr/>
            <p:nvPr/>
          </p:nvSpPr>
          <p:spPr>
            <a:xfrm>
              <a:off x="3543120" y="1371600"/>
              <a:ext cx="330120" cy="2437920"/>
            </a:xfrm>
            <a:custGeom>
              <a:avLst/>
              <a:gdLst>
                <a:gd name="textAreaLeft" fmla="*/ 210960 w 330120"/>
                <a:gd name="textAreaRight" fmla="*/ 330480 w 330120"/>
                <a:gd name="textAreaTop" fmla="*/ 63360 h 2437920"/>
                <a:gd name="textAreaBottom" fmla="*/ 2374560 h 24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31"/>
            <p:cNvSpPr/>
            <p:nvPr/>
          </p:nvSpPr>
          <p:spPr>
            <a:xfrm>
              <a:off x="1066680" y="1795680"/>
              <a:ext cx="2328480" cy="119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r services, application, activit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Group 32"/>
          <p:cNvGrpSpPr/>
          <p:nvPr/>
        </p:nvGrpSpPr>
        <p:grpSpPr>
          <a:xfrm>
            <a:off x="914400" y="4267080"/>
            <a:ext cx="2971440" cy="1752840"/>
            <a:chOff x="914400" y="4267080"/>
            <a:chExt cx="2971440" cy="1752840"/>
          </a:xfrm>
        </p:grpSpPr>
        <p:sp>
          <p:nvSpPr>
            <p:cNvPr id="127" name="AutoShape 33"/>
            <p:cNvSpPr/>
            <p:nvPr/>
          </p:nvSpPr>
          <p:spPr>
            <a:xfrm>
              <a:off x="3537000" y="4267080"/>
              <a:ext cx="348840" cy="1752840"/>
            </a:xfrm>
            <a:custGeom>
              <a:avLst/>
              <a:gdLst>
                <a:gd name="textAreaLeft" fmla="*/ 222840 w 348840"/>
                <a:gd name="textAreaRight" fmla="*/ 349200 w 34884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34"/>
            <p:cNvSpPr/>
            <p:nvPr/>
          </p:nvSpPr>
          <p:spPr>
            <a:xfrm>
              <a:off x="914400" y="4419720"/>
              <a:ext cx="2466000" cy="1557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ual data transmission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ommunications sub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57120" y="357120"/>
          <a:ext cx="8466120" cy="6213600"/>
        </p:xfrm>
        <a:graphic>
          <a:graphicData uri="http://schemas.openxmlformats.org/drawingml/2006/table">
            <a:tbl>
              <a:tblPr/>
              <a:tblGrid>
                <a:gridCol w="857160"/>
                <a:gridCol w="1500480"/>
                <a:gridCol w="6108480"/>
              </a:tblGrid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y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SI Ro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lated to a Netw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ail and web browsers – many protocols associated to i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ganisation of data into a format that can be used by hum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CII - Plain text for web pa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c – Word docu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is allows you to have multiple browsers and resources open simultaneously without data conflicts in transmissi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ewalls, layer 4 switches operate at this level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w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gical address for a server or workstation is managed here – common protocol is TCP/IP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uting takes place at this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a Li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ysical address (Media access control (MAC)) Used to identify the devi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ame rel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bles/wireless encoding of bits of data 0001111010101, Hub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HE OSI SEVEN LAYER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4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ssage passing – from computer t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3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ssage passing – through hos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uter to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separate specific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PPLICATION LAYER 7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5684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acts with applications for communication purp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rmines identity &amp; availability of communications 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rmines sufficient resource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the communication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-operation between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sest to user – both User and Layer 7 software interact with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.g. Web Brow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RESENTATION LAYER 6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7120" y="1641240"/>
            <a:ext cx="8786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s data to the user in understandable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vides conversion functions for application layer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representation – graphic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racter representation – text / ASC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nnelise Arnold</cp:lastModifiedBy>
  <dcterms:modified xsi:type="dcterms:W3CDTF">2009-10-16T20:04:38Z</dcterms:modified>
  <cp:revision>84</cp:revision>
  <dc:subject/>
  <dc:title>AVCE – UNIT 14 Project Management</dc:title>
</cp:coreProperties>
</file>