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97E3-6324-4729-9695-F3D93A6316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36B-F80A-4312-A6B8-9965F5AF129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C91-798B-4464-9907-ABB95CC8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9C3-02F7-4203-ABA3-CE8705C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D82-95A6-4D56-87BD-6CF4F9A2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DC5-D20D-455E-9410-770CBFEF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4BA-6994-4F9A-AD54-AD950B89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CDA-7272-4356-8638-A92A526D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1923-0151-4763-B6BB-5CB264D2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8838-FDF6-4DAF-B4BB-D6E3569C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698-4B2C-4754-ACD7-FB158CD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5D7C-757E-4435-9F1F-B7797FD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C1EF-459A-4925-A619-895FA2F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136-3EB5-429A-A177-30CA812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0BE-26E1-4536-A0B0-B8222A3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0BBD-1D61-4CB0-AEE5-6F6164D2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7537-E80B-40D8-B85C-ADA8BBB8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4E2C-2EB2-42C0-8C75-6C66EBC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247-DB82-4F1D-9A7B-FA6CFA32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502-D45B-40E1-A94D-5FECA0A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B41-0530-460D-AD62-DB69FC9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A8E-5655-45D4-87D1-9DC0AC6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EE9-6EDD-40CF-9BF1-69FC14A0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C6E-2686-40B7-A385-73EE9D9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DC2-BAC1-4DF8-BD32-0354DD99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4F3-5F68-470E-8A70-41A53A1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245-13E0-40E7-8036-72DF3F6038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DED-ABD5-4F32-B723-E482DE985F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X&amp;start=40&amp;oi=define&amp;q=http://ec.wmich.edu/glossary/prog-glossary.htf&amp;usg=AFQjCNF6JwNO6bPJvz2IiFS_Hxgi06CVO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inciples of Networking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7 Layer 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t provides for full-duplex, half-duplex, or simplex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reliable data transfer services to the upper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media – cabling / 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devices – NICs /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INTERNET APPLICATION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lication layer is made up of other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ML / 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/ SM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NET – remote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NS – Domain name server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sponds to layers 5-7 of OSI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60668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ctivity - What is a standa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principle commonly agreed to by experts in the conduct and use of evaluation for the measure of the value or quality of an evaluation.”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ff4568"/>
                </a:solidFill>
                <a:uFillTx/>
                <a:latin typeface="Arial"/>
                <a:ea typeface="Arial"/>
                <a:hlinkClick r:id="rId1"/>
              </a:rPr>
              <a:t>ec.wmich.edu/glossary/prog-glossary.ht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OSI Model Lay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4124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OSI model is represented by seven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seventh layer being the top which is nearest the u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One being the bottom for the communication medium (the data leaving the comput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 - 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- Presentation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- 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 Transport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- 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- Data Link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- Physical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24" name="AutoShape 30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27" name="AutoShape 33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357120"/>
          <a:ext cx="8466120" cy="6213600"/>
        </p:xfrm>
        <a:graphic>
          <a:graphicData uri="http://schemas.openxmlformats.org/drawingml/2006/table">
            <a:tbl>
              <a:tblPr/>
              <a:tblGrid>
                <a:gridCol w="857160"/>
                <a:gridCol w="1500480"/>
                <a:gridCol w="610848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I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to a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ail and web browsers – many protocols associated to i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sation of data into a format that can be used by hu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CII - Plain text for 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 – Word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allows you to have multiple browsers and resources open simultaneously without data conflicts in transmiss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walls, layer 4 switches operate at this leve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gical address for a server or workstation is managed here – common protocol is TCP/I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uting takes place at this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 L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 address (Media access control (MAC)) Used to identify the de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me r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les/wireless encoding of bits of data 0001111010101, H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-operation between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sest to user – both User and Layer 7 software interact with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641240"/>
            <a:ext cx="8786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nnelise Arnold</cp:lastModifiedBy>
  <dcterms:modified xsi:type="dcterms:W3CDTF">2009-10-16T20:04:38Z</dcterms:modified>
  <cp:revision>84</cp:revision>
  <dc:subject/>
  <dc:title>AVCE – UNIT 14 Project Management</dc:title>
</cp:coreProperties>
</file>