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4.xml" ContentType="application/vnd.openxmlformats-officedocument.presentationml.comments+xml"/>
  <Override PartName="/ppt/comments/comment11.xml" ContentType="application/vnd.openxmlformats-officedocument.presentationml.comments+xml"/>
  <Override PartName="/ppt/comments/comment5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6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commentAuthors.xml><?xml version="1.0" encoding="utf-8"?>
<p:cmAuthorLst xmlns:p="http://schemas.openxmlformats.org/presentationml/2006/main">
  <p:cmAuthor id="0" name="Mobile" initials="M" lastIdx="1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5-07-15T13:05:15.874000000" idx="8">
    <p:pos x="10" y="10"/>
    <p:text>full stops at end of paras</p:text>
  </p:cm>
</p:cmLst>
</file>

<file path=ppt/comments/comment11.xml><?xml version="1.0" encoding="utf-8"?>
<p:cmLst xmlns:p="http://schemas.openxmlformats.org/presentationml/2006/main">
  <p:cm authorId="0" dt="2005-07-15T13:06:13.857000000" idx="9">
    <p:pos x="10" y="10"/>
    <p:text>close up full stop in first para
end first para and fourth para with full stops</p:text>
  </p:cm>
</p:cmLst>
</file>

<file path=ppt/comments/comment12.xml><?xml version="1.0" encoding="utf-8"?>
<p:cmLst xmlns:p="http://schemas.openxmlformats.org/presentationml/2006/main">
  <p:cm authorId="0" dt="2005-07-15T13:06:36.480000000" idx="10">
    <p:pos x="10" y="10"/>
    <p:text>close up full stop at end of para</p:text>
  </p:cm>
</p:cmLst>
</file>

<file path=ppt/comments/comment13.xml><?xml version="1.0" encoding="utf-8"?>
<p:cmLst xmlns:p="http://schemas.openxmlformats.org/presentationml/2006/main">
  <p:cm authorId="0" dt="2005-07-15T13:07:21.224000000" idx="11">
    <p:pos x="10" y="10"/>
    <p:text>primary key - upper or lower?
full stop at end of second para</p:text>
  </p:cm>
</p:cmLst>
</file>

<file path=ppt/comments/comment14.xml><?xml version="1.0" encoding="utf-8"?>
<p:cmLst xmlns:p="http://schemas.openxmlformats.org/presentationml/2006/main">
  <p:cm authorId="0" dt="2005-07-15T13:07:56.064000000" idx="12">
    <p:pos x="10" y="10"/>
    <p:text>sandwiches ordered box - needs aligning and ordered to be in l/c</p:text>
  </p:cm>
</p:cmLst>
</file>

<file path=ppt/comments/comment2.xml><?xml version="1.0" encoding="utf-8"?>
<p:cmLst xmlns:p="http://schemas.openxmlformats.org/presentationml/2006/main">
  <p:cm authorId="0" dt="2005-07-15T12:59:06.132000000" idx="1">
    <p:pos x="10" y="10"/>
    <p:text>second words in l/c eg. Sandwich description
Price needs to be aligned
in text: 1 value to be changed to 'one'</p:text>
  </p:cm>
</p:cmLst>
</file>

<file path=ppt/comments/comment3.xml><?xml version="1.0" encoding="utf-8"?>
<p:cmLst xmlns:p="http://schemas.openxmlformats.org/presentationml/2006/main">
  <p:cm authorId="0" dt="2005-07-15T13:00:15.051000000" idx="2">
    <p:pos x="10" y="10"/>
    <p:text>change second words as in previous slide and with future slides.
Text: should primary key be in caps?</p:text>
  </p:cm>
</p:cmLst>
</file>

<file path=ppt/comments/comment4.xml><?xml version="1.0" encoding="utf-8"?>
<p:cmLst xmlns:p="http://schemas.openxmlformats.org/presentationml/2006/main">
  <p:cm authorId="0" dt="2005-07-15T13:01:08.228000000" idx="3">
    <p:pos x="10" y="19"/>
    <p:text>insert comma after 'items' in text on right
end with full stop</p:text>
  </p:cm>
</p:cmLst>
</file>

<file path=ppt/comments/comment5.xml><?xml version="1.0" encoding="utf-8"?>
<p:cmLst xmlns:p="http://schemas.openxmlformats.org/presentationml/2006/main">
  <p:cm authorId="0" dt="2005-07-15T13:02:28.644000000" idx="4">
    <p:pos x="10" y="10"/>
    <p:text>full stops at ends of both paras</p:text>
  </p:cm>
</p:cmLst>
</file>

<file path=ppt/comments/comment6.xml><?xml version="1.0" encoding="utf-8"?>
<p:cmLst xmlns:p="http://schemas.openxmlformats.org/presentationml/2006/main">
  <p:cm authorId="0" dt="2005-07-15T13:03:41.418000000" idx="5">
    <p:pos x="10" y="10"/>
    <p:text>address throughout use of number and no. - should be consistent...
Text:
1 key - change to one key
Full stop at end of first para
</p:text>
  </p:cm>
</p:cmLst>
</file>

<file path=ppt/comments/comment8.xml><?xml version="1.0" encoding="utf-8"?>
<p:cmLst xmlns:p="http://schemas.openxmlformats.org/presentationml/2006/main">
  <p:cm authorId="0" dt="2005-07-15T13:04:24.250000000" idx="6">
    <p:pos x="10" y="10"/>
    <p:text>full stop at end of text</p:text>
  </p:cm>
</p:cmLst>
</file>

<file path=ppt/comments/comment9.xml><?xml version="1.0" encoding="utf-8"?>
<p:cmLst xmlns:p="http://schemas.openxmlformats.org/presentationml/2006/main">
  <p:cm authorId="0" dt="2005-07-15T13:04:51.469000000" idx="7">
    <p:pos x="10" y="10"/>
    <p:text>insert full stop at end of sentenc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F060-9B88-421E-BE21-12EFD03B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B05-FC16-427B-B4E2-76C4FED9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73EC-DDE1-4749-B28A-21D9A30B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0F6-CE35-4BEA-8EBC-19EE5458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CE40-0EC3-4C41-A1BB-EE73426E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89D-61DD-428C-82B9-5E7EE444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D47-B139-4574-B942-CDDAE27B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5CB-D828-44AB-A3E2-7E38A05C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D89-9D49-4F7A-A187-E75A7E1D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9260-6C9E-42CF-B52D-508B6660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729-CC85-4BCA-BAAD-B467BA4E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5FC4-6735-4CBE-B22F-F420FC1D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8823-5347-4A45-AE06-C1384F60BB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360" y="0"/>
            <a:ext cx="2592360" cy="6858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0"/>
            <a:ext cx="237636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720" y="0"/>
            <a:ext cx="241128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191628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ormal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35772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a’s Sandwich 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4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 Expl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19700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733920"/>
            <a:ext cx="331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3886200"/>
            <a:ext cx="288720" cy="504720"/>
          </a:xfrm>
          <a:custGeom>
            <a:avLst/>
            <a:gdLst>
              <a:gd name="textAreaLeft" fmla="*/ 0 w 288720"/>
              <a:gd name="textAreaRight" fmla="*/ 104040 w 2887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5029200"/>
            <a:ext cx="2971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1268280"/>
            <a:ext cx="36734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ributes must depe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 the key and not on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these non key or transitive dependencies are found the attributes must be removed and a new entity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386064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1371600"/>
            <a:ext cx="468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ossible to uniquely identify a company  using the Order_Number . This is dependent only on the Company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4824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possible to uniquely identify the Quantity ordered of a particular item by the Sandwich_code alone.  This is dependent on the combined keys of Order_Number and Sandwich_Co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5229360"/>
            <a:ext cx="460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ssible to identify the Sandwich_Description &amp; Price from the Sandwich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438280"/>
            <a:ext cx="489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ossible to determine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of the or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tails from the Order_Numb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19700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733920"/>
            <a:ext cx="331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029200"/>
            <a:ext cx="2827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8360" y="422100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143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create a Primary key for the new table and link it back to the original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125360"/>
            <a:ext cx="2808000" cy="89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149720"/>
            <a:ext cx="22096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229360"/>
            <a:ext cx="2808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276640"/>
            <a:ext cx="2819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4005360"/>
            <a:ext cx="288720" cy="504720"/>
          </a:xfrm>
          <a:custGeom>
            <a:avLst/>
            <a:gdLst>
              <a:gd name="textAreaLeft" fmla="*/ 0 w 288720"/>
              <a:gd name="textAreaRight" fmla="*/ 104040 w 2887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458136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create some meaningful names for these entities and show the relationships to complete the Entity Relationship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685800"/>
            <a:ext cx="2952720" cy="129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933720"/>
            <a:ext cx="22096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5105520"/>
            <a:ext cx="2754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133720"/>
            <a:ext cx="2819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114300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 now becomes the primary key for the company entity. However we need to leave the attribute Company_No in the Order entity to provide the link bac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1700280"/>
            <a:ext cx="14400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1700280"/>
            <a:ext cx="194472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40360" y="4076640"/>
            <a:ext cx="187308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wiches Or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4005360"/>
            <a:ext cx="17272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wi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234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708360" y="2133360"/>
            <a:ext cx="287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2349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03640" y="2923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458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708360" y="4365360"/>
            <a:ext cx="432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08360" y="4581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643280" y="3715920"/>
            <a:ext cx="3812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3716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08000" y="3333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-normalise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125360"/>
            <a:ext cx="2879640" cy="53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170028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lace into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rmal Form, those attributes which could hold more than 1 value must be separated from the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557360"/>
            <a:ext cx="2519280" cy="28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4869000"/>
            <a:ext cx="331164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700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identify an attribute which can be used as a unique identifier –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s in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95280"/>
            <a:ext cx="251964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114800"/>
            <a:ext cx="331128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170028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s are made up of items so to create the link insert a copy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ext to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295280"/>
            <a:ext cx="25196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038480"/>
            <a:ext cx="33116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407664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378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bination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s form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522936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 repeating groups and all attributes depend on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447920"/>
            <a:ext cx="25196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4114800"/>
            <a:ext cx="3311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2100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413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NF is only concerned with attributes containing more than 1 key – therefore the Order attributes are already in 2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716280"/>
            <a:ext cx="3095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at each non key attribute requires all parts of the key to uniquely identif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those attributes which do not require all parts of the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22320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114800"/>
            <a:ext cx="3311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4221000"/>
            <a:ext cx="289080" cy="50508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4941720"/>
            <a:ext cx="123336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952880"/>
            <a:ext cx="410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c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e only dependent on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dwich_cod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not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32000" y="5229000"/>
            <a:ext cx="2808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ing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19700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809880"/>
            <a:ext cx="3311280" cy="103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3860640"/>
            <a:ext cx="288720" cy="505080"/>
          </a:xfrm>
          <a:custGeom>
            <a:avLst/>
            <a:gdLst>
              <a:gd name="textAreaLeft" fmla="*/ 0 w 288720"/>
              <a:gd name="textAreaRight" fmla="*/ 104040 w 28872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00640"/>
            <a:ext cx="2751120" cy="72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530064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Primary key for these attributes by copying the key from the attribute set this new group was form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ormal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066680"/>
            <a:ext cx="2952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of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stomer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ny_Add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_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657600"/>
            <a:ext cx="3311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der_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3886200"/>
            <a:ext cx="289080" cy="504720"/>
          </a:xfrm>
          <a:custGeom>
            <a:avLst/>
            <a:gdLst>
              <a:gd name="textAreaLeft" fmla="*/ 0 w 289080"/>
              <a:gd name="textAreaRight" fmla="*/ 104400 w 2890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029200"/>
            <a:ext cx="2754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dwich_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wich_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17524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Key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0:37:39Z</dcterms:created>
  <dc:creator>Standards Unit</dc:creator>
  <dc:description/>
  <dc:language>en-US</dc:language>
  <cp:lastModifiedBy>brendan.coulson</cp:lastModifiedBy>
  <dcterms:modified xsi:type="dcterms:W3CDTF">2009-04-07T09:27:36Z</dcterms:modified>
  <cp:revision>57</cp:revision>
  <dc:subject/>
  <dc:title>Normalisation</dc:title>
</cp:coreProperties>
</file>