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comments/comment2.xml" ContentType="application/vnd.openxmlformats-officedocument.presentationml.comments+xml"/>
  <Override PartName="/ppt/comments/comment3.xml" ContentType="application/vnd.openxmlformats-officedocument.presentationml.comments+xml"/>
  <Override PartName="/ppt/comments/comment10.xml" ContentType="application/vnd.openxmlformats-officedocument.presentationml.comments+xml"/>
  <Override PartName="/ppt/comments/comment4.xml" ContentType="application/vnd.openxmlformats-officedocument.presentationml.comments+xml"/>
  <Override PartName="/ppt/comments/comment11.xml" ContentType="application/vnd.openxmlformats-officedocument.presentationml.comments+xml"/>
  <Override PartName="/ppt/comments/comment5.xml" ContentType="application/vnd.openxmlformats-officedocument.presentationml.comments+xml"/>
  <Override PartName="/ppt/comments/comment12.xml" ContentType="application/vnd.openxmlformats-officedocument.presentationml.comments+xml"/>
  <Override PartName="/ppt/comments/comment6.xml" ContentType="application/vnd.openxmlformats-officedocument.presentationml.comments+xml"/>
  <Override PartName="/ppt/comments/comment13.xml" ContentType="application/vnd.openxmlformats-officedocument.presentationml.comments+xml"/>
  <Override PartName="/ppt/comments/comment8.xml" ContentType="application/vnd.openxmlformats-officedocument.presentationml.comments+xml"/>
  <Override PartName="/ppt/comments/comment9.xml" ContentType="application/vnd.openxmlformats-officedocument.presentationml.comments+xml"/>
  <Override PartName="/ppt/comments/comment1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96088" cy="9925050"/>
</p:presentation>
</file>

<file path=ppt/commentAuthors.xml><?xml version="1.0" encoding="utf-8"?>
<p:cmAuthorLst xmlns:p="http://schemas.openxmlformats.org/presentationml/2006/main">
  <p:cmAuthor id="0" name="Mobile" initials="M" lastIdx="1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<Relationship Id="rId18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05-07-15T13:05:15.874000000" idx="8">
    <p:pos x="10" y="10"/>
    <p:text>full stops at end of paras</p:text>
  </p:cm>
</p:cmLst>
</file>

<file path=ppt/comments/comment11.xml><?xml version="1.0" encoding="utf-8"?>
<p:cmLst xmlns:p="http://schemas.openxmlformats.org/presentationml/2006/main">
  <p:cm authorId="0" dt="2005-07-15T13:06:13.857000000" idx="9">
    <p:pos x="10" y="10"/>
    <p:text>close up full stop in first para
end first para and fourth para with full stops</p:text>
  </p:cm>
</p:cmLst>
</file>

<file path=ppt/comments/comment12.xml><?xml version="1.0" encoding="utf-8"?>
<p:cmLst xmlns:p="http://schemas.openxmlformats.org/presentationml/2006/main">
  <p:cm authorId="0" dt="2005-07-15T13:06:36.480000000" idx="10">
    <p:pos x="10" y="10"/>
    <p:text>close up full stop at end of para</p:text>
  </p:cm>
</p:cmLst>
</file>

<file path=ppt/comments/comment13.xml><?xml version="1.0" encoding="utf-8"?>
<p:cmLst xmlns:p="http://schemas.openxmlformats.org/presentationml/2006/main">
  <p:cm authorId="0" dt="2005-07-15T13:07:21.224000000" idx="11">
    <p:pos x="10" y="10"/>
    <p:text>primary key - upper or lower?
full stop at end of second para</p:text>
  </p:cm>
</p:cmLst>
</file>

<file path=ppt/comments/comment14.xml><?xml version="1.0" encoding="utf-8"?>
<p:cmLst xmlns:p="http://schemas.openxmlformats.org/presentationml/2006/main">
  <p:cm authorId="0" dt="2005-07-15T13:07:56.064000000" idx="12">
    <p:pos x="10" y="10"/>
    <p:text>sandwiches ordered box - needs aligning and ordered to be in l/c</p:text>
  </p:cm>
</p:cmLst>
</file>

<file path=ppt/comments/comment2.xml><?xml version="1.0" encoding="utf-8"?>
<p:cmLst xmlns:p="http://schemas.openxmlformats.org/presentationml/2006/main">
  <p:cm authorId="0" dt="2005-07-15T12:59:06.132000000" idx="1">
    <p:pos x="10" y="10"/>
    <p:text>second words in l/c eg. Sandwich description
Price needs to be aligned
in text: 1 value to be changed to 'one'</p:text>
  </p:cm>
</p:cmLst>
</file>

<file path=ppt/comments/comment3.xml><?xml version="1.0" encoding="utf-8"?>
<p:cmLst xmlns:p="http://schemas.openxmlformats.org/presentationml/2006/main">
  <p:cm authorId="0" dt="2005-07-15T13:00:15.051000000" idx="2">
    <p:pos x="10" y="10"/>
    <p:text>change second words as in previous slide and with future slides.
Text: should primary key be in caps?</p:text>
  </p:cm>
</p:cmLst>
</file>

<file path=ppt/comments/comment4.xml><?xml version="1.0" encoding="utf-8"?>
<p:cmLst xmlns:p="http://schemas.openxmlformats.org/presentationml/2006/main">
  <p:cm authorId="0" dt="2005-07-15T13:01:08.228000000" idx="3">
    <p:pos x="10" y="19"/>
    <p:text>insert comma after 'items' in text on right
end with full stop</p:text>
  </p:cm>
</p:cmLst>
</file>

<file path=ppt/comments/comment5.xml><?xml version="1.0" encoding="utf-8"?>
<p:cmLst xmlns:p="http://schemas.openxmlformats.org/presentationml/2006/main">
  <p:cm authorId="0" dt="2005-07-15T13:02:28.644000000" idx="4">
    <p:pos x="10" y="10"/>
    <p:text>full stops at ends of both paras</p:text>
  </p:cm>
</p:cmLst>
</file>

<file path=ppt/comments/comment6.xml><?xml version="1.0" encoding="utf-8"?>
<p:cmLst xmlns:p="http://schemas.openxmlformats.org/presentationml/2006/main">
  <p:cm authorId="0" dt="2005-07-15T13:03:41.418000000" idx="5">
    <p:pos x="10" y="10"/>
    <p:text>address throughout use of number and no. - should be consistent...
Text:
1 key - change to one key
Full stop at end of first para
</p:text>
  </p:cm>
</p:cmLst>
</file>

<file path=ppt/comments/comment8.xml><?xml version="1.0" encoding="utf-8"?>
<p:cmLst xmlns:p="http://schemas.openxmlformats.org/presentationml/2006/main">
  <p:cm authorId="0" dt="2005-07-15T13:04:24.250000000" idx="6">
    <p:pos x="10" y="10"/>
    <p:text>full stop at end of text</p:text>
  </p:cm>
</p:cmLst>
</file>

<file path=ppt/comments/comment9.xml><?xml version="1.0" encoding="utf-8"?>
<p:cmLst xmlns:p="http://schemas.openxmlformats.org/presentationml/2006/main">
  <p:cm authorId="0" dt="2005-07-15T13:04:51.469000000" idx="7">
    <p:pos x="10" y="10"/>
    <p:text>insert full stop at end of sentenc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9697-DEFF-4705-A67E-3DA8F6384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B0C8-DEEE-4239-87E6-569291CC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940E-100C-4894-A7D7-40F17A429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DED2-3F34-47A2-9824-A28B8C8EE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C65A-CA18-4532-AEE4-B1FB6C14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8F0D-6698-4357-B785-29E2A0FD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4940-567D-4B8E-A7E6-97334D39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D20F-89F8-4FAD-9D4B-0450D481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1454-6796-404E-B702-75A7795C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E9AF-F653-4471-913C-BBBDE0A7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6854-A28E-4662-A0C4-81C1245B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4B8F-8C80-4F49-825D-78E78D9D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26E7-B20B-4F1B-83A1-21CBC268D60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comments" Target="../comments/commen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comments" Target="../comments/commen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comments" Target="../comments/comment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comments" Target="../comments/commen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comments" Target="../comments/commen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comments" Target="../comments/comment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comments" Target="../comments/commen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40360" y="0"/>
            <a:ext cx="2592360" cy="6858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35280" y="0"/>
            <a:ext cx="237636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732720" y="0"/>
            <a:ext cx="2411280" cy="6858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35280" y="191628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ormalis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76360" y="335772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a’s Sandwich Sh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149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ocess Expl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1197000"/>
            <a:ext cx="295272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 of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Add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t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tal_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3733920"/>
            <a:ext cx="33112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3886200"/>
            <a:ext cx="288720" cy="504720"/>
          </a:xfrm>
          <a:custGeom>
            <a:avLst/>
            <a:gdLst>
              <a:gd name="textAreaLeft" fmla="*/ 0 w 288720"/>
              <a:gd name="textAreaRight" fmla="*/ 104040 w 28872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5029200"/>
            <a:ext cx="29718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wich_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67280" y="1268280"/>
            <a:ext cx="367344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 k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tributes must depe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on the key and not on each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these non key or transitive dependencies are found the attributes must be removed and a new entity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68360" y="3860640"/>
            <a:ext cx="289080" cy="505080"/>
          </a:xfrm>
          <a:custGeom>
            <a:avLst/>
            <a:gdLst>
              <a:gd name="textAreaLeft" fmla="*/ 0 w 289080"/>
              <a:gd name="textAreaRight" fmla="*/ 104400 w 289080"/>
              <a:gd name="textAreaTop" fmla="*/ 12960 h 505080"/>
              <a:gd name="textAreaBottom" fmla="*/ 49212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9880" y="1371600"/>
            <a:ext cx="468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is no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possible to uniquely identify a company  using the Order_Number . This is dependent only on the Company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48243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is no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possible to uniquely identify the Quantity ordered of a particular item by the Sandwich_code alone.  This is dependent on the combined keys of Order_Number and Sandwich_Co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24360" y="5229360"/>
            <a:ext cx="46083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ssible to identify the Sandwich_Description &amp; Price from the Sandwich_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86200" y="2438280"/>
            <a:ext cx="489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ossible to determine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e of the ord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pr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tails from the Order_Numb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1197000"/>
            <a:ext cx="295272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 of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Add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t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tal_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3733920"/>
            <a:ext cx="33112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5029200"/>
            <a:ext cx="28270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wich_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68360" y="4221000"/>
            <a:ext cx="289080" cy="505080"/>
          </a:xfrm>
          <a:custGeom>
            <a:avLst/>
            <a:gdLst>
              <a:gd name="textAreaLeft" fmla="*/ 0 w 289080"/>
              <a:gd name="textAreaRight" fmla="*/ 104400 w 289080"/>
              <a:gd name="textAreaTop" fmla="*/ 12960 h 505080"/>
              <a:gd name="textAreaBottom" fmla="*/ 49212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114300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create a Primary key for the new table and link it back to the original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125360"/>
            <a:ext cx="2808000" cy="89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ate of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tal_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4149720"/>
            <a:ext cx="22096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5229360"/>
            <a:ext cx="28080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wich_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2276640"/>
            <a:ext cx="28191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Add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t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95640" y="4005360"/>
            <a:ext cx="288720" cy="504720"/>
          </a:xfrm>
          <a:custGeom>
            <a:avLst/>
            <a:gdLst>
              <a:gd name="textAreaLeft" fmla="*/ 0 w 288720"/>
              <a:gd name="textAreaRight" fmla="*/ 104040 w 28872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24360" y="4581360"/>
            <a:ext cx="46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create some meaningful names for these entities and show the relationships to complete the Entity Relationship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685800"/>
            <a:ext cx="2952720" cy="129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ate of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tal_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any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3933720"/>
            <a:ext cx="22096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5105520"/>
            <a:ext cx="27543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wich_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2133720"/>
            <a:ext cx="28191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any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Add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t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91120" y="1143000"/>
            <a:ext cx="3886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o now becomes the primary key for the company entity. However we need to leave the attribute Company_No in the Order entity to provide the link bac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58920" y="1700280"/>
            <a:ext cx="14400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95640" y="1700280"/>
            <a:ext cx="194472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40360" y="4076640"/>
            <a:ext cx="1873080" cy="147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ndwiches Ord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4005360"/>
            <a:ext cx="172728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ndwi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00360" y="23493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708360" y="2133360"/>
            <a:ext cx="2872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08360" y="234936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003640" y="292392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458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708360" y="4365360"/>
            <a:ext cx="432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08360" y="458136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643280" y="3715920"/>
            <a:ext cx="3812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03640" y="371628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908000" y="33336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-normalised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125360"/>
            <a:ext cx="2879640" cy="53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ate of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any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any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_N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any_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st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andwich_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tal_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40360" y="1700280"/>
            <a:ext cx="36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lace into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rmal Form, those attributes which could hold more than 1 value must be separated from the 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1557360"/>
            <a:ext cx="2519280" cy="28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ate of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any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Add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st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tal_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76360" y="4869000"/>
            <a:ext cx="3311640" cy="162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wich_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92720" y="170028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identify an attribute which can be used as a unique identifier –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imary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s in 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95280"/>
            <a:ext cx="251964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 of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Add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t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tal_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4114800"/>
            <a:ext cx="331128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wich_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19640" y="170028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ders are made up of items so to create the link insert a copy of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next to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1295280"/>
            <a:ext cx="25196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 of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Add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t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tal_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4038480"/>
            <a:ext cx="331164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wich_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92360" y="4076640"/>
            <a:ext cx="289080" cy="504720"/>
          </a:xfrm>
          <a:custGeom>
            <a:avLst/>
            <a:gdLst>
              <a:gd name="textAreaLeft" fmla="*/ 0 w 289080"/>
              <a:gd name="textAreaRight" fmla="*/ 104400 w 2890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48360" y="378936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ombination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eys form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s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48360" y="522936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no repeating groups and all attributes depend on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2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1447920"/>
            <a:ext cx="25196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 of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Add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t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tal_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47920" y="4114800"/>
            <a:ext cx="33112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wich_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21000"/>
            <a:ext cx="289080" cy="505080"/>
          </a:xfrm>
          <a:custGeom>
            <a:avLst/>
            <a:gdLst>
              <a:gd name="textAreaLeft" fmla="*/ 0 w 289080"/>
              <a:gd name="textAreaRight" fmla="*/ 104400 w 289080"/>
              <a:gd name="textAreaTop" fmla="*/ 12960 h 505080"/>
              <a:gd name="textAreaBottom" fmla="*/ 49212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141300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NF is only concerned with attributes containing more than 1 key – therefore the Order attributes are already in 2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716280"/>
            <a:ext cx="309564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at each non key attribute requires all parts of the key to uniquely identify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those attributes which do not require all parts of the k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2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223200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 of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Add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t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tal_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4114800"/>
            <a:ext cx="33112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wich_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11280" y="4221000"/>
            <a:ext cx="289080" cy="505080"/>
          </a:xfrm>
          <a:custGeom>
            <a:avLst/>
            <a:gdLst>
              <a:gd name="textAreaLeft" fmla="*/ 0 w 289080"/>
              <a:gd name="textAreaRight" fmla="*/ 104400 w 289080"/>
              <a:gd name="textAreaTop" fmla="*/ 12960 h 505080"/>
              <a:gd name="textAreaBottom" fmla="*/ 49212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87640" y="4941720"/>
            <a:ext cx="123336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952880"/>
            <a:ext cx="410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andwich_Descripti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ic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re only dependent on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andwich_cod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not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332000" y="5229000"/>
            <a:ext cx="28083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2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1197000"/>
            <a:ext cx="295272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 of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Add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t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tal_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3809880"/>
            <a:ext cx="3311280" cy="103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95640" y="3860640"/>
            <a:ext cx="288720" cy="505080"/>
          </a:xfrm>
          <a:custGeom>
            <a:avLst/>
            <a:gdLst>
              <a:gd name="textAreaLeft" fmla="*/ 0 w 288720"/>
              <a:gd name="textAreaRight" fmla="*/ 104040 w 288720"/>
              <a:gd name="textAreaTop" fmla="*/ 12960 h 505080"/>
              <a:gd name="textAreaBottom" fmla="*/ 49212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5300640"/>
            <a:ext cx="2751120" cy="72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wich_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80000" y="530064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Primary key for these attributes by copying the key from the attribute set this new group was formed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1066680"/>
            <a:ext cx="295272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 of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Add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t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tal_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3657600"/>
            <a:ext cx="33112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3886200"/>
            <a:ext cx="289080" cy="504720"/>
          </a:xfrm>
          <a:custGeom>
            <a:avLst/>
            <a:gdLst>
              <a:gd name="textAreaLeft" fmla="*/ 0 w 289080"/>
              <a:gd name="textAreaRight" fmla="*/ 104400 w 2890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5029200"/>
            <a:ext cx="27543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wich_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38480" y="17524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 Key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20:37:39Z</dcterms:created>
  <dc:creator>Standards Unit</dc:creator>
  <dc:description/>
  <dc:language>en-US</dc:language>
  <cp:lastModifiedBy>brendan.coulson</cp:lastModifiedBy>
  <dcterms:modified xsi:type="dcterms:W3CDTF">2009-04-07T09:27:36Z</dcterms:modified>
  <cp:revision>57</cp:revision>
  <dc:subject/>
  <dc:title>Normalisation</dc:title>
</cp:coreProperties>
</file>