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6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Mobile" initials="M" lastIdx="1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5-07-15T13:05:15.874000000" idx="8">
    <p:pos x="10" y="10"/>
    <p:text>full stops at end of paras</p:text>
  </p:cm>
</p:cmLst>
</file>

<file path=ppt/comments/comment11.xml><?xml version="1.0" encoding="utf-8"?>
<p:cmLst xmlns:p="http://schemas.openxmlformats.org/presentationml/2006/main">
  <p:cm authorId="0" dt="2005-07-15T13:06:13.857000000" idx="9">
    <p:pos x="10" y="10"/>
    <p:text>close up full stop in first para
end first para and fourth para with full stops</p:text>
  </p:cm>
</p:cmLst>
</file>

<file path=ppt/comments/comment12.xml><?xml version="1.0" encoding="utf-8"?>
<p:cmLst xmlns:p="http://schemas.openxmlformats.org/presentationml/2006/main">
  <p:cm authorId="0" dt="2005-07-15T13:06:36.480000000" idx="10">
    <p:pos x="10" y="10"/>
    <p:text>close up full stop at end of para</p:text>
  </p:cm>
</p:cmLst>
</file>

<file path=ppt/comments/comment13.xml><?xml version="1.0" encoding="utf-8"?>
<p:cmLst xmlns:p="http://schemas.openxmlformats.org/presentationml/2006/main">
  <p:cm authorId="0" dt="2005-07-15T13:07:21.224000000" idx="11">
    <p:pos x="10" y="10"/>
    <p:text>primary key - upper or lower?
full stop at end of second para</p:text>
  </p:cm>
</p:cmLst>
</file>

<file path=ppt/comments/comment14.xml><?xml version="1.0" encoding="utf-8"?>
<p:cmLst xmlns:p="http://schemas.openxmlformats.org/presentationml/2006/main">
  <p:cm authorId="0" dt="2005-07-15T13:07:56.064000000" idx="12">
    <p:pos x="10" y="10"/>
    <p:text>sandwiches ordered box - needs aligning and ordered to be in l/c</p:text>
  </p:cm>
</p:cmLst>
</file>

<file path=ppt/comments/comment2.xml><?xml version="1.0" encoding="utf-8"?>
<p:cmLst xmlns:p="http://schemas.openxmlformats.org/presentationml/2006/main">
  <p:cm authorId="0" dt="2005-07-15T12:59:06.132000000" idx="1">
    <p:pos x="10" y="10"/>
    <p:text>second words in l/c eg. Sandwich description
Price needs to be aligned
in text: 1 value to be changed to 'one'</p:text>
  </p:cm>
</p:cmLst>
</file>

<file path=ppt/comments/comment3.xml><?xml version="1.0" encoding="utf-8"?>
<p:cmLst xmlns:p="http://schemas.openxmlformats.org/presentationml/2006/main">
  <p:cm authorId="0" dt="2005-07-15T13:00:15.051000000" idx="2">
    <p:pos x="10" y="10"/>
    <p:text>change second words as in previous slide and with future slides.
Text: should primary key be in caps?</p:text>
  </p:cm>
</p:cmLst>
</file>

<file path=ppt/comments/comment4.xml><?xml version="1.0" encoding="utf-8"?>
<p:cmLst xmlns:p="http://schemas.openxmlformats.org/presentationml/2006/main">
  <p:cm authorId="0" dt="2005-07-15T13:01:08.228000000" idx="3">
    <p:pos x="10" y="19"/>
    <p:text>insert comma after 'items' in text on right
end with full stop</p:text>
  </p:cm>
</p:cmLst>
</file>

<file path=ppt/comments/comment5.xml><?xml version="1.0" encoding="utf-8"?>
<p:cmLst xmlns:p="http://schemas.openxmlformats.org/presentationml/2006/main">
  <p:cm authorId="0" dt="2005-07-15T13:02:28.644000000" idx="4">
    <p:pos x="10" y="10"/>
    <p:text>full stops at ends of both paras</p:text>
  </p:cm>
</p:cmLst>
</file>

<file path=ppt/comments/comment6.xml><?xml version="1.0" encoding="utf-8"?>
<p:cmLst xmlns:p="http://schemas.openxmlformats.org/presentationml/2006/main">
  <p:cm authorId="0" dt="2005-07-15T13:03:41.418000000" idx="5">
    <p:pos x="10" y="10"/>
    <p:text>address throughout use of number and no. - should be consistent...
Text:
1 key - change to one key
Full stop at end of first para
</p:text>
  </p:cm>
</p:cmLst>
</file>

<file path=ppt/comments/comment8.xml><?xml version="1.0" encoding="utf-8"?>
<p:cmLst xmlns:p="http://schemas.openxmlformats.org/presentationml/2006/main">
  <p:cm authorId="0" dt="2005-07-15T13:04:24.250000000" idx="6">
    <p:pos x="10" y="10"/>
    <p:text>full stop at end of text</p:text>
  </p:cm>
</p:cmLst>
</file>

<file path=ppt/comments/comment9.xml><?xml version="1.0" encoding="utf-8"?>
<p:cmLst xmlns:p="http://schemas.openxmlformats.org/presentationml/2006/main">
  <p:cm authorId="0" dt="2005-07-15T13:04:51.469000000" idx="7">
    <p:pos x="10" y="10"/>
    <p:text>insert full stop at end of sentenc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313-8EB2-4095-8939-4B363578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51E6-4FD4-411C-BE46-EB67A8BB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F92-1284-4323-A5AE-6D6D2D2E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DFF-7356-4075-8B76-4462F34A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C466-A1CB-4CF4-9B14-C289547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B99-0982-43D2-AACA-DC21F874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DFB-03FA-4B4B-B97D-EBEED092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381-CB86-4243-9E04-D5A8923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EDD-82D2-487B-AE8E-3826BE5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3F3-F75F-4A27-A7E9-8A50483D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253-817F-4ACB-AAA0-67275F45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7C7-B66E-418C-BB7B-7DCA7E9E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D25D-3774-443F-8D86-9D90DC4E91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0"/>
            <a:ext cx="2592360" cy="685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0"/>
            <a:ext cx="237636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0"/>
            <a:ext cx="241128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91628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rmal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3577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a’s Sandwich 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4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 Expl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73392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886200"/>
            <a:ext cx="288720" cy="50472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5029200"/>
            <a:ext cx="2971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1268280"/>
            <a:ext cx="3673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s must depe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the key and not on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ese non key or transitive dependencies are found the attributes must be removed and a new entity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386064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371600"/>
            <a:ext cx="468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ossible to uniquely identify a company  using the Order_Number . This is dependent only on the Company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4824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ossible to uniquely identify the Quantity ordered of a particular item by the Sandwich_code alone.  This is dependent on the combined keys of Order_Number and Sandwich_Co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5229360"/>
            <a:ext cx="460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sible to identify the Sandwich_Description &amp; Price from the Sandwich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438280"/>
            <a:ext cx="489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ssible to determine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of the 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tails from the Order_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73392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029200"/>
            <a:ext cx="2827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143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reate a Primary key for the new table and link it back to the original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125360"/>
            <a:ext cx="2808000" cy="89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14972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229360"/>
            <a:ext cx="2808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276640"/>
            <a:ext cx="2819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005360"/>
            <a:ext cx="288720" cy="50472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58136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reate some meaningful names for these entities and show the relationships to complete the Entity Relationship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685800"/>
            <a:ext cx="2952720" cy="129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93372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105520"/>
            <a:ext cx="275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133720"/>
            <a:ext cx="2819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114300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 now becomes the primary key for the company entity. However we need to leave the attribute Company_No in the Order entity to provide the link bac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700280"/>
            <a:ext cx="1440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1700280"/>
            <a:ext cx="1944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4076640"/>
            <a:ext cx="187308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wiches 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4005360"/>
            <a:ext cx="17272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w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08360" y="21333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2349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03640" y="2923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08360" y="436536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4581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643280" y="3715920"/>
            <a:ext cx="381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371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8000" y="3333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-normalise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125360"/>
            <a:ext cx="287964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170028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lace int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mal Form, those attributes which could hold more than 1 value must be separated from the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557360"/>
            <a:ext cx="2519280" cy="28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4869000"/>
            <a:ext cx="331164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700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dentify an attribute which can be used as a unique identifier –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s in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95280"/>
            <a:ext cx="2519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114800"/>
            <a:ext cx="331128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1700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s are made up of items so to create the link insert a copy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xt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295280"/>
            <a:ext cx="25196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038480"/>
            <a:ext cx="3311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407664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378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bina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s form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5229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 repeating groups and all attributes depend 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447920"/>
            <a:ext cx="25196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114800"/>
            <a:ext cx="331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413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F is only concerned with attributes containing more than 1 key – therefore the Order attributes are already in 2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16280"/>
            <a:ext cx="309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each non key attribute requires all parts of the key to uniquely identif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those attributes which do not require all parts of th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2232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114800"/>
            <a:ext cx="331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4941720"/>
            <a:ext cx="123336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952880"/>
            <a:ext cx="410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c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 only dependent on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dwich_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not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5229000"/>
            <a:ext cx="2808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809880"/>
            <a:ext cx="3311280" cy="103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3860640"/>
            <a:ext cx="288720" cy="50508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00640"/>
            <a:ext cx="27511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5300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rimary key for these attributes by copying the key from the attribute set this new group was form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06668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65760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8620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029200"/>
            <a:ext cx="275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1752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Key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0:37:39Z</dcterms:created>
  <dc:creator>Standards Unit</dc:creator>
  <dc:description/>
  <dc:language>en-US</dc:language>
  <cp:lastModifiedBy>brendan.coulson</cp:lastModifiedBy>
  <dcterms:modified xsi:type="dcterms:W3CDTF">2009-04-07T09:27:36Z</dcterms:modified>
  <cp:revision>57</cp:revision>
  <dc:subject/>
  <dc:title>Normalisation</dc:title>
</cp:coreProperties>
</file>