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7E66-3E9E-4BDC-8008-48B14906B7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en.wikipedia.org/wiki/Digital_subscriber_line" TargetMode="External"/><Relationship Id="rId2" Type="http://schemas.openxmlformats.org/officeDocument/2006/relationships/hyperlink" Target="http://en.wikipedia.org/wiki/Copper" TargetMode="External"/><Relationship Id="rId3" Type="http://schemas.openxmlformats.org/officeDocument/2006/relationships/hyperlink" Target="http://en.wikipedia.org/wiki/Telephone_line" TargetMode="External"/><Relationship Id="rId4" Type="http://schemas.openxmlformats.org/officeDocument/2006/relationships/hyperlink" Target="http://en.wikipedia.org/wiki/Voiceband" TargetMode="External"/><Relationship Id="rId5" Type="http://schemas.openxmlformats.org/officeDocument/2006/relationships/hyperlink" Target="http://en.wikipedia.org/wiki/Modem" TargetMode="External"/><Relationship Id="rId6" Type="http://schemas.openxmlformats.org/officeDocument/2006/relationships/slide" Target="../slides/slide18.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CE03-8C23-4A7C-9D36-FDE447F2D29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thernet switch automatically divides the network into multiple segments, acts as a high-speed, selective bridge between the segments, and supports simultaneous connections of multiple pairs of computers which don't compete with other pairs of computers for network bandwidth.  It accomplishes this by maintaining a table of each destination address and its port.  When the switch receives a packet, it reads the destination address from the header information in the packet, establishes a temporary connection between the source and destination ports, sends the packet on its way, and then terminates the connec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hub receives a packet (chunk) of data (a frame in Ethernet lingo) at one of its ports from a PC on the network, it transmits (repeats) the packet to all of its ports and, thus, to all of the other PCs on the network.  If two or more PCs on the network try to send packets at the same time a collision is said to occur.  When that happens all of the PCs have to go though a routine to resolve the conflict.  The process is prescribed in the Ethernet Carrier Sense Multiple Access with Collision Detection (CSMA/CD) protocol.  Each Ethernet Adapter has both a receiver and a transmitter.  If the adapters didn't have to listen with their receivers for collisions they would be able to send data at the same time they are receiving it (full duplex).   Because they have to operate at half duplex (data flows one way at a time) and a hub retransmits data from one PC to all of the PCs, the maximum bandwidth is 100 Mhz and that bandwidth is shared by all of the PC's connected to the hub. The result is when a person using a computer on a hub downloads a large file or group of files from another computer the network becomes congested.  In a 10 Mhz 10Base-T network the affect is to slow the network to nearly a crawl.  The affect on a small, 100 Mbps (million bits per scond), 5-port network is not as significa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erforming these two jobs, a router joins the two networks, passing information from one to the other and, in some cases, performing translations of various protocols between the two networks. It also protects the networks from one another, preventing the traffic on one from unnecessarily spilling over to the other. This process is known as routing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ridge directs frames according to hardware assigned MAC addresses while a router makes its decisions according to assigned IP Address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ymmetric Digital Subscriber Line</a:t>
            </a:r>
            <a:r>
              <a:rPr b="0" lang="en-GB" sz="1200" spc="-1" strike="noStrike">
                <a:solidFill>
                  <a:srgbClr val="000000"/>
                </a:solidFill>
                <a:latin typeface="Arial"/>
              </a:rPr>
              <a:t> (</a:t>
            </a:r>
            <a:r>
              <a:rPr b="1" lang="en-GB" sz="1200" spc="-1" strike="noStrike">
                <a:solidFill>
                  <a:srgbClr val="000000"/>
                </a:solidFill>
                <a:latin typeface="Arial"/>
              </a:rPr>
              <a:t>ADSL</a:t>
            </a:r>
            <a:r>
              <a:rPr b="0" lang="en-GB" sz="1200" spc="-1" strike="noStrike">
                <a:solidFill>
                  <a:srgbClr val="000000"/>
                </a:solidFill>
                <a:latin typeface="Arial"/>
              </a:rPr>
              <a:t>) is a form of </a:t>
            </a:r>
            <a:r>
              <a:rPr b="0" lang="en-GB" sz="1200" spc="-1" strike="noStrike" u="sng">
                <a:solidFill>
                  <a:srgbClr val="009999"/>
                </a:solidFill>
                <a:uFillTx/>
                <a:latin typeface="Arial"/>
                <a:hlinkClick r:id="rId1"/>
              </a:rPr>
              <a:t>DSL</a:t>
            </a:r>
            <a:r>
              <a:rPr b="0" lang="en-GB" sz="1200" spc="-1" strike="noStrike">
                <a:solidFill>
                  <a:srgbClr val="000000"/>
                </a:solidFill>
                <a:latin typeface="Arial"/>
              </a:rPr>
              <a:t>, a data communications technology that enables faster data transmission over </a:t>
            </a:r>
            <a:r>
              <a:rPr b="0" lang="en-GB" sz="1200" spc="-1" strike="noStrike" u="sng">
                <a:solidFill>
                  <a:srgbClr val="009999"/>
                </a:solidFill>
                <a:uFillTx/>
                <a:latin typeface="Arial"/>
                <a:hlinkClick r:id="rId2"/>
              </a:rPr>
              <a:t>copper</a:t>
            </a:r>
            <a:r>
              <a:rPr b="0" lang="en-GB" sz="1200" spc="-1" strike="noStrike">
                <a:solidFill>
                  <a:srgbClr val="000000"/>
                </a:solidFill>
                <a:latin typeface="Arial"/>
              </a:rPr>
              <a:t> </a:t>
            </a:r>
            <a:r>
              <a:rPr b="0" lang="en-GB" sz="1200" spc="-1" strike="noStrike" u="sng">
                <a:solidFill>
                  <a:srgbClr val="009999"/>
                </a:solidFill>
                <a:uFillTx/>
                <a:latin typeface="Arial"/>
                <a:hlinkClick r:id="rId3"/>
              </a:rPr>
              <a:t>telephone lines</a:t>
            </a:r>
            <a:r>
              <a:rPr b="0" lang="en-GB" sz="1200" spc="-1" strike="noStrike">
                <a:solidFill>
                  <a:srgbClr val="000000"/>
                </a:solidFill>
                <a:latin typeface="Arial"/>
              </a:rPr>
              <a:t> than a conventional </a:t>
            </a:r>
            <a:r>
              <a:rPr b="0" lang="en-GB" sz="1200" spc="-1" strike="noStrike" u="sng">
                <a:solidFill>
                  <a:srgbClr val="009999"/>
                </a:solidFill>
                <a:uFillTx/>
                <a:latin typeface="Arial"/>
                <a:hlinkClick r:id="rId4"/>
              </a:rPr>
              <a:t>voiceband</a:t>
            </a:r>
            <a:r>
              <a:rPr b="0" lang="en-GB" sz="1200" spc="-1" strike="noStrike">
                <a:solidFill>
                  <a:srgbClr val="000000"/>
                </a:solidFill>
                <a:latin typeface="Arial"/>
              </a:rPr>
              <a:t> </a:t>
            </a:r>
            <a:r>
              <a:rPr b="0" lang="en-GB" sz="1200" spc="-1" strike="noStrike" u="sng">
                <a:solidFill>
                  <a:srgbClr val="009999"/>
                </a:solidFill>
                <a:uFillTx/>
                <a:latin typeface="Arial"/>
                <a:hlinkClick r:id="rId5"/>
              </a:rPr>
              <a:t>modem</a:t>
            </a:r>
            <a:r>
              <a:rPr b="0" lang="en-GB" sz="1200" spc="-1" strike="noStrike">
                <a:solidFill>
                  <a:srgbClr val="000000"/>
                </a:solidFill>
                <a:latin typeface="Arial"/>
              </a:rPr>
              <a:t> can provide. It does this by utilizing frequencies that are not used by a voice telephone call. A splitter - or microfilter - allows a single telephone connection to be used for both ADSL service and voice calls at the same time. (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SL</a:t>
            </a:r>
            <a:r>
              <a:rPr b="0" lang="en-GB" sz="1200" spc="-1" strike="noStrike">
                <a:solidFill>
                  <a:srgbClr val="000000"/>
                </a:solidFill>
                <a:latin typeface="Arial"/>
              </a:rPr>
              <a:t> or </a:t>
            </a:r>
            <a:r>
              <a:rPr b="1" lang="en-GB" sz="1200" spc="-1" strike="noStrike">
                <a:solidFill>
                  <a:srgbClr val="000000"/>
                </a:solidFill>
                <a:latin typeface="Arial"/>
              </a:rPr>
              <a:t>xDSL</a:t>
            </a:r>
            <a:r>
              <a:rPr b="0" lang="en-GB" sz="1200" spc="-1" strike="noStrike">
                <a:solidFill>
                  <a:srgbClr val="000000"/>
                </a:solidFill>
                <a:latin typeface="Arial"/>
              </a:rPr>
              <a:t>, is a family of technologies that provide digital data transmission over the wires of a local telephone network. DSL originally stood for </a:t>
            </a:r>
            <a:r>
              <a:rPr b="1" lang="en-GB" sz="1200" spc="-1" strike="noStrike">
                <a:solidFill>
                  <a:srgbClr val="000000"/>
                </a:solidFill>
                <a:latin typeface="Arial"/>
              </a:rPr>
              <a:t>digital subscriber loop</a:t>
            </a:r>
            <a:r>
              <a:rPr b="0" lang="en-GB" sz="1200" spc="-1" strike="noStrike">
                <a:solidFill>
                  <a:srgbClr val="000000"/>
                </a:solidFill>
                <a:latin typeface="Arial"/>
              </a:rPr>
              <a:t>, although in recent years, the term </a:t>
            </a:r>
            <a:r>
              <a:rPr b="1" lang="en-GB" sz="1200" spc="-1" strike="noStrike">
                <a:solidFill>
                  <a:srgbClr val="000000"/>
                </a:solidFill>
                <a:latin typeface="Arial"/>
              </a:rPr>
              <a:t>digital subscriber line</a:t>
            </a:r>
            <a:r>
              <a:rPr b="0" lang="en-GB" sz="1200" spc="-1" strike="noStrike">
                <a:solidFill>
                  <a:srgbClr val="000000"/>
                </a:solidFill>
                <a:latin typeface="Arial"/>
              </a:rPr>
              <a:t> has been widely adopted as a more marketing-friendly term for ADSL, which is the most popular version of consumer-ready DSL. DSL uses high frequency, while regular telephone uses low frequency on the same telephone line. (NT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1" lang="en-GB" sz="1200" spc="-1" strike="noStrike">
                <a:solidFill>
                  <a:srgbClr val="000000"/>
                </a:solidFill>
                <a:latin typeface="Arial"/>
              </a:rPr>
              <a:t>crossover cable</a:t>
            </a:r>
            <a:r>
              <a:rPr b="0" lang="en-GB" sz="1200" spc="-1" strike="noStrike">
                <a:solidFill>
                  <a:srgbClr val="000000"/>
                </a:solidFill>
                <a:latin typeface="Arial"/>
              </a:rPr>
              <a:t> is a cable that maps all output signals on one electrical connector to the input signals on the other connector, allowing two electronic devices to perform full-duplex communication. Most commonly, the term refers to the Ethernet crossover cable, but other cables follow the same principle. It also allows devices to communicate without a switch, hub, or router. Cross-Over cables are used to connect two computers directly through NICs without the use of a Hub or Switch or to uplink two or more hubs, switches or routers. The Pins of the RJ-45 Connectors at both ends of a cross-over cable are connected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n 1 ----------- Pin 3 Pin 2 ----------- Pin 6 Only two pairs of wires in the eight-pin RJ-45 connector are used to carry Ethernet signals. Both 10BASE-T and 100BASE-T use the same pins, a crossover cable made for one will also work with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E221F-B480-4829-9400-F145D64B5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556E6-B901-4126-B31E-30E0A8F3B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B4CCF-17BC-4C47-A07B-AA2E9839EE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3F2FB-E604-4B64-A156-B3AC7D5BC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F9203-2A91-42B0-8FE1-686FC728E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A22F7-7DEE-419F-A3BD-B7027D82B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82B89-20CA-480F-96EB-C2E82DEE5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C53F2-EC32-4C9D-B58C-2EBF6C70C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2D566-4B4F-441B-8FDC-28636455F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9DC21-33C7-4C2B-B400-E57A55D4F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344A0-78EE-4EB7-A7BF-786A98DBA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0A35C-7BAB-4D85-85A9-FC26D5591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54B69-C60A-42CB-BE59-A5B317430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EE3F4-6D57-4F36-945C-2FFB91C47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2CFDC-6825-4698-A1A6-4A160CA5B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C553C-98A9-4440-94E2-D5933A4239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83736-F29B-4A65-A0CA-EFB8891D2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D138A-6E53-43A0-B8B3-D5046868F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66D69-2514-4CA7-9443-80CD82D79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C5C4D-1A09-40B1-84D0-DCBDE8EDC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78BBD-C22D-4A9E-8B53-7A05AD698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7C4EC-1234-40F9-B831-1DC316625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1C9DB-B3BA-4442-9219-A8876185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5B357-432A-4441-B18D-F198142CE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0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838D-A6E8-446B-8025-13B144C8B35A}"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0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14AC-AAA9-4378-B5D9-B714962754B9}"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Image:Ethernet_switch_Atlantis_A02-F5P_5_ports_backend.jp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d/d9/4_port_netgear_ethernet_hub.jpg"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0"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E089-A82B-4C4F-B5BA-9D9D67E9ABB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Network Concepts</a:t>
            </a:r>
            <a:br>
              <a:rPr sz="4800"/>
            </a:br>
            <a:r>
              <a:rPr b="0" lang="en-GB" sz="4800" spc="-1" strike="noStrike">
                <a:solidFill>
                  <a:srgbClr val="ffffff"/>
                </a:solidFill>
                <a:latin typeface="Arial"/>
              </a:rPr>
              <a:t>Devices</a:t>
            </a:r>
            <a:endParaRPr b="0" lang="en-US" sz="4800" spc="-1" strike="noStrike">
              <a:solidFill>
                <a:srgbClr val="ffffff"/>
              </a:solidFill>
              <a:latin typeface="Arial"/>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ntroduction into Network Devices</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F2E1-13B3-4676-95CA-ADC43CDE9E1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02" name="PlaceHolder 2"/>
          <p:cNvSpPr>
            <a:spLocks noGrp="1"/>
          </p:cNvSpPr>
          <p:nvPr>
            <p:ph/>
          </p:nvPr>
        </p:nvSpPr>
        <p:spPr>
          <a:xfrm>
            <a:off x="457200" y="1428480"/>
            <a:ext cx="8229600" cy="514332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variety of different network devices that are available, each of which has a specific role within the network.</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of which are listed below:</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witc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u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oute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atewa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peat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48" dur="500"/>
                                        <p:tgtEl>
                                          <p:spTgt spid="202">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51" dur="500"/>
                                        <p:tgtEl>
                                          <p:spTgt spid="202">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54" dur="500"/>
                                        <p:tgtEl>
                                          <p:spTgt spid="202">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57" dur="500"/>
                                        <p:tgtEl>
                                          <p:spTgt spid="202">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60" dur="500"/>
                                        <p:tgtEl>
                                          <p:spTgt spid="202">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63" dur="500"/>
                                        <p:tgtEl>
                                          <p:spTgt spid="202">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202">
                                            <p:txEl>
                                              <p:pRg st="8" end="8"/>
                                            </p:txEl>
                                          </p:spTgt>
                                        </p:tgtEl>
                                        <p:attrNameLst>
                                          <p:attrName>style.visibility</p:attrName>
                                        </p:attrNameLst>
                                      </p:cBhvr>
                                      <p:to>
                                        <p:strVal val="visible"/>
                                      </p:to>
                                    </p:set>
                                    <p:animEffect filter="blinds(horizontal)" transition="in">
                                      <p:cBhvr additive="repl">
                                        <p:cTn id="66" dur="500"/>
                                        <p:tgtEl>
                                          <p:spTgt spid="2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DF26-5264-407B-B7A6-4DC4BD3F281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itch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network</a:t>
            </a:r>
            <a:r>
              <a:rPr b="1" lang="en-GB" sz="2400" spc="-1" strike="noStrike">
                <a:solidFill>
                  <a:srgbClr val="ffffff"/>
                </a:solidFill>
                <a:latin typeface="Arial"/>
              </a:rPr>
              <a:t> </a:t>
            </a:r>
            <a:r>
              <a:rPr b="0" lang="en-GB" sz="2400" spc="-1" strike="noStrike">
                <a:solidFill>
                  <a:srgbClr val="ffffff"/>
                </a:solidFill>
                <a:latin typeface="Arial"/>
              </a:rPr>
              <a:t>switch is a device that connects network segment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witch is intelligent, it can recognise what cable has been inserted into it and adapt to allow the network to communicate.</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7" name="Picture 7" descr="Back view of Atlantis network switch with Ethernet ports.">
            <a:hlinkClick r:id="rId2"/>
          </p:cNvPr>
          <p:cNvPicPr/>
          <p:nvPr/>
        </p:nvPicPr>
        <p:blipFill>
          <a:blip r:embed="rId3"/>
          <a:stretch/>
        </p:blipFill>
        <p:spPr>
          <a:xfrm>
            <a:off x="3348000" y="4078440"/>
            <a:ext cx="3095640" cy="23032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73" dur="500"/>
                                        <p:tgtEl>
                                          <p:spTgt spid="206">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78" dur="500"/>
                                        <p:tgtEl>
                                          <p:spTgt spid="206">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7"/>
                                        </p:tgtEl>
                                        <p:attrNameLst>
                                          <p:attrName>style.visibility</p:attrName>
                                        </p:attrNameLst>
                                      </p:cBhvr>
                                      <p:to>
                                        <p:strVal val="visible"/>
                                      </p:to>
                                    </p:set>
                                    <p:animEffect filter="blinds(horizontal)" transition="in">
                                      <p:cBhvr additive="repl">
                                        <p:cTn id="8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2D30-4DA8-4B46-A471-99FB071759C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b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a:t>
            </a:r>
            <a:r>
              <a:rPr b="1" lang="en-GB" sz="2800" spc="-1" strike="noStrike">
                <a:solidFill>
                  <a:srgbClr val="ffffff"/>
                </a:solidFill>
                <a:latin typeface="Arial"/>
              </a:rPr>
              <a:t>network hub</a:t>
            </a:r>
            <a:r>
              <a:rPr b="0" lang="en-GB" sz="2800" spc="-1" strike="noStrike">
                <a:solidFill>
                  <a:srgbClr val="ffffff"/>
                </a:solidFill>
                <a:latin typeface="Arial"/>
              </a:rPr>
              <a:t> is a device for connecting multiple devices together, making them act as a single network segment.</a:t>
            </a:r>
            <a:endParaRPr b="0" lang="en-US" sz="2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2" name="Picture 8" descr="Image:4 port netgear ethernet hub.jpg">
            <a:hlinkClick r:id="rId2"/>
          </p:cNvPr>
          <p:cNvPicPr/>
          <p:nvPr/>
        </p:nvPicPr>
        <p:blipFill>
          <a:blip r:embed="rId3"/>
          <a:stretch/>
        </p:blipFill>
        <p:spPr>
          <a:xfrm>
            <a:off x="2484360" y="3357720"/>
            <a:ext cx="4032360" cy="26668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90"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112D-9E37-4A49-BB26-A35A1749D2B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fference between a Hub and a Switch?</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hub receives a packet at one of its ports from a PC on the network, it transmits the packet to all of its ports (broadcast) thus, to all of the other PCs on the network.</a:t>
            </a:r>
            <a:endParaRPr b="0" lang="en-US" sz="2800" spc="-1" strike="noStrike">
              <a:solidFill>
                <a:srgbClr val="ffffff"/>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hub does not use any intelligence to determine the destination of a packet, whereas a switch do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97" dur="500"/>
                                        <p:tgtEl>
                                          <p:spTgt spid="21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2"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C2DC-4B79-4CE8-A355-0C9DB038FEF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s</a:t>
            </a: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roblems could occur as a result of using a hub?</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EE98-FF1F-426A-B6A6-4DA4DF2F4CC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outer</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is a device that forwards and routes data packets along networks.</a:t>
            </a:r>
            <a:endParaRPr b="0" lang="en-US" sz="2800" spc="-1" strike="noStrike">
              <a:solidFill>
                <a:srgbClr val="ffffff"/>
              </a:solidFill>
              <a:latin typeface="Arial"/>
            </a:endParaRPr>
          </a:p>
          <a:p>
            <a:pPr lvl="1" marL="690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router is often included as part of a network switch.</a:t>
            </a:r>
            <a:endParaRPr b="0" lang="en-US" sz="2800" spc="-1" strike="noStrike">
              <a:solidFill>
                <a:srgbClr val="ffffff"/>
              </a:solidFill>
              <a:latin typeface="Arial"/>
            </a:endParaRPr>
          </a:p>
          <a:p>
            <a:pPr lvl="1" marL="6908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router is located where one network meets another.</a:t>
            </a:r>
            <a:endParaRPr b="0" lang="en-US" sz="2800" spc="-1" strike="noStrike">
              <a:solidFill>
                <a:srgbClr val="ffffff"/>
              </a:solidFill>
              <a:latin typeface="Arial"/>
            </a:endParaRPr>
          </a:p>
          <a:p>
            <a:pPr lvl="1" marL="6908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prevents the traffic on one from unnecessarily spilling over to the other. This process is known as rout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09" dur="500"/>
                                        <p:tgtEl>
                                          <p:spTgt spid="224">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4" dur="500"/>
                                        <p:tgtEl>
                                          <p:spTgt spid="22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24">
                                            <p:txEl>
                                              <p:pRg st="5" end="5"/>
                                            </p:txEl>
                                          </p:spTgt>
                                        </p:tgtEl>
                                        <p:attrNameLst>
                                          <p:attrName>style.visibility</p:attrName>
                                        </p:attrNameLst>
                                      </p:cBhvr>
                                      <p:to>
                                        <p:strVal val="visible"/>
                                      </p:to>
                                    </p:set>
                                    <p:animEffect filter="blinds(horizontal)" transition="in">
                                      <p:cBhvr additive="repl">
                                        <p:cTn id="119" dur="500"/>
                                        <p:tgtEl>
                                          <p:spTgt spid="224">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24">
                                            <p:txEl>
                                              <p:pRg st="7" end="7"/>
                                            </p:txEl>
                                          </p:spTgt>
                                        </p:tgtEl>
                                        <p:attrNameLst>
                                          <p:attrName>style.visibility</p:attrName>
                                        </p:attrNameLst>
                                      </p:cBhvr>
                                      <p:to>
                                        <p:strVal val="visible"/>
                                      </p:to>
                                    </p:set>
                                    <p:animEffect filter="blinds(horizontal)" transition="in">
                                      <p:cBhvr additive="repl">
                                        <p:cTn id="124" dur="500"/>
                                        <p:tgtEl>
                                          <p:spTgt spid="2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B0C7-AE07-4438-8A39-F9BCE606B84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dge</a:t>
            </a:r>
            <a:endParaRPr b="0"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a:t>
            </a:r>
            <a:r>
              <a:rPr b="0" i="1" lang="en-GB" sz="2800" spc="-1" strike="noStrike">
                <a:solidFill>
                  <a:srgbClr val="ffffff"/>
                </a:solidFill>
                <a:latin typeface="Arial"/>
              </a:rPr>
              <a:t>bridge </a:t>
            </a:r>
            <a:r>
              <a:rPr b="0" lang="en-GB" sz="2800" spc="-1" strike="noStrike">
                <a:solidFill>
                  <a:srgbClr val="ffffff"/>
                </a:solidFill>
                <a:latin typeface="Arial"/>
              </a:rPr>
              <a:t>is a device that connects two networks so that they act as if they’re one network.</a:t>
            </a:r>
            <a:endParaRPr b="0" lang="en-US" sz="28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key feature of a bridge is to enable a large network to be partition into two smaller, more efficient networks.</a:t>
            </a:r>
            <a:endParaRPr b="0" lang="en-US" sz="28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es work best in networks that are highly segreg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131" dur="500"/>
                                        <p:tgtEl>
                                          <p:spTgt spid="228">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136" dur="500"/>
                                        <p:tgtEl>
                                          <p:spTgt spid="228">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228">
                                            <p:txEl>
                                              <p:pRg st="5" end="5"/>
                                            </p:txEl>
                                          </p:spTgt>
                                        </p:tgtEl>
                                        <p:attrNameLst>
                                          <p:attrName>style.visibility</p:attrName>
                                        </p:attrNameLst>
                                      </p:cBhvr>
                                      <p:to>
                                        <p:strVal val="visible"/>
                                      </p:to>
                                    </p:set>
                                    <p:animEffect filter="blinds(horizontal)" transition="in">
                                      <p:cBhvr additive="repl">
                                        <p:cTn id="141" dur="5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B4229-392A-4EA2-AF15-DF687906D23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atewa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ain job of a gateway is to convert protocols among communications network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gateway can accept a packet formatted for one protocol (e.g. AppleTalk) and convert it to a packet formatted for another protocol (e.g. TCP/IP) before forwarding i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gateway can be implemented in hardware, software or both, but they are usually implemented by software installed within a rou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48" dur="500"/>
                                        <p:tgtEl>
                                          <p:spTgt spid="232">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153" dur="500"/>
                                        <p:tgtEl>
                                          <p:spTgt spid="232">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32">
                                            <p:txEl>
                                              <p:pRg st="5" end="5"/>
                                            </p:txEl>
                                          </p:spTgt>
                                        </p:tgtEl>
                                        <p:attrNameLst>
                                          <p:attrName>style.visibility</p:attrName>
                                        </p:attrNameLst>
                                      </p:cBhvr>
                                      <p:to>
                                        <p:strVal val="visible"/>
                                      </p:to>
                                    </p:set>
                                    <p:animEffect filter="blinds(horizontal)" transition="in">
                                      <p:cBhvr additive="repl">
                                        <p:cTn id="158" dur="500"/>
                                        <p:tgtEl>
                                          <p:spTgt spid="2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6A443-A239-4130-BEEA-3A9EAA57DE0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s</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ing the internet look into the various other available network devices/terms, including multiplexers, ADSL, Analogue and digital frequen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638B-DA87-45A7-A528-781F899D588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clusion</a:t>
            </a: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ed knowledge about network dev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what network devices are required to setup a net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eate a bespoke network diagram in Vis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D871-DBDA-4589-95B9-268B2FE393D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ims</a:t>
            </a:r>
            <a:endParaRPr b="0" lang="en-US" sz="4400" spc="-1" strike="noStrike">
              <a:solidFill>
                <a:srgbClr val="ffffff"/>
              </a:solidFill>
              <a:latin typeface="Arial"/>
            </a:endParaRPr>
          </a:p>
        </p:txBody>
      </p:sp>
      <p:sp>
        <p:nvSpPr>
          <p:cNvPr id="176" name="PlaceHolder 2"/>
          <p:cNvSpPr>
            <a:spLocks noGrp="1"/>
          </p:cNvSpPr>
          <p:nvPr>
            <p:ph/>
          </p:nvPr>
        </p:nvSpPr>
        <p:spPr>
          <a:xfrm>
            <a:off x="457200" y="1213920"/>
            <a:ext cx="8229600" cy="4916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 a knowledge about network dev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what network devices are required to create a basic net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raw a bespoke network drawing using Vis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F4B2-C9FE-4E2D-AAB7-AF962FBC624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etwork Devices</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etup a network a variety of devices are requir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twork devices differ according to what network you intend to setu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network segment is a portion of a computer network where every device communicates using the same physical lay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7" dur="500"/>
                                        <p:tgtEl>
                                          <p:spTgt spid="1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12" dur="500"/>
                                        <p:tgtEl>
                                          <p:spTgt spid="18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17"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99D0-463D-4ACB-AC72-70363E70276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mple network can be created between two computers (peer to pe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create this connection each computer must have an NIC network interface card.</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Network card, Network Adapter, LAN Adapter or NIC (network interface card) is a piece of computer hardware designed to allow computers to communicate over a computer network.</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24" dur="500"/>
                                        <p:tgtEl>
                                          <p:spTgt spid="18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2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86"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7" name="Picture 6" descr="net_Network%20Interface%20Card%20with%20RJ45%20connector"/>
          <p:cNvPicPr/>
          <p:nvPr/>
        </p:nvPicPr>
        <p:blipFill>
          <a:blip r:embed="rId1"/>
          <a:stretch/>
        </p:blipFill>
        <p:spPr>
          <a:xfrm>
            <a:off x="1763640" y="1484280"/>
            <a:ext cx="5759640" cy="4319640"/>
          </a:xfrm>
          <a:prstGeom prst="rect">
            <a:avLst/>
          </a:prstGeom>
          <a:ln w="0">
            <a:noFill/>
          </a:ln>
        </p:spPr>
      </p:pic>
      <p:sp>
        <p:nvSpPr>
          <p:cNvPr id="188" name="Rectangle 3"/>
          <p:cNvSpPr/>
          <p:nvPr/>
        </p:nvSpPr>
        <p:spPr>
          <a:xfrm>
            <a:off x="457200" y="407664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 NIC provides physical access to a networking medium and provides a low-level addressing system through the use of MAC (Media Access Control) addresses. </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allows users to connect to each other either by using cables or wirelessl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36" dur="500"/>
                                        <p:tgtEl>
                                          <p:spTgt spid="190">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4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would also need to modify the Ethernet cable by adapting the pins: 1--3, 2--6, 3--1, 6--2, pins 4,5,7 and 8 are unused. (or purchase a Crossover ca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eate a crossover ca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and make notes on the purpose of the crossover cable.</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d out more about MAC Addresse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ing the internet find out what a Modem is used f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844E-620E-4724-9D91-D88955A8F8F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s</a:t>
            </a:r>
            <a:endParaRPr b="0" lang="en-US" sz="4400" spc="-1" strike="noStrike">
              <a:solidFill>
                <a:srgbClr val="ffffff"/>
              </a:solidFill>
              <a:latin typeface="Arial"/>
            </a:endParaRPr>
          </a:p>
        </p:txBody>
      </p:sp>
      <p:pic>
        <p:nvPicPr>
          <p:cNvPr id="198" name="Picture 6" descr="FIG7-10"/>
          <p:cNvPicPr/>
          <p:nvPr/>
        </p:nvPicPr>
        <p:blipFill>
          <a:blip r:embed="rId1"/>
          <a:stretch/>
        </p:blipFill>
        <p:spPr>
          <a:xfrm>
            <a:off x="1187280" y="1844640"/>
            <a:ext cx="6697800" cy="39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Annelise Arnold</cp:lastModifiedBy>
  <dcterms:modified xsi:type="dcterms:W3CDTF">2009-10-11T17:00:36Z</dcterms:modified>
  <cp:revision>40</cp:revision>
  <dc:subject/>
  <dc:title>Computer Platforms Week 1</dc:title>
</cp:coreProperties>
</file>