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D4A-C4B3-46B2-8C70-451AFD89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91F-FCD0-41CF-AACE-9DB385B6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418-B378-432E-84AD-9C245BA2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B02-6A66-4330-BD66-37366E16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281E-A6D2-42B2-952B-FD8B1B48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740E-A176-4FB9-B949-96AF588D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22E2-D4BB-44F7-B7EC-614281A9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F89B-3643-44E0-A13F-379C947A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05A3-80D0-49D9-8DFF-CA18F4D6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969C-7517-4552-905A-2B54E3C7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BC17-232C-46FC-91AB-3FC4B633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58E-4BFF-4624-8AB5-AA7B2C95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0624-0A1E-4917-8DE9-D8531A0A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05F2-E334-4C7B-87B7-27FF74C6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33A9-B2D2-43D7-82F3-F11CAE84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A9B8-00DA-43DF-B6BF-12B64870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FAE6-4D49-4624-8371-01A4D7F4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99E-76D3-4CFA-861A-79EB1F14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F00-79E1-4E58-935A-908DEC10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333-1D7C-4385-9B7A-6EBA9A55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E4D-EA84-49EF-BF27-A4382035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3AE-ED5D-42B9-9980-FA6E572A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F5B-4A4E-4D77-B1EA-BC95CB83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3D6-17BA-4645-8F24-57622F45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1E60-FCB0-4E0A-BD32-92BB706CE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8937-BBA0-4AE2-BA83-34F7E0452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i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rry out regular backups of critical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multiple connections to the Internet and other network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redund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ad balancing data – more than one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stems and Proced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write down their pass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passwords period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 STRONG pass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per / lower case, use of numbers / symbols, 8 or more characters, not dictionary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 an agreement accepting corporate policy and acknowledging laws such as Data Protection Act and Computer Misuse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ster Recov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thr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fail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Internet conn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ed Intr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ecurity software kept up-to-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walls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ileges updated and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decisions should not compromise the network and vice ver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ng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isa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ssions and control 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up / rest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metr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tting and control of pers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CT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k and key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j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y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ware (non-malici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43:56Z</dcterms:created>
  <dc:creator>daniel.odonoghue</dc:creator>
  <dc:description/>
  <dc:language>en-US</dc:language>
  <cp:lastModifiedBy>daniel.odonoghue</cp:lastModifiedBy>
  <dcterms:modified xsi:type="dcterms:W3CDTF">2010-01-11T13:42:34Z</dcterms:modified>
  <cp:revision>4</cp:revision>
  <dc:subject/>
  <dc:title>Responsibilities</dc:title>
</cp:coreProperties>
</file>