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8CA8-9E20-4115-95D3-CF50D2C0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C9D-5287-4FA1-8D88-93160B05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8FFB-78DC-4BDF-9419-330EC394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6E76-D49D-4394-974A-1016BC67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81C2-19AA-418D-A898-1DA56F8C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8DC0-311C-48B4-807B-C46B2BB8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36BA-4A55-4323-B903-F63A093D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88E0-2D8F-4FFA-8F4B-EC6EB495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6B5F-781F-449C-9BAF-77CE3238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EEB8-0F11-4B90-8C15-E2BF38B5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D76C-3F29-48D5-BB3C-4CD7165C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4B3B-3F89-4076-AEC5-F58F45DB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0D7E-07D0-48D0-9C31-51A53C1E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AB36-80D4-4B1B-8B11-6164390C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3C53-A027-4CE9-9A96-BA0955D0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6673-BE93-4D99-BBA7-4D18BE46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59E1-4324-4294-BD07-4D44AD3D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6E5D-C863-40E4-9DB1-E6E61FAB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81C4-D036-41D6-8855-9ADE6C65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1C80-918A-4F61-B0AB-8B5F45B8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C41F-0D26-4BB2-B52E-F80254A7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2AC6-AFBD-4E43-B3DF-EB4C1E96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88AE-63DA-4C15-8030-B3FA7147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616-C066-4753-9D8C-96F125A9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3E4C-A43E-47C5-8282-C837DDFFB6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6FF4-9E76-4251-80F1-AC208ED904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sponsibili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557360"/>
            <a:ext cx="828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rry out regular backups of critical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ing multiple connections to the Internet and other network lo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ing redund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oad balancing data – more than one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ystems and Procedu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shoul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write down their pass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passwords periodica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a STRONG passw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per / lower case, use of numbers / symbols, 8 or more characters, not dictionary w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 an agreement accepting corporate policy and acknowledging laws such as Data Protection Act and Computer Misuse 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saster Recove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e threa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r fail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s of Internet conn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empted Intru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f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urity Measu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security software kept up-to-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ewalls checked regular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vileges updated and checked regular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siness decisions should not compromise the network and vice ver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uring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horisation techn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missions and control l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ckup / resto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cry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metr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tting and control of personn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CT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ck and key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lwa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j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yw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ware (non-malicio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is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2:43:56Z</dcterms:created>
  <dc:creator>daniel.odonoghue</dc:creator>
  <dc:description/>
  <dc:language>en-US</dc:language>
  <cp:lastModifiedBy>daniel.odonoghue</cp:lastModifiedBy>
  <dcterms:modified xsi:type="dcterms:W3CDTF">2010-01-11T13:42:34Z</dcterms:modified>
  <cp:revision>4</cp:revision>
  <dc:subject/>
  <dc:title>Responsibilities</dc:title>
</cp:coreProperties>
</file>