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E13-098D-4446-BA09-29713CDE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3A2-2B23-49E8-9F59-C2D92119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169-7157-460E-8650-4D54CD40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AD8-8D8C-4723-AE09-5EAC9D3C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1737-11FE-46F8-8C96-B188D856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BDF-2905-4C98-A15F-A10B169A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9209-03F5-4C11-8FFC-A73B05B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3930-F5D7-4AFB-8F5B-60ED32DD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C00C-250A-4E8F-BFBB-7B16FDA4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E5B5-61DB-4996-8E24-5AF1E803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708F-D3AD-41E6-B9F1-63731A8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48E-FB12-4E54-9A12-94743ED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6AB1-B29C-483A-BE8E-C48BC2A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033C-CDFD-4F40-A23F-479EFCA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775-5D31-40C5-928A-A11F758F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E127-6B8E-419F-884A-19F1BA67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9DBF-BAA0-4548-AD13-A8254276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590-1F59-463F-A8C3-72A01D0F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931-060D-4E4F-BFF4-EF4FFBA9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044-EEE5-43C3-B5A1-F09E082E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820-D1FB-495C-8813-FF8ED32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F23-9F89-4F7B-8329-BF72610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6C9-0640-4E70-96DE-E22E9744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40B-E298-4AD9-9F26-AE09DAB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BD35-2DC3-4AB3-A22E-B5A5D2A15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9DAE-9ACF-46A3-AD26-351B3DCF9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rry out regular backups of critical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multiple connections to the Internet and other network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redund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ad balancing data – more than one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stems and Proced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write down their pass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passwords period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 STRONG pass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per / lower case, use of numbers / symbols, 8 or more characters, not dictionar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an agreement accepting corporate policy and acknowledging laws such as Data Protection Act and Computer Misu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ster Reco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fail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Internet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ed Intr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ecurity software kept up-to-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walls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s updated and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decisions should not compromise the network and vice ver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s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ssions and control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up / rest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metr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tting and control of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 and key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j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y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ware (non-malici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43:56Z</dcterms:created>
  <dc:creator>daniel.odonoghue</dc:creator>
  <dc:description/>
  <dc:language>en-US</dc:language>
  <cp:lastModifiedBy>daniel.odonoghue</cp:lastModifiedBy>
  <dcterms:modified xsi:type="dcterms:W3CDTF">2010-01-11T13:42:34Z</dcterms:modified>
  <cp:revision>4</cp:revision>
  <dc:subject/>
  <dc:title>Responsibilities</dc:title>
</cp:coreProperties>
</file>