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CDD-8C61-4F4E-A239-24BAA099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0EA-5CF8-42C8-A0FF-CE481286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92F-DB39-435A-9C7D-357900ED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B410-7A94-4FD5-9904-A8F40C52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EFFB-EE44-4281-8C16-55FB5A92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E594-6A96-4B4F-A83F-2598A45A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1C48-D800-4D96-AD59-6F13B752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EFD5-25E3-4CFB-971A-03777413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14AA-7374-41A5-9FFD-6C772C7F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633C-13F4-4A67-826E-9BE8440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5435-FF1F-4C2E-B3FE-ADEA2177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ECF-2A30-4B12-B806-FD43B528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0CD5-10E5-4B30-995D-08D86B4A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33ED-29CB-48B8-9C02-C2348B7D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EA49-990C-4311-8505-F941D8E4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7594-F7AB-4A85-AAFC-F98934AE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F3DA-6691-4A85-A1DC-DC6FCC8C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35D-8D5A-4483-9F80-6E9F1F1D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E9D-43A8-4F6B-ABA3-78EB6F08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CA1-5B8F-4A9D-B1D8-77AD20E4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F37-3AB0-48C8-A776-9EC46AF7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438-39EC-4387-BE67-2E9F145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4DFC-B981-474C-BB95-FBEA19C5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3E6-8371-4E12-B69E-C3C2AB59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1DDF-6188-4CBF-9CE9-4AF9FB411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A177-0876-4EE1-818E-52323AFD6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ponsibil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rry out regular backups of critical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multiple connections to the Internet and other network lo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redunda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ad balancing data – more than one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stems and Proced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write down their pass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passwords period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a STRONG passw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per / lower case, use of numbers / symbols, 8 or more characters, not dictionary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 an agreement accepting corporate policy and acknowledging laws such as Data Protection Act and Computer Misuse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ster Recov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thre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fail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s of Internet conn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ed Intr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ty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ecurity software kept up-to-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walls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ileges updated and checked regular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decisions should not compromise the network and vice ver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curing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isation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missions and control 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kup / rest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metr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tting and control of perso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CT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k and key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lwa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j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y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ware (non-malicio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43:56Z</dcterms:created>
  <dc:creator>daniel.odonoghue</dc:creator>
  <dc:description/>
  <dc:language>en-US</dc:language>
  <cp:lastModifiedBy>daniel.odonoghue</cp:lastModifiedBy>
  <dcterms:modified xsi:type="dcterms:W3CDTF">2010-01-11T13:42:34Z</dcterms:modified>
  <cp:revision>4</cp:revision>
  <dc:subject/>
  <dc:title>Responsibilities</dc:title>
</cp:coreProperties>
</file>