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02F-A0E8-457B-91B4-29F9F01D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734-555B-497A-A985-9AFD844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A15-FC59-4349-BAAD-F1A03C46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F1E-953C-4A16-B1E4-6176995F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33A-3E01-4AD9-8373-F4033422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6DFB-C728-4D73-9339-230E89AD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1E1-21DE-4B97-B21F-0F08897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8F6B-C370-49F0-B52C-BC82ED97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E56-775F-4955-A9A4-8E666563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9375-8061-4DA1-84E0-59137A8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D401-3377-4E31-8A85-90C0D05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2EC-D613-4A9E-90AF-7B4E7A8E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2203-705D-4B9E-81A0-E9A04AC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214-82DF-4601-A547-4E24183A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3DBF-B3C7-43E6-A117-09BA3DD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A7F-7846-47DC-A9C1-A4AA8675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320-3D85-49D7-BD2C-EDA3FDAF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C6B-D481-4C0B-A580-7D4FD14C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D33-8043-4C69-9A49-3AB86B4F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C1F-B09D-4A68-898B-7966DC41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C1B-9C5D-4975-90E9-9C3B6ED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312-21B8-4F96-9D94-6983C6C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F02-0FCF-4746-9BEF-7241CCB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95D-DD99-4331-A3BF-9FCD630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B4F-667C-49DD-8015-103D74E6E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D1A-F5C3-4EDF-9221-91B7301DF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rry out regular backups of critic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multiple connections to the Internet and other network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redund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ad balancing data – more than one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stems and Proced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write down their pass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passwords period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 STRONG pass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per / lower case, use of numbers / symbols, 8 or more characters, not dictionar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an agreement accepting corporate policy and acknowledging laws such as Data Protection Act and Computer Misu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ster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fail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Internet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ed Intr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ecurity software kept up-to-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walls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s updated and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decisions should not compromise the network and vice v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s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ssions and control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up / rest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metr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tting and control of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 and key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j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y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ware (non-malici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43:56Z</dcterms:created>
  <dc:creator>daniel.odonoghue</dc:creator>
  <dc:description/>
  <dc:language>en-US</dc:language>
  <cp:lastModifiedBy>daniel.odonoghue</cp:lastModifiedBy>
  <dcterms:modified xsi:type="dcterms:W3CDTF">2010-01-11T13:42:34Z</dcterms:modified>
  <cp:revision>4</cp:revision>
  <dc:subject/>
  <dc:title>Responsibilities</dc:title>
</cp:coreProperties>
</file>