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C919-4907-449D-82E6-C3E53CD6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86C-A21C-4561-9D94-BECEB271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D5A0-F745-4B7B-B731-E273C044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8B1-B769-4AEE-A74C-2B6B359F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F69A-7A46-42FE-A36E-4C47424C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D4E4-EFAB-457E-954A-B4EAE1B4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3F55-8215-42FE-9039-413B8D29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3318-DE7B-4901-B337-C697760C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EB3F-C233-4197-95F0-41219DEC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D7E7-6234-426A-8E40-1EE19582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236F-1B24-4B79-B971-46A22EC7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07A-4310-4075-A0C1-CEE87B10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085B-1968-408B-A988-AB638C0E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7906-7963-4313-8F76-FE73E17D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E4B2-0FE6-40D9-87A7-4F09C3C8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C7F9-DBDC-42A5-9395-02CC5B49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F918-D7CE-4828-8628-832DD809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743-541F-4F70-9258-8969D5B3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D39-E366-4409-91DC-CFED032F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67C6-A76C-4BDA-9929-EB792591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EFBE-4A3F-4062-BA00-13D1E70A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1214-86EE-4656-A552-F71C4321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142-CA2F-4AA1-8F9C-5A400D9D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69D-3CDE-4BA4-989B-88894345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A48D-39B3-4A69-B700-FADCEFE65D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2AEA-AD29-46FF-90DD-7AE7C48AF1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On Choosing a Langu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8147-7633-46A6-AD1C-DB01EC24708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further into choosing a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9E9-E947-412F-9469-8BB553A8DB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discussion into choosing a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3491-4A8D-4BA2-9441-42CAB3426D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osing a langu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a number of factors that must be considered when choosing a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ational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itability in terms of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ility of skilled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and maintenance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129-238D-4134-AA65-890B0FB9AE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ganisational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ompanies have an organisational policy as to what computers and software can be u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 they may only use Microsoft products therefore restricted to MS programming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3E8-E7A8-4824-AE76-8F04217391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itability in terms of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questions of suitability that need to be asked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latform does the program need to work on i.e. hardware /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programming environment have the necessary features to carryout the tas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AC95-C1EB-49D6-B93B-43548C1C44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ailability of skilled sta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velopers that are employed within the company may be only skilled within a particular language therefore this language maybe the natural cho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7CD-B5DC-4510-BD6E-A8CB58E2F4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rogramming languages have features that are built in to it to make programs more reliable i.e. debug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3A7-A594-4344-B061-9297676A85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velopment and maintenance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st of developing and maintaining programs is an important consideration when embarking on a software development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456-18ED-473E-9EA4-0D99C6F617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and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languages expand or scale better than others and have features which support large systems, for example, OOP – (Manages complexities by using objects) or PHP (Hypertext Pre-processor) to enable developers to create dynamic content that interacts with databases to support a very large number of u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8DB-0CBE-4585-80B0-57A3D89394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16T12:57:30Z</dcterms:modified>
  <cp:revision>38</cp:revision>
  <dc:subject/>
  <dc:title>Computer Platforms Week 1</dc:title>
</cp:coreProperties>
</file>