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7779-6E65-4377-82FE-22C652BC3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5313-DA02-4755-A818-65873910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BEA4-09D8-4C6F-99E1-55B22A8CA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803E-2383-4D36-8D50-ACEB8BDC5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C19E-D261-4C30-B312-9D9A680D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66FC-4F40-4FEF-AF0E-F348473C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674C-7C08-4BE1-B310-DBDBFC48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8520-DA03-4023-9C3A-E5EF5D8B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EE01-4B13-4D01-BF61-5F1E2E8B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F29E-3B23-429B-82C0-400F3C79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ABCB-8C72-4879-990A-C15AA010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4210-B019-48AD-B4D7-FC9CE4D5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9D28-2A16-44BE-9E47-275DFD74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E693-61A4-43D4-8696-C8B02EC0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C5BF-EC68-4878-9613-6E44497C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C5D8-F5F0-4247-B50E-B83C577F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64B0-32DB-4DAE-A2DF-5C57C10A9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15E4-E9EF-4BAF-84B8-9464C2A4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518E-8FF5-4393-AE39-34B0E399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961A-44B9-4CFD-9623-E314ECBF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9094-F5F9-45DC-93BD-9A291423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E6E7-8942-4CA2-B253-2350BD6E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033F-0029-43C3-BB1D-0D596A98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61CB-1B3C-451C-9A60-6F66956C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1199-2208-47BF-A81E-38181F1AAD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66C5-8E94-444B-8C27-33E2029D6B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rinciples of Software Design and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On Choosing a Langu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BD5A-23F6-4B3F-B522-0628A9B4180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ed further into choosing a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DB93-FEC6-4E10-8965-20511AF047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 discussion into choosing a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6913-7413-4A04-8123-E792814D6D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osing a langu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a number of factors that must be considered when choosing a langu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sational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itability in terms of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ailability of skilled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 and maintenance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and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E313-EEE1-43F4-97CD-0D46A683DB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ganisational poli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companies have an organisational policy as to what computers and software can be u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 they may only use Microsoft products therefore restricted to MS programming enviro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C32D-5034-48A4-9CA1-69F74FD153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itability in terms of fe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questions of suitability that need to be asked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platform does the program need to work on i.e. hardware /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the programming environment have the necessary features to carryout the tas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0112-A65A-490E-A534-BD4298CF55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vailability of skilled staf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velopers that are employed within the company may be only skilled within a particular language therefore this language maybe the natural cho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5375-F5DE-4055-B686-0BCB774BCE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li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programming languages have features that are built in to it to make programs more reliable i.e. debug 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FABB-6956-4699-B8F2-9E904FE1C2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velopment and maintenance 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st of developing and maintaining programs is an important consideration when embarking on a software development pro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C2D9-64F2-4DCD-87DC-2FAAC67EA9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and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languages expand or scale better than others and have features which support large systems, for example, OOP – (Manages complexities by using objects) or PHP (Hypertext Pre-processor) to enable developers to create dynamic content that interacts with databases to support a very large number of us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EBBF-25D6-4FBA-8721-FF5697611B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brendan.coulson</cp:lastModifiedBy>
  <dcterms:modified xsi:type="dcterms:W3CDTF">2008-10-16T12:57:30Z</dcterms:modified>
  <cp:revision>38</cp:revision>
  <dc:subject/>
  <dc:title>Computer Platforms Week 1</dc:title>
</cp:coreProperties>
</file>