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4A1-8E67-403C-8B73-D4ABCB96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C6D-A9AC-4593-AD83-3EAC5B69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70F-8B5E-405A-9D6E-D76BA3DD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87B-F5C8-4D78-9B81-16872DAD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EA13-E2CF-41AB-A444-B7080201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36A4-9D89-4470-8C8E-845F3AEF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577B-9AE6-4DB7-B427-AB9D90E8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A3CE-D5EF-4791-85DC-F7B5911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DECF-759D-4E58-8D90-E823C2BE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FD07-1E17-440A-8437-761ABC9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1BEA-AC56-4D3A-8D21-A883883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760-FF25-4B18-AA65-1A44C5E8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ED4D-CA80-4740-AC12-41ED1F03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D098-5115-4754-B014-4CF5490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57E2-427D-4A00-A999-266FCBFC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31E8-6896-42C4-8966-005111A5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DAFD-3236-4D2A-9090-03B3ED29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DEE-FCEE-4C94-981B-438D883F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A0D-B0E7-496C-A345-6504C5D9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77A-FF23-4565-ACF8-9B130A9C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B21-6E5A-4E10-AD1B-25A75C59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679-D836-4264-A89F-953F0FF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6AF-3656-48AF-A8E6-2F66DD8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3B3-5765-4ED5-86D8-299FEB7D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B441-4C51-4180-9375-FB9159AAAA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B902-DA68-4571-8CAD-17FADE7B6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26AB-E385-4AF2-8FFE-69D418C840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further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213-F0E6-4BED-B4F6-35ABDBC150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discussion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12C-3C54-40D5-A773-948850AC98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 number of factors that must be considered when choosing a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58F-A3E5-4EE1-86B0-5D98B55498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panies have an organisational policy as to what computers and software can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they may only use Microsoft products therefore restricted to MS programming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FE1-8367-4EDA-A77C-EA64597E7B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stions of suitability that need to be ask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latform does the program need to work on i.e. hardware /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gramming environment have the necessary features to carryout the tas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D8C-4A67-4548-82F6-0CED298762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ers that are employed within the company may be only skilled within a particular language therefore this language maybe the natural ch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445-54A6-4709-A0AB-70AF3FF763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ming languages have features that are built in to it to make programs more reliable i.e. debug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10A-3FEF-4343-AE61-87CFC573F2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developing and maintaining programs is an important consideration when embarking on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BEC-7190-4D7F-9221-FF0B3000EA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nguages expand or scale better than others and have features which support large systems, for example, OOP – (Manages complexities by using objects) or PHP (Hypertext Pre-processor) to enable developers to create dynamic content that interacts with databases to support a very large number of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5F5-9543-4F2F-96CF-4A7C89448E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16T12:57:30Z</dcterms:modified>
  <cp:revision>38</cp:revision>
  <dc:subject/>
  <dc:title>Computer Platforms Week 1</dc:title>
</cp:coreProperties>
</file>