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E812-C842-44E7-9110-DD3CF4501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1045-47BA-4104-911D-A7C6F116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55A2-F932-4B69-9021-1EA01930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830A-51FE-4992-9D65-28820FACD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85E7-B7F5-4196-921F-7D011C5F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2F38-66D0-4CEC-8766-DAC813AD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050C-39AD-4873-82CC-22AB9954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886D-ED89-47B5-9583-7FFC69B7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CCFE-AE27-4BF7-986C-74DB6551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B5F2-4463-4622-944D-4F7FA651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C14D-A4E4-42EF-8733-4B5AC763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81EA-C15B-425C-BFE6-A29073F5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6A93-6382-4525-8021-8931673C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A9DE-90B8-460E-81CE-6492D660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AAD8-58DC-4D45-9117-75726150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D2BC-73D9-48AD-AAB7-BC433B1B1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F956-3569-40B4-A382-C7A32865E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580E-0CE1-48FD-92DA-95919CEC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DA9E-2E5B-4C9A-BD03-3029F41F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C546-1977-4135-A587-C72BA1B5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DC34-3A89-4751-AD1B-0D78CE2E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59C9-A056-4274-BBCB-A72A6181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0EB2-16A9-48E8-A1C9-5203971B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31A9-EF6B-4D72-9177-83E8D09D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0B8B-1AD7-410E-B4DB-8B3D1EF259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CCB4-3C7C-452D-A09D-BB436E2C46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rinciples of Software Design and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On Choosing a Langu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417B-BB78-4872-AB62-18FF139C225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ed further into choosing a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6CAB-6459-4D08-B043-6E1BAF7BBF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 discussion into choosing a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82BD-3A95-49E9-A5DE-4A20FF5EA6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osing a langu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a number of factors that must be considered when choosing a langu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sational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itability in terms of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ailability of skilled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 and maintenance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and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F163-C302-446E-BDDE-D1CAB97B08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ganisational poli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companies have an organisational policy as to what computers and software can be u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 they may only use Microsoft products therefore restricted to MS programming enviro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8787-5391-42CA-A827-1A85103022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itability in terms of fe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questions of suitability that need to be asked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platform does the program need to work on i.e. hardware /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the programming environment have the necessary features to carryout the tas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F871-4504-478C-8938-D616AF71F7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vailability of skilled staf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velopers that are employed within the company may be only skilled within a particular language therefore this language maybe the natural cho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258C-D5AF-4C77-A386-6818B712E3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programming languages have features that are built in to it to make programs more reliable i.e. debug 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291B-B92C-4181-87D3-92132E641F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velopment and maintenance 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st of developing and maintaining programs is an important consideration when embarking on a software development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24CF-EE02-410D-8E6F-9A68B6E5D2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and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languages expand or scale better than others and have features which support large systems, for example, OOP – (Manages complexities by using objects) or PHP (Hypertext Pre-processor) to enable developers to create dynamic content that interacts with databases to support a very large number of us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9B02-5258-47D2-BDAD-88B1B222EF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brendan.coulson</cp:lastModifiedBy>
  <dcterms:modified xsi:type="dcterms:W3CDTF">2008-10-16T12:57:30Z</dcterms:modified>
  <cp:revision>38</cp:revision>
  <dc:subject/>
  <dc:title>Computer Platforms Week 1</dc:title>
</cp:coreProperties>
</file>